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514-EE8E-44D4-8E69-D6E6A210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A73-B3EB-4F05-99C3-B0EF89F5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AE1-1D18-4709-8B3C-1C658424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003-56E3-4698-B2CA-92C4E914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BBF-745C-43CB-9719-7C7C74E7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481-585D-4F59-AF8A-D6D393B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6FE-FC77-4F56-A3B0-4E66AE01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A9B-8AE9-4B21-A1D9-7FDD066A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5C6-273C-44A6-B13D-31F568DB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904-0AFA-4C1B-A28F-DD9058A7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2B1-87D0-4C8C-A6BF-D44BFA6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D0F-F6F3-4044-9395-5318E59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083E-4CDA-4C43-A38B-5E521A136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1752480"/>
                <a:ext cx="12193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¸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22320" y="394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23880" y="3886200"/>
                <a:ext cx="12193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¸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840120" y="1946160"/>
            <a:ext cx="4357800" cy="527040"/>
          </a:xfrm>
          <a:custGeom>
            <a:avLst/>
            <a:gdLst/>
            <a:ahLst/>
            <a:rect l="l" t="t" r="r" b="b"/>
            <a:pathLst>
              <a:path w="12106" h="1465">
                <a:moveTo>
                  <a:pt x="10716" y="5407"/>
                </a:moveTo>
                <a:cubicBezTo>
                  <a:pt x="10685" y="5652"/>
                  <a:pt x="10648" y="5885"/>
                  <a:pt x="10691" y="6127"/>
                </a:cubicBezTo>
              </a:path>
              <a:path w="12106" h="1465">
                <a:moveTo>
                  <a:pt x="10666" y="6300"/>
                </a:moveTo>
                <a:cubicBezTo>
                  <a:pt x="10821" y="6275"/>
                  <a:pt x="11435" y="6078"/>
                  <a:pt x="11559" y="6226"/>
                </a:cubicBezTo>
                <a:cubicBezTo>
                  <a:pt x="11559" y="6251"/>
                  <a:pt x="11559" y="6275"/>
                  <a:pt x="11559" y="6300"/>
                </a:cubicBezTo>
              </a:path>
              <a:path w="12106" h="1465">
                <a:moveTo>
                  <a:pt x="12129" y="5829"/>
                </a:moveTo>
                <a:cubicBezTo>
                  <a:pt x="12129" y="5846"/>
                  <a:pt x="12129" y="5862"/>
                  <a:pt x="12129" y="5879"/>
                </a:cubicBezTo>
              </a:path>
              <a:path w="12106" h="1465">
                <a:moveTo>
                  <a:pt x="12154" y="6548"/>
                </a:moveTo>
                <a:cubicBezTo>
                  <a:pt x="12162" y="6548"/>
                  <a:pt x="12171" y="6548"/>
                  <a:pt x="12179" y="6548"/>
                </a:cubicBezTo>
              </a:path>
              <a:path w="12106" h="1465">
                <a:moveTo>
                  <a:pt x="13097" y="6598"/>
                </a:moveTo>
                <a:cubicBezTo>
                  <a:pt x="13058" y="6670"/>
                  <a:pt x="12946" y="6846"/>
                  <a:pt x="13122" y="6846"/>
                </a:cubicBezTo>
                <a:cubicBezTo>
                  <a:pt x="13268" y="6817"/>
                  <a:pt x="13327" y="6794"/>
                  <a:pt x="13395" y="6697"/>
                </a:cubicBezTo>
              </a:path>
              <a:path w="12106" h="1465">
                <a:moveTo>
                  <a:pt x="16644" y="6325"/>
                </a:moveTo>
                <a:cubicBezTo>
                  <a:pt x="16552" y="6510"/>
                  <a:pt x="16471" y="6706"/>
                  <a:pt x="16346" y="6871"/>
                </a:cubicBezTo>
              </a:path>
              <a:path w="12106" h="1465">
                <a:moveTo>
                  <a:pt x="17289" y="5680"/>
                </a:moveTo>
                <a:cubicBezTo>
                  <a:pt x="17230" y="5937"/>
                  <a:pt x="17177" y="6193"/>
                  <a:pt x="17115" y="6449"/>
                </a:cubicBezTo>
              </a:path>
              <a:path w="12106" h="1465">
                <a:moveTo>
                  <a:pt x="18802" y="5507"/>
                </a:moveTo>
                <a:cubicBezTo>
                  <a:pt x="18742" y="5747"/>
                  <a:pt x="18688" y="5986"/>
                  <a:pt x="18628" y="6226"/>
                </a:cubicBezTo>
              </a:path>
              <a:path w="12106" h="1465">
                <a:moveTo>
                  <a:pt x="18653" y="6499"/>
                </a:moveTo>
                <a:cubicBezTo>
                  <a:pt x="18874" y="6422"/>
                  <a:pt x="19040" y="6369"/>
                  <a:pt x="19273" y="6350"/>
                </a:cubicBezTo>
              </a:path>
              <a:path w="12106" h="1465">
                <a:moveTo>
                  <a:pt x="22349" y="6499"/>
                </a:moveTo>
                <a:cubicBezTo>
                  <a:pt x="22491" y="6476"/>
                  <a:pt x="22628" y="6457"/>
                  <a:pt x="22771" y="64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3960" y="2357280"/>
            <a:ext cx="144360" cy="18756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1410" y="6548"/>
                </a:moveTo>
                <a:cubicBezTo>
                  <a:pt x="11290" y="6548"/>
                  <a:pt x="11168" y="6547"/>
                  <a:pt x="11063" y="6573"/>
                </a:cubicBezTo>
                <a:cubicBezTo>
                  <a:pt x="11027" y="6582"/>
                  <a:pt x="11017" y="6722"/>
                  <a:pt x="11013" y="6772"/>
                </a:cubicBezTo>
                <a:cubicBezTo>
                  <a:pt x="11013" y="6780"/>
                  <a:pt x="11013" y="6788"/>
                  <a:pt x="11013" y="6796"/>
                </a:cubicBezTo>
                <a:cubicBezTo>
                  <a:pt x="11182" y="6766"/>
                  <a:pt x="11245" y="6723"/>
                  <a:pt x="11410" y="6772"/>
                </a:cubicBezTo>
                <a:cubicBezTo>
                  <a:pt x="11393" y="6906"/>
                  <a:pt x="11320" y="7138"/>
                  <a:pt x="11112" y="7069"/>
                </a:cubicBezTo>
                <a:cubicBezTo>
                  <a:pt x="11079" y="7036"/>
                  <a:pt x="11046" y="7003"/>
                  <a:pt x="11013" y="69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0160" y="2268360"/>
            <a:ext cx="142920" cy="17640"/>
          </a:xfrm>
          <a:custGeom>
            <a:avLst/>
            <a:gdLst/>
            <a:ahLst/>
            <a:rect l="l" t="t" r="r" b="b"/>
            <a:pathLst>
              <a:path w="398" h="51">
                <a:moveTo>
                  <a:pt x="12055" y="6350"/>
                </a:moveTo>
                <a:cubicBezTo>
                  <a:pt x="12162" y="6350"/>
                  <a:pt x="12249" y="6312"/>
                  <a:pt x="12353" y="6300"/>
                </a:cubicBezTo>
                <a:cubicBezTo>
                  <a:pt x="12386" y="6300"/>
                  <a:pt x="12419" y="6300"/>
                  <a:pt x="12452" y="630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3840" y="2286000"/>
            <a:ext cx="33984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13395" y="6548"/>
                </a:moveTo>
                <a:cubicBezTo>
                  <a:pt x="13376" y="6654"/>
                  <a:pt x="13276" y="6949"/>
                  <a:pt x="13345" y="7045"/>
                </a:cubicBezTo>
                <a:cubicBezTo>
                  <a:pt x="13353" y="7037"/>
                  <a:pt x="13362" y="7028"/>
                  <a:pt x="13370" y="7020"/>
                </a:cubicBezTo>
              </a:path>
              <a:path w="944" h="696">
                <a:moveTo>
                  <a:pt x="13841" y="6400"/>
                </a:moveTo>
                <a:cubicBezTo>
                  <a:pt x="13971" y="6361"/>
                  <a:pt x="14077" y="6361"/>
                  <a:pt x="14213" y="6375"/>
                </a:cubicBezTo>
              </a:path>
              <a:path w="944" h="696">
                <a:moveTo>
                  <a:pt x="13866" y="6623"/>
                </a:moveTo>
                <a:cubicBezTo>
                  <a:pt x="14008" y="6604"/>
                  <a:pt x="14146" y="6561"/>
                  <a:pt x="14288" y="65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3800" y="1946160"/>
            <a:ext cx="741240" cy="617760"/>
          </a:xfrm>
          <a:custGeom>
            <a:avLst/>
            <a:gdLst/>
            <a:ahLst/>
            <a:rect l="l" t="t" r="r" b="b"/>
            <a:pathLst>
              <a:path w="2060" h="1713">
                <a:moveTo>
                  <a:pt x="15230" y="5432"/>
                </a:moveTo>
                <a:cubicBezTo>
                  <a:pt x="15230" y="5705"/>
                  <a:pt x="15250" y="5985"/>
                  <a:pt x="15205" y="6251"/>
                </a:cubicBezTo>
              </a:path>
              <a:path w="2060" h="1713">
                <a:moveTo>
                  <a:pt x="15553" y="5432"/>
                </a:moveTo>
                <a:cubicBezTo>
                  <a:pt x="15810" y="5416"/>
                  <a:pt x="15895" y="5647"/>
                  <a:pt x="15801" y="5904"/>
                </a:cubicBezTo>
                <a:cubicBezTo>
                  <a:pt x="15740" y="6070"/>
                  <a:pt x="15609" y="6102"/>
                  <a:pt x="15478" y="6102"/>
                </a:cubicBezTo>
                <a:cubicBezTo>
                  <a:pt x="15491" y="5928"/>
                  <a:pt x="15646" y="5936"/>
                  <a:pt x="15825" y="6028"/>
                </a:cubicBezTo>
                <a:cubicBezTo>
                  <a:pt x="15842" y="6044"/>
                  <a:pt x="15858" y="6061"/>
                  <a:pt x="15875" y="6077"/>
                </a:cubicBezTo>
              </a:path>
              <a:path w="2060" h="1713">
                <a:moveTo>
                  <a:pt x="15255" y="6300"/>
                </a:moveTo>
                <a:cubicBezTo>
                  <a:pt x="15448" y="6282"/>
                  <a:pt x="15726" y="6201"/>
                  <a:pt x="15900" y="6276"/>
                </a:cubicBezTo>
              </a:path>
              <a:path w="2060" h="1713">
                <a:moveTo>
                  <a:pt x="15652" y="6524"/>
                </a:moveTo>
                <a:cubicBezTo>
                  <a:pt x="15590" y="6539"/>
                  <a:pt x="15412" y="6547"/>
                  <a:pt x="15404" y="6623"/>
                </a:cubicBezTo>
                <a:cubicBezTo>
                  <a:pt x="15397" y="6691"/>
                  <a:pt x="15402" y="6742"/>
                  <a:pt x="15429" y="6796"/>
                </a:cubicBezTo>
                <a:cubicBezTo>
                  <a:pt x="15516" y="6796"/>
                  <a:pt x="15593" y="6748"/>
                  <a:pt x="15677" y="6796"/>
                </a:cubicBezTo>
                <a:cubicBezTo>
                  <a:pt x="15902" y="6924"/>
                  <a:pt x="15635" y="7091"/>
                  <a:pt x="15503" y="7119"/>
                </a:cubicBezTo>
                <a:cubicBezTo>
                  <a:pt x="15383" y="7119"/>
                  <a:pt x="15344" y="7123"/>
                  <a:pt x="15329" y="7020"/>
                </a:cubicBezTo>
              </a:path>
              <a:path w="2060" h="1713">
                <a:moveTo>
                  <a:pt x="16396" y="6375"/>
                </a:moveTo>
                <a:cubicBezTo>
                  <a:pt x="16474" y="6507"/>
                  <a:pt x="16537" y="6638"/>
                  <a:pt x="16594" y="6772"/>
                </a:cubicBezTo>
                <a:cubicBezTo>
                  <a:pt x="16594" y="6764"/>
                  <a:pt x="16594" y="6755"/>
                  <a:pt x="16594" y="6747"/>
                </a:cubicBezTo>
              </a:path>
              <a:path w="2060" h="1713">
                <a:moveTo>
                  <a:pt x="17041" y="5829"/>
                </a:moveTo>
                <a:cubicBezTo>
                  <a:pt x="17020" y="5913"/>
                  <a:pt x="17000" y="5992"/>
                  <a:pt x="16991" y="6077"/>
                </a:cubicBezTo>
                <a:cubicBezTo>
                  <a:pt x="17133" y="6105"/>
                  <a:pt x="17133" y="6067"/>
                  <a:pt x="17264" y="59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61080" y="1938240"/>
            <a:ext cx="285840" cy="241560"/>
          </a:xfrm>
          <a:custGeom>
            <a:avLst/>
            <a:gdLst/>
            <a:ahLst/>
            <a:rect l="l" t="t" r="r" b="b"/>
            <a:pathLst>
              <a:path w="795" h="670">
                <a:moveTo>
                  <a:pt x="18529" y="5581"/>
                </a:moveTo>
                <a:cubicBezTo>
                  <a:pt x="18520" y="5646"/>
                  <a:pt x="18448" y="5794"/>
                  <a:pt x="18579" y="5804"/>
                </a:cubicBezTo>
                <a:cubicBezTo>
                  <a:pt x="18736" y="5778"/>
                  <a:pt x="18791" y="5764"/>
                  <a:pt x="18852" y="5655"/>
                </a:cubicBezTo>
              </a:path>
              <a:path w="795" h="670">
                <a:moveTo>
                  <a:pt x="19224" y="5383"/>
                </a:moveTo>
                <a:cubicBezTo>
                  <a:pt x="19145" y="5428"/>
                  <a:pt x="18995" y="5555"/>
                  <a:pt x="19050" y="5680"/>
                </a:cubicBezTo>
                <a:cubicBezTo>
                  <a:pt x="19145" y="5896"/>
                  <a:pt x="19349" y="5853"/>
                  <a:pt x="19149" y="6052"/>
                </a:cubicBezTo>
                <a:cubicBezTo>
                  <a:pt x="18946" y="5850"/>
                  <a:pt x="19128" y="5706"/>
                  <a:pt x="19273" y="5482"/>
                </a:cubicBezTo>
                <a:cubicBezTo>
                  <a:pt x="19281" y="5465"/>
                  <a:pt x="19290" y="5449"/>
                  <a:pt x="19298" y="54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32800" y="1866960"/>
            <a:ext cx="428400" cy="633240"/>
          </a:xfrm>
          <a:custGeom>
            <a:avLst/>
            <a:gdLst/>
            <a:ahLst/>
            <a:rect l="l" t="t" r="r" b="b"/>
            <a:pathLst>
              <a:path w="1191" h="1762">
                <a:moveTo>
                  <a:pt x="21679" y="5358"/>
                </a:moveTo>
                <a:cubicBezTo>
                  <a:pt x="21779" y="5298"/>
                  <a:pt x="21859" y="5408"/>
                  <a:pt x="21828" y="5531"/>
                </a:cubicBezTo>
                <a:cubicBezTo>
                  <a:pt x="21780" y="5725"/>
                  <a:pt x="21622" y="5953"/>
                  <a:pt x="21481" y="5829"/>
                </a:cubicBezTo>
                <a:cubicBezTo>
                  <a:pt x="21585" y="5681"/>
                  <a:pt x="21664" y="5743"/>
                  <a:pt x="21828" y="5804"/>
                </a:cubicBezTo>
                <a:cubicBezTo>
                  <a:pt x="21853" y="5812"/>
                  <a:pt x="21878" y="5821"/>
                  <a:pt x="21903" y="5829"/>
                </a:cubicBezTo>
              </a:path>
              <a:path w="1191" h="1762">
                <a:moveTo>
                  <a:pt x="22051" y="5209"/>
                </a:moveTo>
                <a:cubicBezTo>
                  <a:pt x="22085" y="5202"/>
                  <a:pt x="22397" y="5166"/>
                  <a:pt x="22349" y="5234"/>
                </a:cubicBezTo>
                <a:cubicBezTo>
                  <a:pt x="22288" y="5320"/>
                  <a:pt x="22185" y="5347"/>
                  <a:pt x="22175" y="5383"/>
                </a:cubicBezTo>
                <a:cubicBezTo>
                  <a:pt x="22280" y="5343"/>
                  <a:pt x="22301" y="5366"/>
                  <a:pt x="22399" y="5407"/>
                </a:cubicBezTo>
                <a:cubicBezTo>
                  <a:pt x="22307" y="5545"/>
                  <a:pt x="22195" y="5597"/>
                  <a:pt x="22027" y="5631"/>
                </a:cubicBezTo>
              </a:path>
              <a:path w="1191" h="1762">
                <a:moveTo>
                  <a:pt x="21481" y="6152"/>
                </a:moveTo>
                <a:cubicBezTo>
                  <a:pt x="21853" y="6095"/>
                  <a:pt x="22222" y="6033"/>
                  <a:pt x="22597" y="6003"/>
                </a:cubicBezTo>
                <a:cubicBezTo>
                  <a:pt x="22622" y="6003"/>
                  <a:pt x="22646" y="6003"/>
                  <a:pt x="22671" y="6003"/>
                </a:cubicBezTo>
              </a:path>
              <a:path w="1191" h="1762">
                <a:moveTo>
                  <a:pt x="21654" y="6524"/>
                </a:moveTo>
                <a:cubicBezTo>
                  <a:pt x="21736" y="6504"/>
                  <a:pt x="21785" y="6503"/>
                  <a:pt x="21878" y="6524"/>
                </a:cubicBezTo>
                <a:cubicBezTo>
                  <a:pt x="21933" y="6734"/>
                  <a:pt x="21836" y="6862"/>
                  <a:pt x="21605" y="6921"/>
                </a:cubicBezTo>
                <a:cubicBezTo>
                  <a:pt x="21572" y="6921"/>
                  <a:pt x="21539" y="6921"/>
                  <a:pt x="21506" y="6921"/>
                </a:cubicBezTo>
                <a:cubicBezTo>
                  <a:pt x="21587" y="6770"/>
                  <a:pt x="21689" y="6758"/>
                  <a:pt x="21853" y="6846"/>
                </a:cubicBezTo>
                <a:cubicBezTo>
                  <a:pt x="21898" y="6891"/>
                  <a:pt x="21915" y="6900"/>
                  <a:pt x="21903" y="6945"/>
                </a:cubicBezTo>
              </a:path>
              <a:path w="1191" h="1762">
                <a:moveTo>
                  <a:pt x="22250" y="6499"/>
                </a:moveTo>
                <a:cubicBezTo>
                  <a:pt x="22166" y="6603"/>
                  <a:pt x="22194" y="6612"/>
                  <a:pt x="22299" y="6697"/>
                </a:cubicBezTo>
                <a:cubicBezTo>
                  <a:pt x="22443" y="6814"/>
                  <a:pt x="22505" y="6862"/>
                  <a:pt x="22324" y="69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0960" y="1901880"/>
            <a:ext cx="162000" cy="268200"/>
          </a:xfrm>
          <a:custGeom>
            <a:avLst/>
            <a:gdLst/>
            <a:ahLst/>
            <a:rect l="l" t="t" r="r" b="b"/>
            <a:pathLst>
              <a:path w="447" h="746">
                <a:moveTo>
                  <a:pt x="11162" y="5283"/>
                </a:moveTo>
                <a:cubicBezTo>
                  <a:pt x="11394" y="5365"/>
                  <a:pt x="11534" y="5481"/>
                  <a:pt x="11410" y="5755"/>
                </a:cubicBezTo>
                <a:cubicBezTo>
                  <a:pt x="11332" y="5927"/>
                  <a:pt x="11210" y="5932"/>
                  <a:pt x="11088" y="5829"/>
                </a:cubicBezTo>
                <a:cubicBezTo>
                  <a:pt x="11228" y="5768"/>
                  <a:pt x="11405" y="5742"/>
                  <a:pt x="11509" y="5904"/>
                </a:cubicBezTo>
                <a:cubicBezTo>
                  <a:pt x="11529" y="5981"/>
                  <a:pt x="11553" y="5999"/>
                  <a:pt x="11509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53000" y="1955880"/>
            <a:ext cx="214200" cy="312480"/>
          </a:xfrm>
          <a:custGeom>
            <a:avLst/>
            <a:gdLst/>
            <a:ahLst/>
            <a:rect l="l" t="t" r="r" b="b"/>
            <a:pathLst>
              <a:path w="597" h="869">
                <a:moveTo>
                  <a:pt x="13320" y="5432"/>
                </a:moveTo>
                <a:cubicBezTo>
                  <a:pt x="13230" y="5432"/>
                  <a:pt x="13156" y="5439"/>
                  <a:pt x="13072" y="5457"/>
                </a:cubicBezTo>
                <a:cubicBezTo>
                  <a:pt x="12992" y="5474"/>
                  <a:pt x="13001" y="5705"/>
                  <a:pt x="12998" y="5779"/>
                </a:cubicBezTo>
                <a:cubicBezTo>
                  <a:pt x="12998" y="5787"/>
                  <a:pt x="12998" y="5796"/>
                  <a:pt x="12998" y="5804"/>
                </a:cubicBezTo>
                <a:cubicBezTo>
                  <a:pt x="13116" y="5795"/>
                  <a:pt x="13314" y="5707"/>
                  <a:pt x="13370" y="5854"/>
                </a:cubicBezTo>
                <a:cubicBezTo>
                  <a:pt x="13447" y="6055"/>
                  <a:pt x="13189" y="6090"/>
                  <a:pt x="13072" y="6102"/>
                </a:cubicBezTo>
              </a:path>
              <a:path w="597" h="869">
                <a:moveTo>
                  <a:pt x="12923" y="6300"/>
                </a:moveTo>
                <a:cubicBezTo>
                  <a:pt x="13131" y="6277"/>
                  <a:pt x="13313" y="6261"/>
                  <a:pt x="13519" y="62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2760" y="2330280"/>
            <a:ext cx="223920" cy="26856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6842" y="6573"/>
                </a:moveTo>
                <a:cubicBezTo>
                  <a:pt x="17047" y="6502"/>
                  <a:pt x="17244" y="6483"/>
                  <a:pt x="17462" y="6474"/>
                </a:cubicBezTo>
              </a:path>
              <a:path w="621" h="745">
                <a:moveTo>
                  <a:pt x="17363" y="6722"/>
                </a:moveTo>
                <a:cubicBezTo>
                  <a:pt x="17293" y="6732"/>
                  <a:pt x="17211" y="6789"/>
                  <a:pt x="17165" y="6846"/>
                </a:cubicBezTo>
                <a:cubicBezTo>
                  <a:pt x="17091" y="6938"/>
                  <a:pt x="17290" y="6958"/>
                  <a:pt x="17314" y="6970"/>
                </a:cubicBezTo>
                <a:cubicBezTo>
                  <a:pt x="17379" y="7014"/>
                  <a:pt x="17398" y="7020"/>
                  <a:pt x="17413" y="7069"/>
                </a:cubicBezTo>
                <a:cubicBezTo>
                  <a:pt x="17291" y="7232"/>
                  <a:pt x="17257" y="7236"/>
                  <a:pt x="17066" y="71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1080" y="2411280"/>
            <a:ext cx="295200" cy="152640"/>
          </a:xfrm>
          <a:custGeom>
            <a:avLst/>
            <a:gdLst/>
            <a:ahLst/>
            <a:rect l="l" t="t" r="r" b="b"/>
            <a:pathLst>
              <a:path w="820" h="423">
                <a:moveTo>
                  <a:pt x="18604" y="6722"/>
                </a:moveTo>
                <a:cubicBezTo>
                  <a:pt x="18747" y="6698"/>
                  <a:pt x="18791" y="6688"/>
                  <a:pt x="18876" y="6747"/>
                </a:cubicBezTo>
                <a:cubicBezTo>
                  <a:pt x="18877" y="7001"/>
                  <a:pt x="18806" y="7033"/>
                  <a:pt x="18554" y="7069"/>
                </a:cubicBezTo>
                <a:cubicBezTo>
                  <a:pt x="18473" y="6910"/>
                  <a:pt x="18739" y="6907"/>
                  <a:pt x="18852" y="6995"/>
                </a:cubicBezTo>
                <a:cubicBezTo>
                  <a:pt x="18888" y="7068"/>
                  <a:pt x="18905" y="7073"/>
                  <a:pt x="18901" y="7119"/>
                </a:cubicBezTo>
              </a:path>
              <a:path w="820" h="423">
                <a:moveTo>
                  <a:pt x="19100" y="6722"/>
                </a:moveTo>
                <a:cubicBezTo>
                  <a:pt x="19024" y="6797"/>
                  <a:pt x="19180" y="6879"/>
                  <a:pt x="19248" y="6945"/>
                </a:cubicBezTo>
                <a:cubicBezTo>
                  <a:pt x="19432" y="7123"/>
                  <a:pt x="19128" y="7078"/>
                  <a:pt x="19025" y="70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38960" y="2116080"/>
            <a:ext cx="1098360" cy="357120"/>
          </a:xfrm>
          <a:custGeom>
            <a:avLst/>
            <a:gdLst/>
            <a:ahLst/>
            <a:rect l="l" t="t" r="r" b="b"/>
            <a:pathLst>
              <a:path w="3052" h="993">
                <a:moveTo>
                  <a:pt x="18008" y="6548"/>
                </a:moveTo>
                <a:cubicBezTo>
                  <a:pt x="18098" y="6526"/>
                  <a:pt x="18122" y="6518"/>
                  <a:pt x="18182" y="6524"/>
                </a:cubicBezTo>
              </a:path>
              <a:path w="3052" h="993">
                <a:moveTo>
                  <a:pt x="17884" y="6697"/>
                </a:moveTo>
                <a:cubicBezTo>
                  <a:pt x="18043" y="6670"/>
                  <a:pt x="18102" y="6659"/>
                  <a:pt x="18207" y="6623"/>
                </a:cubicBezTo>
              </a:path>
              <a:path w="3052" h="993">
                <a:moveTo>
                  <a:pt x="18207" y="6623"/>
                </a:moveTo>
                <a:lnTo>
                  <a:pt x="18207" y="6623"/>
                </a:lnTo>
              </a:path>
              <a:path w="3052" h="993">
                <a:moveTo>
                  <a:pt x="19248" y="6623"/>
                </a:moveTo>
                <a:cubicBezTo>
                  <a:pt x="19390" y="6594"/>
                  <a:pt x="19449" y="6581"/>
                  <a:pt x="19546" y="6548"/>
                </a:cubicBezTo>
              </a:path>
              <a:path w="3052" h="993">
                <a:moveTo>
                  <a:pt x="19546" y="6548"/>
                </a:moveTo>
                <a:lnTo>
                  <a:pt x="19546" y="6548"/>
                </a:lnTo>
              </a:path>
              <a:path w="3052" h="993">
                <a:moveTo>
                  <a:pt x="20117" y="6474"/>
                </a:moveTo>
                <a:cubicBezTo>
                  <a:pt x="20217" y="6434"/>
                  <a:pt x="20235" y="6405"/>
                  <a:pt x="20290" y="6449"/>
                </a:cubicBezTo>
              </a:path>
              <a:path w="3052" h="993">
                <a:moveTo>
                  <a:pt x="20042" y="6648"/>
                </a:moveTo>
                <a:cubicBezTo>
                  <a:pt x="20208" y="6624"/>
                  <a:pt x="20258" y="6617"/>
                  <a:pt x="20365" y="6598"/>
                </a:cubicBezTo>
              </a:path>
              <a:path w="3052" h="993">
                <a:moveTo>
                  <a:pt x="20365" y="6598"/>
                </a:moveTo>
                <a:lnTo>
                  <a:pt x="20365" y="6598"/>
                </a:lnTo>
              </a:path>
              <a:path w="3052" h="993">
                <a:moveTo>
                  <a:pt x="20935" y="5879"/>
                </a:moveTo>
                <a:cubicBezTo>
                  <a:pt x="20885" y="6194"/>
                  <a:pt x="20871" y="6511"/>
                  <a:pt x="20786" y="6821"/>
                </a:cubicBezTo>
                <a:cubicBezTo>
                  <a:pt x="20778" y="6838"/>
                  <a:pt x="20770" y="6854"/>
                  <a:pt x="20762" y="68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47960" y="2813040"/>
            <a:ext cx="3098880" cy="608040"/>
          </a:xfrm>
          <a:custGeom>
            <a:avLst/>
            <a:gdLst/>
            <a:ahLst/>
            <a:rect l="l" t="t" r="r" b="b"/>
            <a:pathLst>
              <a:path w="8608" h="1688">
                <a:moveTo>
                  <a:pt x="16396" y="7813"/>
                </a:moveTo>
                <a:cubicBezTo>
                  <a:pt x="16452" y="8035"/>
                  <a:pt x="16520" y="8234"/>
                  <a:pt x="16495" y="8458"/>
                </a:cubicBezTo>
              </a:path>
              <a:path w="8608" h="1688">
                <a:moveTo>
                  <a:pt x="7913" y="9500"/>
                </a:moveTo>
                <a:cubicBezTo>
                  <a:pt x="8186" y="9464"/>
                  <a:pt x="8456" y="9414"/>
                  <a:pt x="8731" y="9401"/>
                </a:cubicBezTo>
              </a:path>
              <a:path w="8608" h="1688">
                <a:moveTo>
                  <a:pt x="9847" y="9004"/>
                </a:moveTo>
                <a:cubicBezTo>
                  <a:pt x="9864" y="9004"/>
                  <a:pt x="9880" y="9004"/>
                  <a:pt x="9897" y="9004"/>
                </a:cubicBezTo>
              </a:path>
              <a:path w="8608" h="1688">
                <a:moveTo>
                  <a:pt x="9897" y="9004"/>
                </a:moveTo>
                <a:lnTo>
                  <a:pt x="9897" y="9004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0760" y="2697120"/>
            <a:ext cx="768240" cy="633600"/>
          </a:xfrm>
          <a:custGeom>
            <a:avLst/>
            <a:gdLst/>
            <a:ahLst/>
            <a:rect l="l" t="t" r="r" b="b"/>
            <a:pathLst>
              <a:path w="2134" h="1762">
                <a:moveTo>
                  <a:pt x="7441" y="7491"/>
                </a:moveTo>
                <a:cubicBezTo>
                  <a:pt x="7417" y="7712"/>
                  <a:pt x="7400" y="7938"/>
                  <a:pt x="7392" y="8161"/>
                </a:cubicBezTo>
                <a:cubicBezTo>
                  <a:pt x="7392" y="8343"/>
                  <a:pt x="7392" y="8376"/>
                  <a:pt x="7392" y="8483"/>
                </a:cubicBezTo>
                <a:cubicBezTo>
                  <a:pt x="7392" y="8530"/>
                  <a:pt x="7416" y="8283"/>
                  <a:pt x="7441" y="8235"/>
                </a:cubicBezTo>
                <a:cubicBezTo>
                  <a:pt x="7501" y="8121"/>
                  <a:pt x="7586" y="8074"/>
                  <a:pt x="7689" y="8012"/>
                </a:cubicBezTo>
                <a:cubicBezTo>
                  <a:pt x="7807" y="8130"/>
                  <a:pt x="7866" y="8276"/>
                  <a:pt x="7838" y="8458"/>
                </a:cubicBezTo>
                <a:cubicBezTo>
                  <a:pt x="7813" y="8483"/>
                  <a:pt x="7805" y="8491"/>
                  <a:pt x="7838" y="8458"/>
                </a:cubicBezTo>
              </a:path>
              <a:path w="2134" h="1762">
                <a:moveTo>
                  <a:pt x="8334" y="8111"/>
                </a:moveTo>
                <a:cubicBezTo>
                  <a:pt x="8292" y="7964"/>
                  <a:pt x="8101" y="8038"/>
                  <a:pt x="8012" y="8136"/>
                </a:cubicBezTo>
                <a:cubicBezTo>
                  <a:pt x="7848" y="8316"/>
                  <a:pt x="7957" y="8621"/>
                  <a:pt x="8210" y="8458"/>
                </a:cubicBezTo>
                <a:cubicBezTo>
                  <a:pt x="8314" y="8334"/>
                  <a:pt x="8355" y="8315"/>
                  <a:pt x="8334" y="8210"/>
                </a:cubicBezTo>
                <a:cubicBezTo>
                  <a:pt x="8361" y="8401"/>
                  <a:pt x="8431" y="8470"/>
                  <a:pt x="8607" y="8458"/>
                </a:cubicBezTo>
              </a:path>
              <a:path w="2134" h="1762">
                <a:moveTo>
                  <a:pt x="8682" y="8111"/>
                </a:moveTo>
                <a:cubicBezTo>
                  <a:pt x="8720" y="8241"/>
                  <a:pt x="8760" y="8368"/>
                  <a:pt x="8830" y="8483"/>
                </a:cubicBezTo>
                <a:cubicBezTo>
                  <a:pt x="8863" y="8336"/>
                  <a:pt x="8912" y="8196"/>
                  <a:pt x="8979" y="8062"/>
                </a:cubicBezTo>
              </a:path>
              <a:path w="2134" h="1762">
                <a:moveTo>
                  <a:pt x="9079" y="8210"/>
                </a:moveTo>
                <a:cubicBezTo>
                  <a:pt x="9182" y="8210"/>
                  <a:pt x="9276" y="8201"/>
                  <a:pt x="9376" y="8186"/>
                </a:cubicBezTo>
                <a:cubicBezTo>
                  <a:pt x="9384" y="8186"/>
                  <a:pt x="9393" y="8186"/>
                  <a:pt x="9401" y="8186"/>
                </a:cubicBezTo>
                <a:cubicBezTo>
                  <a:pt x="9366" y="8115"/>
                  <a:pt x="9235" y="7975"/>
                  <a:pt x="9128" y="8037"/>
                </a:cubicBezTo>
                <a:cubicBezTo>
                  <a:pt x="8929" y="8153"/>
                  <a:pt x="9022" y="8492"/>
                  <a:pt x="9227" y="8533"/>
                </a:cubicBezTo>
                <a:cubicBezTo>
                  <a:pt x="9385" y="8506"/>
                  <a:pt x="9443" y="8493"/>
                  <a:pt x="9525" y="8409"/>
                </a:cubicBezTo>
              </a:path>
              <a:path w="2134" h="1762">
                <a:moveTo>
                  <a:pt x="7789" y="9203"/>
                </a:moveTo>
                <a:cubicBezTo>
                  <a:pt x="8020" y="9174"/>
                  <a:pt x="8249" y="9178"/>
                  <a:pt x="8483" y="9178"/>
                </a:cubicBezTo>
                <a:cubicBezTo>
                  <a:pt x="8616" y="9178"/>
                  <a:pt x="8671" y="9150"/>
                  <a:pt x="8582" y="92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79920" y="2803680"/>
            <a:ext cx="1293840" cy="285480"/>
          </a:xfrm>
          <a:custGeom>
            <a:avLst/>
            <a:gdLst/>
            <a:ahLst/>
            <a:rect l="l" t="t" r="r" b="b"/>
            <a:pathLst>
              <a:path w="3597" h="794">
                <a:moveTo>
                  <a:pt x="10244" y="8136"/>
                </a:moveTo>
                <a:cubicBezTo>
                  <a:pt x="10227" y="8277"/>
                  <a:pt x="10300" y="8639"/>
                  <a:pt x="10244" y="8508"/>
                </a:cubicBezTo>
                <a:cubicBezTo>
                  <a:pt x="10236" y="8491"/>
                  <a:pt x="10228" y="8475"/>
                  <a:pt x="10220" y="8458"/>
                </a:cubicBezTo>
                <a:cubicBezTo>
                  <a:pt x="10228" y="8244"/>
                  <a:pt x="10213" y="8212"/>
                  <a:pt x="10344" y="8062"/>
                </a:cubicBezTo>
                <a:cubicBezTo>
                  <a:pt x="10581" y="8109"/>
                  <a:pt x="10650" y="8203"/>
                  <a:pt x="10691" y="8458"/>
                </a:cubicBezTo>
                <a:cubicBezTo>
                  <a:pt x="10691" y="8483"/>
                  <a:pt x="10691" y="8508"/>
                  <a:pt x="10691" y="8533"/>
                </a:cubicBezTo>
              </a:path>
              <a:path w="3597" h="794">
                <a:moveTo>
                  <a:pt x="10840" y="8111"/>
                </a:moveTo>
                <a:cubicBezTo>
                  <a:pt x="10824" y="8308"/>
                  <a:pt x="10786" y="8478"/>
                  <a:pt x="10964" y="8558"/>
                </a:cubicBezTo>
                <a:cubicBezTo>
                  <a:pt x="11093" y="8445"/>
                  <a:pt x="11139" y="8370"/>
                  <a:pt x="11162" y="8186"/>
                </a:cubicBezTo>
                <a:cubicBezTo>
                  <a:pt x="11172" y="8303"/>
                  <a:pt x="11176" y="8523"/>
                  <a:pt x="11311" y="8582"/>
                </a:cubicBezTo>
                <a:cubicBezTo>
                  <a:pt x="11378" y="8550"/>
                  <a:pt x="11403" y="8525"/>
                  <a:pt x="11410" y="8458"/>
                </a:cubicBezTo>
              </a:path>
              <a:path w="3597" h="794">
                <a:moveTo>
                  <a:pt x="11435" y="8235"/>
                </a:moveTo>
                <a:cubicBezTo>
                  <a:pt x="11443" y="8348"/>
                  <a:pt x="11448" y="8486"/>
                  <a:pt x="11485" y="8582"/>
                </a:cubicBezTo>
                <a:cubicBezTo>
                  <a:pt x="11456" y="8506"/>
                  <a:pt x="11434" y="8274"/>
                  <a:pt x="11534" y="8210"/>
                </a:cubicBezTo>
                <a:cubicBezTo>
                  <a:pt x="11672" y="8123"/>
                  <a:pt x="11803" y="8417"/>
                  <a:pt x="11807" y="8508"/>
                </a:cubicBezTo>
                <a:cubicBezTo>
                  <a:pt x="11784" y="8531"/>
                  <a:pt x="11776" y="8542"/>
                  <a:pt x="11782" y="8508"/>
                </a:cubicBezTo>
                <a:cubicBezTo>
                  <a:pt x="11794" y="8367"/>
                  <a:pt x="11782" y="8330"/>
                  <a:pt x="11857" y="8210"/>
                </a:cubicBezTo>
                <a:cubicBezTo>
                  <a:pt x="11979" y="8314"/>
                  <a:pt x="11919" y="8472"/>
                  <a:pt x="12005" y="8558"/>
                </a:cubicBezTo>
                <a:cubicBezTo>
                  <a:pt x="12005" y="8541"/>
                  <a:pt x="12005" y="8525"/>
                  <a:pt x="12005" y="8508"/>
                </a:cubicBezTo>
              </a:path>
              <a:path w="3597" h="794">
                <a:moveTo>
                  <a:pt x="12105" y="7789"/>
                </a:moveTo>
                <a:cubicBezTo>
                  <a:pt x="12141" y="8018"/>
                  <a:pt x="12184" y="8237"/>
                  <a:pt x="12254" y="8458"/>
                </a:cubicBezTo>
                <a:cubicBezTo>
                  <a:pt x="12297" y="8266"/>
                  <a:pt x="12315" y="8215"/>
                  <a:pt x="12477" y="8161"/>
                </a:cubicBezTo>
                <a:cubicBezTo>
                  <a:pt x="12554" y="8299"/>
                  <a:pt x="12667" y="8526"/>
                  <a:pt x="12402" y="8558"/>
                </a:cubicBezTo>
                <a:cubicBezTo>
                  <a:pt x="12286" y="8535"/>
                  <a:pt x="12247" y="8534"/>
                  <a:pt x="12254" y="8434"/>
                </a:cubicBezTo>
              </a:path>
              <a:path w="3597" h="794">
                <a:moveTo>
                  <a:pt x="12626" y="8334"/>
                </a:moveTo>
                <a:cubicBezTo>
                  <a:pt x="12711" y="8326"/>
                  <a:pt x="12790" y="8306"/>
                  <a:pt x="12874" y="8285"/>
                </a:cubicBezTo>
                <a:cubicBezTo>
                  <a:pt x="12829" y="8196"/>
                  <a:pt x="12683" y="8217"/>
                  <a:pt x="12626" y="8310"/>
                </a:cubicBezTo>
                <a:cubicBezTo>
                  <a:pt x="12518" y="8485"/>
                  <a:pt x="12793" y="8636"/>
                  <a:pt x="12923" y="8533"/>
                </a:cubicBezTo>
                <a:cubicBezTo>
                  <a:pt x="12966" y="8499"/>
                  <a:pt x="13039" y="8267"/>
                  <a:pt x="13047" y="8310"/>
                </a:cubicBezTo>
                <a:cubicBezTo>
                  <a:pt x="13069" y="8418"/>
                  <a:pt x="13072" y="8444"/>
                  <a:pt x="13097" y="8508"/>
                </a:cubicBezTo>
                <a:cubicBezTo>
                  <a:pt x="13113" y="8363"/>
                  <a:pt x="13110" y="8213"/>
                  <a:pt x="13271" y="8161"/>
                </a:cubicBezTo>
                <a:cubicBezTo>
                  <a:pt x="13379" y="8161"/>
                  <a:pt x="13421" y="8163"/>
                  <a:pt x="13494" y="8186"/>
                </a:cubicBezTo>
              </a:path>
              <a:path w="3597" h="794">
                <a:moveTo>
                  <a:pt x="13667" y="8186"/>
                </a:moveTo>
                <a:cubicBezTo>
                  <a:pt x="13571" y="8186"/>
                  <a:pt x="13541" y="8184"/>
                  <a:pt x="13494" y="8235"/>
                </a:cubicBezTo>
                <a:cubicBezTo>
                  <a:pt x="13440" y="8343"/>
                  <a:pt x="13696" y="8354"/>
                  <a:pt x="13767" y="8409"/>
                </a:cubicBezTo>
                <a:cubicBezTo>
                  <a:pt x="13783" y="8434"/>
                  <a:pt x="13800" y="8458"/>
                  <a:pt x="13816" y="8483"/>
                </a:cubicBezTo>
                <a:cubicBezTo>
                  <a:pt x="13681" y="8588"/>
                  <a:pt x="13615" y="8593"/>
                  <a:pt x="13444" y="85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14960" y="2813040"/>
            <a:ext cx="884160" cy="250920"/>
          </a:xfrm>
          <a:custGeom>
            <a:avLst/>
            <a:gdLst/>
            <a:ahLst/>
            <a:rect l="l" t="t" r="r" b="b"/>
            <a:pathLst>
              <a:path w="2457" h="696">
                <a:moveTo>
                  <a:pt x="14784" y="7838"/>
                </a:moveTo>
                <a:cubicBezTo>
                  <a:pt x="14784" y="7795"/>
                  <a:pt x="14880" y="8196"/>
                  <a:pt x="14883" y="8210"/>
                </a:cubicBezTo>
                <a:cubicBezTo>
                  <a:pt x="14906" y="8327"/>
                  <a:pt x="14937" y="8399"/>
                  <a:pt x="14858" y="8458"/>
                </a:cubicBezTo>
              </a:path>
              <a:path w="2457" h="696">
                <a:moveTo>
                  <a:pt x="14486" y="8161"/>
                </a:moveTo>
                <a:cubicBezTo>
                  <a:pt x="14633" y="8185"/>
                  <a:pt x="15021" y="8299"/>
                  <a:pt x="15131" y="8136"/>
                </a:cubicBezTo>
                <a:cubicBezTo>
                  <a:pt x="15204" y="8028"/>
                  <a:pt x="15125" y="7915"/>
                  <a:pt x="15106" y="7813"/>
                </a:cubicBezTo>
                <a:cubicBezTo>
                  <a:pt x="15124" y="8013"/>
                  <a:pt x="15168" y="8208"/>
                  <a:pt x="15180" y="8409"/>
                </a:cubicBezTo>
                <a:cubicBezTo>
                  <a:pt x="15180" y="8417"/>
                  <a:pt x="15180" y="8426"/>
                  <a:pt x="15180" y="8434"/>
                </a:cubicBezTo>
                <a:cubicBezTo>
                  <a:pt x="15216" y="8299"/>
                  <a:pt x="15200" y="8114"/>
                  <a:pt x="15404" y="8161"/>
                </a:cubicBezTo>
                <a:cubicBezTo>
                  <a:pt x="15592" y="8204"/>
                  <a:pt x="15574" y="8384"/>
                  <a:pt x="15627" y="8508"/>
                </a:cubicBezTo>
              </a:path>
              <a:path w="2457" h="696">
                <a:moveTo>
                  <a:pt x="16024" y="8285"/>
                </a:moveTo>
                <a:cubicBezTo>
                  <a:pt x="15995" y="8142"/>
                  <a:pt x="15848" y="8146"/>
                  <a:pt x="15726" y="8260"/>
                </a:cubicBezTo>
                <a:cubicBezTo>
                  <a:pt x="15640" y="8390"/>
                  <a:pt x="15596" y="8420"/>
                  <a:pt x="15677" y="8508"/>
                </a:cubicBezTo>
                <a:cubicBezTo>
                  <a:pt x="15891" y="8471"/>
                  <a:pt x="15888" y="8475"/>
                  <a:pt x="15999" y="8285"/>
                </a:cubicBezTo>
                <a:cubicBezTo>
                  <a:pt x="16010" y="8291"/>
                  <a:pt x="16092" y="8458"/>
                  <a:pt x="16197" y="8458"/>
                </a:cubicBezTo>
                <a:cubicBezTo>
                  <a:pt x="16413" y="8458"/>
                  <a:pt x="16412" y="8169"/>
                  <a:pt x="16446" y="8037"/>
                </a:cubicBezTo>
              </a:path>
              <a:path w="2457" h="696">
                <a:moveTo>
                  <a:pt x="16197" y="8161"/>
                </a:moveTo>
                <a:cubicBezTo>
                  <a:pt x="16449" y="8175"/>
                  <a:pt x="16688" y="8167"/>
                  <a:pt x="16942" y="81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69040" y="2776680"/>
            <a:ext cx="1330200" cy="277560"/>
          </a:xfrm>
          <a:custGeom>
            <a:avLst/>
            <a:gdLst/>
            <a:ahLst/>
            <a:rect l="l" t="t" r="r" b="b"/>
            <a:pathLst>
              <a:path w="3697" h="770">
                <a:moveTo>
                  <a:pt x="17413" y="7813"/>
                </a:moveTo>
                <a:cubicBezTo>
                  <a:pt x="17456" y="8028"/>
                  <a:pt x="17491" y="8244"/>
                  <a:pt x="17537" y="8458"/>
                </a:cubicBezTo>
                <a:cubicBezTo>
                  <a:pt x="17537" y="8332"/>
                  <a:pt x="17523" y="8109"/>
                  <a:pt x="17661" y="8037"/>
                </a:cubicBezTo>
                <a:cubicBezTo>
                  <a:pt x="17939" y="7893"/>
                  <a:pt x="18161" y="8275"/>
                  <a:pt x="17934" y="8434"/>
                </a:cubicBezTo>
                <a:cubicBezTo>
                  <a:pt x="17743" y="8568"/>
                  <a:pt x="17380" y="8532"/>
                  <a:pt x="17611" y="8285"/>
                </a:cubicBezTo>
              </a:path>
              <a:path w="3697" h="770">
                <a:moveTo>
                  <a:pt x="18331" y="8086"/>
                </a:moveTo>
                <a:cubicBezTo>
                  <a:pt x="18118" y="8136"/>
                  <a:pt x="18057" y="8210"/>
                  <a:pt x="18058" y="8434"/>
                </a:cubicBezTo>
                <a:cubicBezTo>
                  <a:pt x="18240" y="8395"/>
                  <a:pt x="18247" y="8364"/>
                  <a:pt x="18355" y="8210"/>
                </a:cubicBezTo>
                <a:cubicBezTo>
                  <a:pt x="18409" y="8311"/>
                  <a:pt x="18600" y="8555"/>
                  <a:pt x="18703" y="8334"/>
                </a:cubicBezTo>
                <a:cubicBezTo>
                  <a:pt x="18793" y="8143"/>
                  <a:pt x="18701" y="7873"/>
                  <a:pt x="18604" y="7714"/>
                </a:cubicBezTo>
                <a:cubicBezTo>
                  <a:pt x="18632" y="8033"/>
                  <a:pt x="18637" y="8221"/>
                  <a:pt x="18901" y="8384"/>
                </a:cubicBezTo>
              </a:path>
              <a:path w="3697" h="770">
                <a:moveTo>
                  <a:pt x="19397" y="8285"/>
                </a:moveTo>
                <a:cubicBezTo>
                  <a:pt x="19374" y="8238"/>
                  <a:pt x="19283" y="8073"/>
                  <a:pt x="19199" y="8086"/>
                </a:cubicBezTo>
                <a:cubicBezTo>
                  <a:pt x="19004" y="8115"/>
                  <a:pt x="19101" y="8335"/>
                  <a:pt x="19124" y="8434"/>
                </a:cubicBezTo>
                <a:cubicBezTo>
                  <a:pt x="19326" y="8390"/>
                  <a:pt x="19338" y="8413"/>
                  <a:pt x="19397" y="8210"/>
                </a:cubicBezTo>
                <a:cubicBezTo>
                  <a:pt x="19411" y="8308"/>
                  <a:pt x="19500" y="8580"/>
                  <a:pt x="19645" y="8384"/>
                </a:cubicBezTo>
                <a:cubicBezTo>
                  <a:pt x="19725" y="8276"/>
                  <a:pt x="19695" y="8075"/>
                  <a:pt x="19695" y="8334"/>
                </a:cubicBezTo>
                <a:cubicBezTo>
                  <a:pt x="19695" y="8342"/>
                  <a:pt x="19695" y="8351"/>
                  <a:pt x="19695" y="8359"/>
                </a:cubicBezTo>
                <a:cubicBezTo>
                  <a:pt x="19695" y="8188"/>
                  <a:pt x="19741" y="8120"/>
                  <a:pt x="19844" y="7987"/>
                </a:cubicBezTo>
                <a:cubicBezTo>
                  <a:pt x="20032" y="8081"/>
                  <a:pt x="20045" y="8172"/>
                  <a:pt x="20117" y="8384"/>
                </a:cubicBezTo>
              </a:path>
              <a:path w="3697" h="770">
                <a:moveTo>
                  <a:pt x="20414" y="7987"/>
                </a:moveTo>
                <a:cubicBezTo>
                  <a:pt x="20451" y="8015"/>
                  <a:pt x="20450" y="8029"/>
                  <a:pt x="20464" y="7987"/>
                </a:cubicBezTo>
                <a:cubicBezTo>
                  <a:pt x="20325" y="7941"/>
                  <a:pt x="20211" y="8003"/>
                  <a:pt x="20265" y="8186"/>
                </a:cubicBezTo>
                <a:cubicBezTo>
                  <a:pt x="20330" y="8405"/>
                  <a:pt x="20539" y="8275"/>
                  <a:pt x="20662" y="8235"/>
                </a:cubicBezTo>
              </a:path>
              <a:path w="3697" h="770">
                <a:moveTo>
                  <a:pt x="20811" y="8086"/>
                </a:moveTo>
                <a:cubicBezTo>
                  <a:pt x="20899" y="8069"/>
                  <a:pt x="20956" y="8035"/>
                  <a:pt x="21034" y="7987"/>
                </a:cubicBezTo>
                <a:cubicBezTo>
                  <a:pt x="20855" y="7954"/>
                  <a:pt x="20809" y="8008"/>
                  <a:pt x="20737" y="8161"/>
                </a:cubicBezTo>
                <a:cubicBezTo>
                  <a:pt x="20899" y="8269"/>
                  <a:pt x="20914" y="8251"/>
                  <a:pt x="21109" y="82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67800" y="2820960"/>
            <a:ext cx="936360" cy="179280"/>
          </a:xfrm>
          <a:custGeom>
            <a:avLst/>
            <a:gdLst/>
            <a:ahLst/>
            <a:rect l="l" t="t" r="r" b="b"/>
            <a:pathLst>
              <a:path w="2605" h="497">
                <a:moveTo>
                  <a:pt x="22250" y="8136"/>
                </a:moveTo>
                <a:cubicBezTo>
                  <a:pt x="22215" y="8008"/>
                  <a:pt x="22172" y="7977"/>
                  <a:pt x="22076" y="7888"/>
                </a:cubicBezTo>
                <a:cubicBezTo>
                  <a:pt x="21972" y="7970"/>
                  <a:pt x="21643" y="8310"/>
                  <a:pt x="22002" y="8334"/>
                </a:cubicBezTo>
                <a:cubicBezTo>
                  <a:pt x="22154" y="8284"/>
                  <a:pt x="22205" y="8265"/>
                  <a:pt x="22225" y="8136"/>
                </a:cubicBezTo>
                <a:cubicBezTo>
                  <a:pt x="22225" y="8111"/>
                  <a:pt x="22225" y="8087"/>
                  <a:pt x="22225" y="8062"/>
                </a:cubicBezTo>
                <a:cubicBezTo>
                  <a:pt x="22273" y="8132"/>
                  <a:pt x="22354" y="8330"/>
                  <a:pt x="22473" y="8310"/>
                </a:cubicBezTo>
                <a:cubicBezTo>
                  <a:pt x="22498" y="8285"/>
                  <a:pt x="22522" y="8260"/>
                  <a:pt x="22547" y="8235"/>
                </a:cubicBezTo>
              </a:path>
              <a:path w="2605" h="497">
                <a:moveTo>
                  <a:pt x="22696" y="8012"/>
                </a:moveTo>
                <a:cubicBezTo>
                  <a:pt x="22767" y="7988"/>
                  <a:pt x="22660" y="7930"/>
                  <a:pt x="22622" y="7938"/>
                </a:cubicBezTo>
                <a:cubicBezTo>
                  <a:pt x="22436" y="7975"/>
                  <a:pt x="22422" y="8260"/>
                  <a:pt x="22622" y="8285"/>
                </a:cubicBezTo>
                <a:cubicBezTo>
                  <a:pt x="22680" y="8277"/>
                  <a:pt x="22738" y="8268"/>
                  <a:pt x="22796" y="8260"/>
                </a:cubicBezTo>
              </a:path>
              <a:path w="2605" h="497">
                <a:moveTo>
                  <a:pt x="23044" y="8012"/>
                </a:moveTo>
                <a:cubicBezTo>
                  <a:pt x="23044" y="8062"/>
                  <a:pt x="23044" y="8111"/>
                  <a:pt x="23044" y="8161"/>
                </a:cubicBezTo>
                <a:cubicBezTo>
                  <a:pt x="23104" y="8326"/>
                  <a:pt x="23033" y="8017"/>
                  <a:pt x="23118" y="7913"/>
                </a:cubicBezTo>
                <a:cubicBezTo>
                  <a:pt x="23210" y="7800"/>
                  <a:pt x="23400" y="7852"/>
                  <a:pt x="23515" y="7863"/>
                </a:cubicBezTo>
                <a:cubicBezTo>
                  <a:pt x="23425" y="7893"/>
                  <a:pt x="23333" y="8019"/>
                  <a:pt x="23316" y="8136"/>
                </a:cubicBezTo>
                <a:cubicBezTo>
                  <a:pt x="23324" y="8169"/>
                  <a:pt x="23333" y="8202"/>
                  <a:pt x="23341" y="8235"/>
                </a:cubicBezTo>
                <a:cubicBezTo>
                  <a:pt x="23451" y="8242"/>
                  <a:pt x="23788" y="8199"/>
                  <a:pt x="23688" y="7987"/>
                </a:cubicBezTo>
                <a:cubicBezTo>
                  <a:pt x="23659" y="7925"/>
                  <a:pt x="23521" y="7879"/>
                  <a:pt x="23465" y="7863"/>
                </a:cubicBezTo>
              </a:path>
              <a:path w="2605" h="497">
                <a:moveTo>
                  <a:pt x="23937" y="7838"/>
                </a:moveTo>
                <a:cubicBezTo>
                  <a:pt x="23824" y="7861"/>
                  <a:pt x="23793" y="7862"/>
                  <a:pt x="23738" y="7913"/>
                </a:cubicBezTo>
                <a:cubicBezTo>
                  <a:pt x="23847" y="8020"/>
                  <a:pt x="24012" y="8049"/>
                  <a:pt x="24160" y="8111"/>
                </a:cubicBezTo>
                <a:cubicBezTo>
                  <a:pt x="24047" y="8225"/>
                  <a:pt x="23897" y="8185"/>
                  <a:pt x="23738" y="8161"/>
                </a:cubicBezTo>
              </a:path>
              <a:path w="2605" h="497">
                <a:moveTo>
                  <a:pt x="24234" y="7838"/>
                </a:moveTo>
                <a:cubicBezTo>
                  <a:pt x="24135" y="7858"/>
                  <a:pt x="24094" y="7841"/>
                  <a:pt x="24110" y="7913"/>
                </a:cubicBezTo>
                <a:cubicBezTo>
                  <a:pt x="24199" y="8014"/>
                  <a:pt x="24339" y="8052"/>
                  <a:pt x="24433" y="8161"/>
                </a:cubicBezTo>
                <a:cubicBezTo>
                  <a:pt x="24551" y="8298"/>
                  <a:pt x="24059" y="8264"/>
                  <a:pt x="24011" y="826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46800" y="3224160"/>
            <a:ext cx="500040" cy="231840"/>
          </a:xfrm>
          <a:custGeom>
            <a:avLst/>
            <a:gdLst/>
            <a:ahLst/>
            <a:rect l="l" t="t" r="r" b="b"/>
            <a:pathLst>
              <a:path w="1390" h="646">
                <a:moveTo>
                  <a:pt x="15131" y="9029"/>
                </a:moveTo>
                <a:cubicBezTo>
                  <a:pt x="15296" y="9029"/>
                  <a:pt x="15464" y="9008"/>
                  <a:pt x="15627" y="8979"/>
                </a:cubicBezTo>
                <a:cubicBezTo>
                  <a:pt x="15701" y="8960"/>
                  <a:pt x="15708" y="8952"/>
                  <a:pt x="15751" y="8954"/>
                </a:cubicBezTo>
                <a:cubicBezTo>
                  <a:pt x="15696" y="9120"/>
                  <a:pt x="15600" y="9308"/>
                  <a:pt x="15528" y="9475"/>
                </a:cubicBezTo>
                <a:cubicBezTo>
                  <a:pt x="15495" y="9551"/>
                  <a:pt x="15443" y="9580"/>
                  <a:pt x="15503" y="9599"/>
                </a:cubicBezTo>
              </a:path>
              <a:path w="1390" h="646">
                <a:moveTo>
                  <a:pt x="16173" y="9079"/>
                </a:moveTo>
                <a:cubicBezTo>
                  <a:pt x="16173" y="9211"/>
                  <a:pt x="16173" y="9343"/>
                  <a:pt x="16173" y="9475"/>
                </a:cubicBezTo>
              </a:path>
              <a:path w="1390" h="646">
                <a:moveTo>
                  <a:pt x="15925" y="9277"/>
                </a:moveTo>
                <a:cubicBezTo>
                  <a:pt x="16114" y="9244"/>
                  <a:pt x="16303" y="9211"/>
                  <a:pt x="16495" y="9203"/>
                </a:cubicBezTo>
                <a:cubicBezTo>
                  <a:pt x="16503" y="9203"/>
                  <a:pt x="16512" y="9203"/>
                  <a:pt x="16520" y="92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7720" y="3276720"/>
            <a:ext cx="277560" cy="188640"/>
          </a:xfrm>
          <a:custGeom>
            <a:avLst/>
            <a:gdLst/>
            <a:ahLst/>
            <a:rect l="l" t="t" r="r" b="b"/>
            <a:pathLst>
              <a:path w="770" h="522">
                <a:moveTo>
                  <a:pt x="9575" y="9103"/>
                </a:moveTo>
                <a:cubicBezTo>
                  <a:pt x="9457" y="9174"/>
                  <a:pt x="9421" y="9195"/>
                  <a:pt x="9351" y="9252"/>
                </a:cubicBezTo>
                <a:cubicBezTo>
                  <a:pt x="9506" y="9275"/>
                  <a:pt x="9646" y="9292"/>
                  <a:pt x="9798" y="9327"/>
                </a:cubicBezTo>
                <a:cubicBezTo>
                  <a:pt x="9714" y="9608"/>
                  <a:pt x="9579" y="9645"/>
                  <a:pt x="9327" y="9525"/>
                </a:cubicBezTo>
              </a:path>
              <a:path w="770" h="522">
                <a:moveTo>
                  <a:pt x="10021" y="9302"/>
                </a:moveTo>
                <a:cubicBezTo>
                  <a:pt x="10044" y="9357"/>
                  <a:pt x="10129" y="9478"/>
                  <a:pt x="10071" y="94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0200" y="3197160"/>
            <a:ext cx="428760" cy="250920"/>
          </a:xfrm>
          <a:custGeom>
            <a:avLst/>
            <a:gdLst/>
            <a:ahLst/>
            <a:rect l="l" t="t" r="r" b="b"/>
            <a:pathLst>
              <a:path w="1191" h="696">
                <a:moveTo>
                  <a:pt x="16694" y="8905"/>
                </a:moveTo>
                <a:cubicBezTo>
                  <a:pt x="16789" y="8897"/>
                  <a:pt x="17078" y="8827"/>
                  <a:pt x="17090" y="9004"/>
                </a:cubicBezTo>
                <a:cubicBezTo>
                  <a:pt x="17098" y="9127"/>
                  <a:pt x="16902" y="9203"/>
                  <a:pt x="16818" y="9227"/>
                </a:cubicBezTo>
                <a:cubicBezTo>
                  <a:pt x="16930" y="9187"/>
                  <a:pt x="17188" y="9130"/>
                  <a:pt x="17214" y="9327"/>
                </a:cubicBezTo>
                <a:cubicBezTo>
                  <a:pt x="17235" y="9488"/>
                  <a:pt x="16850" y="9691"/>
                  <a:pt x="16768" y="9525"/>
                </a:cubicBezTo>
                <a:cubicBezTo>
                  <a:pt x="16785" y="9492"/>
                  <a:pt x="16801" y="9459"/>
                  <a:pt x="16818" y="9426"/>
                </a:cubicBezTo>
              </a:path>
              <a:path w="1191" h="696">
                <a:moveTo>
                  <a:pt x="17512" y="9178"/>
                </a:moveTo>
                <a:cubicBezTo>
                  <a:pt x="17650" y="9143"/>
                  <a:pt x="17781" y="9133"/>
                  <a:pt x="17884" y="92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9120" y="3348000"/>
            <a:ext cx="3894120" cy="2144880"/>
          </a:xfrm>
          <a:custGeom>
            <a:avLst/>
            <a:gdLst/>
            <a:ahLst/>
            <a:rect l="l" t="t" r="r" b="b"/>
            <a:pathLst>
              <a:path w="10816" h="5954">
                <a:moveTo>
                  <a:pt x="17537" y="9327"/>
                </a:moveTo>
                <a:cubicBezTo>
                  <a:pt x="17696" y="9321"/>
                  <a:pt x="17849" y="9309"/>
                  <a:pt x="18008" y="9302"/>
                </a:cubicBezTo>
              </a:path>
              <a:path w="10816" h="5954">
                <a:moveTo>
                  <a:pt x="9475" y="12526"/>
                </a:moveTo>
                <a:cubicBezTo>
                  <a:pt x="9476" y="12474"/>
                  <a:pt x="9752" y="12502"/>
                  <a:pt x="9847" y="12502"/>
                </a:cubicBezTo>
                <a:cubicBezTo>
                  <a:pt x="9955" y="12502"/>
                  <a:pt x="9963" y="12502"/>
                  <a:pt x="10021" y="12502"/>
                </a:cubicBezTo>
                <a:cubicBezTo>
                  <a:pt x="9895" y="12755"/>
                  <a:pt x="9747" y="12981"/>
                  <a:pt x="9599" y="13221"/>
                </a:cubicBezTo>
                <a:cubicBezTo>
                  <a:pt x="9519" y="13352"/>
                  <a:pt x="9693" y="13200"/>
                  <a:pt x="9699" y="13196"/>
                </a:cubicBezTo>
              </a:path>
              <a:path w="10816" h="5954">
                <a:moveTo>
                  <a:pt x="10096" y="12923"/>
                </a:moveTo>
                <a:cubicBezTo>
                  <a:pt x="10229" y="12923"/>
                  <a:pt x="10334" y="13075"/>
                  <a:pt x="10418" y="13171"/>
                </a:cubicBezTo>
                <a:cubicBezTo>
                  <a:pt x="10443" y="13204"/>
                  <a:pt x="10467" y="13238"/>
                  <a:pt x="10492" y="13271"/>
                </a:cubicBezTo>
              </a:path>
              <a:path w="10816" h="5954">
                <a:moveTo>
                  <a:pt x="10418" y="12874"/>
                </a:moveTo>
                <a:cubicBezTo>
                  <a:pt x="10377" y="12931"/>
                  <a:pt x="10106" y="13229"/>
                  <a:pt x="10145" y="13320"/>
                </a:cubicBezTo>
                <a:cubicBezTo>
                  <a:pt x="10153" y="13320"/>
                  <a:pt x="10162" y="13320"/>
                  <a:pt x="10170" y="13320"/>
                </a:cubicBezTo>
              </a:path>
              <a:path w="10816" h="5954">
                <a:moveTo>
                  <a:pt x="11013" y="13072"/>
                </a:moveTo>
                <a:cubicBezTo>
                  <a:pt x="11165" y="13043"/>
                  <a:pt x="11310" y="13011"/>
                  <a:pt x="11460" y="12973"/>
                </a:cubicBezTo>
              </a:path>
              <a:path w="10816" h="5954">
                <a:moveTo>
                  <a:pt x="11460" y="12973"/>
                </a:moveTo>
                <a:lnTo>
                  <a:pt x="11460" y="12973"/>
                </a:lnTo>
              </a:path>
              <a:path w="10816" h="5954">
                <a:moveTo>
                  <a:pt x="9252" y="13990"/>
                </a:moveTo>
                <a:cubicBezTo>
                  <a:pt x="9252" y="13885"/>
                  <a:pt x="9392" y="13800"/>
                  <a:pt x="9451" y="13717"/>
                </a:cubicBezTo>
                <a:cubicBezTo>
                  <a:pt x="9496" y="13654"/>
                  <a:pt x="9535" y="13592"/>
                  <a:pt x="9550" y="13519"/>
                </a:cubicBezTo>
                <a:cubicBezTo>
                  <a:pt x="9466" y="13519"/>
                  <a:pt x="9383" y="13545"/>
                  <a:pt x="9302" y="13568"/>
                </a:cubicBezTo>
                <a:cubicBezTo>
                  <a:pt x="9244" y="13587"/>
                  <a:pt x="9238" y="13596"/>
                  <a:pt x="9203" y="13593"/>
                </a:cubicBezTo>
                <a:cubicBezTo>
                  <a:pt x="9307" y="13580"/>
                  <a:pt x="9397" y="13521"/>
                  <a:pt x="9500" y="13494"/>
                </a:cubicBezTo>
                <a:cubicBezTo>
                  <a:pt x="9573" y="13475"/>
                  <a:pt x="9639" y="13560"/>
                  <a:pt x="9649" y="13618"/>
                </a:cubicBezTo>
                <a:cubicBezTo>
                  <a:pt x="9664" y="13706"/>
                  <a:pt x="9658" y="13704"/>
                  <a:pt x="9674" y="13767"/>
                </a:cubicBezTo>
              </a:path>
              <a:path w="10816" h="5954">
                <a:moveTo>
                  <a:pt x="7491" y="14660"/>
                </a:moveTo>
                <a:cubicBezTo>
                  <a:pt x="7497" y="14737"/>
                  <a:pt x="7498" y="14770"/>
                  <a:pt x="7541" y="14833"/>
                </a:cubicBezTo>
                <a:cubicBezTo>
                  <a:pt x="7483" y="14776"/>
                  <a:pt x="7385" y="14657"/>
                  <a:pt x="7293" y="14684"/>
                </a:cubicBezTo>
                <a:cubicBezTo>
                  <a:pt x="7113" y="14737"/>
                  <a:pt x="7176" y="15148"/>
                  <a:pt x="7293" y="15230"/>
                </a:cubicBezTo>
                <a:cubicBezTo>
                  <a:pt x="7414" y="15230"/>
                  <a:pt x="7468" y="15220"/>
                  <a:pt x="7541" y="15156"/>
                </a:cubicBezTo>
              </a:path>
              <a:path w="10816" h="5954">
                <a:moveTo>
                  <a:pt x="7640" y="14759"/>
                </a:moveTo>
                <a:cubicBezTo>
                  <a:pt x="7573" y="14978"/>
                  <a:pt x="7523" y="15088"/>
                  <a:pt x="7689" y="15255"/>
                </a:cubicBezTo>
                <a:cubicBezTo>
                  <a:pt x="7801" y="15162"/>
                  <a:pt x="8038" y="14953"/>
                  <a:pt x="7789" y="14833"/>
                </a:cubicBezTo>
                <a:cubicBezTo>
                  <a:pt x="7731" y="14833"/>
                  <a:pt x="7689" y="14833"/>
                  <a:pt x="7739" y="14833"/>
                </a:cubicBezTo>
              </a:path>
              <a:path w="10816" h="5954">
                <a:moveTo>
                  <a:pt x="8136" y="14932"/>
                </a:moveTo>
                <a:cubicBezTo>
                  <a:pt x="8220" y="14957"/>
                  <a:pt x="8294" y="14957"/>
                  <a:pt x="8384" y="14957"/>
                </a:cubicBezTo>
                <a:cubicBezTo>
                  <a:pt x="8337" y="14840"/>
                  <a:pt x="8248" y="14829"/>
                  <a:pt x="8136" y="14808"/>
                </a:cubicBezTo>
                <a:cubicBezTo>
                  <a:pt x="8036" y="14949"/>
                  <a:pt x="7980" y="15119"/>
                  <a:pt x="8235" y="15131"/>
                </a:cubicBezTo>
                <a:cubicBezTo>
                  <a:pt x="8276" y="15123"/>
                  <a:pt x="8318" y="15114"/>
                  <a:pt x="8359" y="15106"/>
                </a:cubicBezTo>
              </a:path>
              <a:path w="10816" h="5954">
                <a:moveTo>
                  <a:pt x="8880" y="14536"/>
                </a:moveTo>
                <a:cubicBezTo>
                  <a:pt x="8768" y="14439"/>
                  <a:pt x="8645" y="14505"/>
                  <a:pt x="8632" y="14684"/>
                </a:cubicBezTo>
                <a:cubicBezTo>
                  <a:pt x="8628" y="14733"/>
                  <a:pt x="8757" y="15150"/>
                  <a:pt x="8682" y="15056"/>
                </a:cubicBezTo>
                <a:cubicBezTo>
                  <a:pt x="8657" y="15015"/>
                  <a:pt x="8632" y="14973"/>
                  <a:pt x="8607" y="14932"/>
                </a:cubicBezTo>
              </a:path>
              <a:path w="10816" h="5954">
                <a:moveTo>
                  <a:pt x="8458" y="14858"/>
                </a:moveTo>
                <a:cubicBezTo>
                  <a:pt x="8651" y="14847"/>
                  <a:pt x="8839" y="14818"/>
                  <a:pt x="9029" y="14784"/>
                </a:cubicBezTo>
              </a:path>
              <a:path w="10816" h="5954">
                <a:moveTo>
                  <a:pt x="9029" y="14784"/>
                </a:moveTo>
                <a:lnTo>
                  <a:pt x="9029" y="14784"/>
                </a:lnTo>
              </a:path>
              <a:path w="10816" h="5954">
                <a:moveTo>
                  <a:pt x="9351" y="14684"/>
                </a:moveTo>
                <a:lnTo>
                  <a:pt x="9351" y="14684"/>
                </a:lnTo>
              </a:path>
              <a:path w="10816" h="5954">
                <a:moveTo>
                  <a:pt x="9351" y="14684"/>
                </a:moveTo>
                <a:lnTo>
                  <a:pt x="9351" y="14684"/>
                </a:lnTo>
              </a:path>
              <a:path w="10816" h="5954">
                <a:moveTo>
                  <a:pt x="9823" y="14511"/>
                </a:moveTo>
                <a:lnTo>
                  <a:pt x="9823" y="14511"/>
                </a:lnTo>
              </a:path>
              <a:path w="10816" h="5954">
                <a:moveTo>
                  <a:pt x="9823" y="14511"/>
                </a:moveTo>
                <a:lnTo>
                  <a:pt x="9823" y="14511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3960" y="4483080"/>
            <a:ext cx="679320" cy="276120"/>
          </a:xfrm>
          <a:custGeom>
            <a:avLst/>
            <a:gdLst/>
            <a:ahLst/>
            <a:rect l="l" t="t" r="r" b="b"/>
            <a:pathLst>
              <a:path w="1886" h="770">
                <a:moveTo>
                  <a:pt x="11013" y="12849"/>
                </a:moveTo>
                <a:cubicBezTo>
                  <a:pt x="11047" y="12847"/>
                  <a:pt x="11423" y="12813"/>
                  <a:pt x="11410" y="12849"/>
                </a:cubicBezTo>
                <a:cubicBezTo>
                  <a:pt x="11394" y="12857"/>
                  <a:pt x="11377" y="12866"/>
                  <a:pt x="11361" y="12874"/>
                </a:cubicBezTo>
              </a:path>
              <a:path w="1886" h="770">
                <a:moveTo>
                  <a:pt x="11733" y="12576"/>
                </a:moveTo>
                <a:cubicBezTo>
                  <a:pt x="11727" y="12639"/>
                  <a:pt x="11645" y="12855"/>
                  <a:pt x="11708" y="12898"/>
                </a:cubicBezTo>
                <a:cubicBezTo>
                  <a:pt x="11839" y="12987"/>
                  <a:pt x="12036" y="12908"/>
                  <a:pt x="12154" y="12849"/>
                </a:cubicBezTo>
              </a:path>
              <a:path w="1886" h="770">
                <a:moveTo>
                  <a:pt x="12154" y="12502"/>
                </a:moveTo>
                <a:cubicBezTo>
                  <a:pt x="12091" y="12668"/>
                  <a:pt x="12093" y="12933"/>
                  <a:pt x="12080" y="13122"/>
                </a:cubicBezTo>
                <a:cubicBezTo>
                  <a:pt x="12080" y="13200"/>
                  <a:pt x="12065" y="13248"/>
                  <a:pt x="12105" y="13196"/>
                </a:cubicBezTo>
              </a:path>
              <a:path w="1886" h="770">
                <a:moveTo>
                  <a:pt x="12799" y="12526"/>
                </a:moveTo>
                <a:cubicBezTo>
                  <a:pt x="12688" y="12398"/>
                  <a:pt x="12542" y="12486"/>
                  <a:pt x="12452" y="12626"/>
                </a:cubicBezTo>
                <a:cubicBezTo>
                  <a:pt x="12435" y="12675"/>
                  <a:pt x="12419" y="12725"/>
                  <a:pt x="12402" y="12774"/>
                </a:cubicBezTo>
                <a:cubicBezTo>
                  <a:pt x="12587" y="12917"/>
                  <a:pt x="12729" y="12884"/>
                  <a:pt x="12874" y="12675"/>
                </a:cubicBezTo>
                <a:cubicBezTo>
                  <a:pt x="12882" y="12650"/>
                  <a:pt x="12890" y="12626"/>
                  <a:pt x="12898" y="12601"/>
                </a:cubicBezTo>
                <a:cubicBezTo>
                  <a:pt x="12898" y="12808"/>
                  <a:pt x="12898" y="13014"/>
                  <a:pt x="12898" y="1322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18080" y="3537000"/>
            <a:ext cx="625680" cy="79200"/>
          </a:xfrm>
          <a:custGeom>
            <a:avLst/>
            <a:gdLst/>
            <a:ahLst/>
            <a:rect l="l" t="t" r="r" b="b"/>
            <a:pathLst>
              <a:path w="1738" h="224">
                <a:moveTo>
                  <a:pt x="15329" y="9872"/>
                </a:moveTo>
                <a:cubicBezTo>
                  <a:pt x="15337" y="9935"/>
                  <a:pt x="15332" y="9969"/>
                  <a:pt x="15404" y="9996"/>
                </a:cubicBezTo>
                <a:cubicBezTo>
                  <a:pt x="15553" y="10051"/>
                  <a:pt x="15663" y="10013"/>
                  <a:pt x="15801" y="9971"/>
                </a:cubicBezTo>
                <a:cubicBezTo>
                  <a:pt x="15872" y="9950"/>
                  <a:pt x="15930" y="9912"/>
                  <a:pt x="15999" y="9897"/>
                </a:cubicBezTo>
                <a:cubicBezTo>
                  <a:pt x="16082" y="9879"/>
                  <a:pt x="16184" y="9951"/>
                  <a:pt x="16247" y="9996"/>
                </a:cubicBezTo>
                <a:cubicBezTo>
                  <a:pt x="16293" y="10029"/>
                  <a:pt x="16289" y="10043"/>
                  <a:pt x="16346" y="10046"/>
                </a:cubicBezTo>
                <a:cubicBezTo>
                  <a:pt x="16405" y="10049"/>
                  <a:pt x="16450" y="10033"/>
                  <a:pt x="16495" y="9996"/>
                </a:cubicBezTo>
                <a:cubicBezTo>
                  <a:pt x="16543" y="9957"/>
                  <a:pt x="16585" y="9949"/>
                  <a:pt x="16644" y="9947"/>
                </a:cubicBezTo>
                <a:cubicBezTo>
                  <a:pt x="16740" y="9943"/>
                  <a:pt x="16907" y="9980"/>
                  <a:pt x="16991" y="9922"/>
                </a:cubicBezTo>
                <a:cubicBezTo>
                  <a:pt x="17007" y="9911"/>
                  <a:pt x="17045" y="9843"/>
                  <a:pt x="17066" y="98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07080" y="3224160"/>
            <a:ext cx="366840" cy="411120"/>
          </a:xfrm>
          <a:custGeom>
            <a:avLst/>
            <a:gdLst/>
            <a:ahLst/>
            <a:rect l="l" t="t" r="r" b="b"/>
            <a:pathLst>
              <a:path w="1018" h="1143">
                <a:moveTo>
                  <a:pt x="18355" y="8954"/>
                </a:moveTo>
                <a:cubicBezTo>
                  <a:pt x="18397" y="9063"/>
                  <a:pt x="18419" y="9490"/>
                  <a:pt x="18479" y="9550"/>
                </a:cubicBezTo>
                <a:cubicBezTo>
                  <a:pt x="18487" y="9533"/>
                  <a:pt x="18496" y="9517"/>
                  <a:pt x="18504" y="9500"/>
                </a:cubicBezTo>
              </a:path>
              <a:path w="1018" h="1143">
                <a:moveTo>
                  <a:pt x="18951" y="9004"/>
                </a:moveTo>
                <a:cubicBezTo>
                  <a:pt x="18819" y="9062"/>
                  <a:pt x="18720" y="9261"/>
                  <a:pt x="18777" y="9426"/>
                </a:cubicBezTo>
                <a:cubicBezTo>
                  <a:pt x="18863" y="9677"/>
                  <a:pt x="19242" y="9632"/>
                  <a:pt x="19348" y="9426"/>
                </a:cubicBezTo>
                <a:cubicBezTo>
                  <a:pt x="19448" y="9232"/>
                  <a:pt x="19308" y="8990"/>
                  <a:pt x="19100" y="8979"/>
                </a:cubicBezTo>
                <a:cubicBezTo>
                  <a:pt x="19067" y="8987"/>
                  <a:pt x="19033" y="8996"/>
                  <a:pt x="19000" y="9004"/>
                </a:cubicBezTo>
              </a:path>
              <a:path w="1018" h="1143">
                <a:moveTo>
                  <a:pt x="18653" y="9872"/>
                </a:moveTo>
                <a:cubicBezTo>
                  <a:pt x="18653" y="9809"/>
                  <a:pt x="18653" y="9927"/>
                  <a:pt x="18653" y="9947"/>
                </a:cubicBezTo>
                <a:cubicBezTo>
                  <a:pt x="18653" y="9984"/>
                  <a:pt x="18697" y="10011"/>
                  <a:pt x="18728" y="10021"/>
                </a:cubicBezTo>
                <a:cubicBezTo>
                  <a:pt x="18800" y="10045"/>
                  <a:pt x="18909" y="10042"/>
                  <a:pt x="18976" y="10071"/>
                </a:cubicBezTo>
                <a:cubicBezTo>
                  <a:pt x="19031" y="10095"/>
                  <a:pt x="19102" y="10080"/>
                  <a:pt x="19149" y="10021"/>
                </a:cubicBezTo>
                <a:cubicBezTo>
                  <a:pt x="19180" y="9982"/>
                  <a:pt x="19209" y="9873"/>
                  <a:pt x="19224" y="9823"/>
                </a:cubicBezTo>
                <a:cubicBezTo>
                  <a:pt x="19224" y="9815"/>
                  <a:pt x="19224" y="9806"/>
                  <a:pt x="19224" y="97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78080" y="3956040"/>
            <a:ext cx="5073840" cy="223920"/>
          </a:xfrm>
          <a:custGeom>
            <a:avLst/>
            <a:gdLst/>
            <a:ahLst/>
            <a:rect l="l" t="t" r="r" b="b"/>
            <a:pathLst>
              <a:path w="14091" h="622">
                <a:moveTo>
                  <a:pt x="8830" y="11509"/>
                </a:moveTo>
                <a:cubicBezTo>
                  <a:pt x="8971" y="11465"/>
                  <a:pt x="9214" y="11461"/>
                  <a:pt x="9327" y="11361"/>
                </a:cubicBezTo>
                <a:cubicBezTo>
                  <a:pt x="9335" y="11344"/>
                  <a:pt x="9343" y="11328"/>
                  <a:pt x="9351" y="11311"/>
                </a:cubicBezTo>
              </a:path>
              <a:path w="14091" h="622">
                <a:moveTo>
                  <a:pt x="16197" y="11063"/>
                </a:moveTo>
                <a:lnTo>
                  <a:pt x="16197" y="11063"/>
                </a:lnTo>
              </a:path>
              <a:path w="14091" h="622">
                <a:moveTo>
                  <a:pt x="16743" y="11013"/>
                </a:moveTo>
                <a:cubicBezTo>
                  <a:pt x="16786" y="11211"/>
                  <a:pt x="16827" y="11410"/>
                  <a:pt x="16867" y="11609"/>
                </a:cubicBezTo>
              </a:path>
              <a:path w="14091" h="622">
                <a:moveTo>
                  <a:pt x="16991" y="11088"/>
                </a:moveTo>
                <a:cubicBezTo>
                  <a:pt x="16999" y="11088"/>
                  <a:pt x="17008" y="11088"/>
                  <a:pt x="17016" y="11088"/>
                </a:cubicBezTo>
              </a:path>
              <a:path w="14091" h="622">
                <a:moveTo>
                  <a:pt x="17016" y="11088"/>
                </a:moveTo>
                <a:lnTo>
                  <a:pt x="17016" y="11088"/>
                </a:lnTo>
              </a:path>
              <a:path w="14091" h="622">
                <a:moveTo>
                  <a:pt x="22870" y="11534"/>
                </a:moveTo>
                <a:lnTo>
                  <a:pt x="22870" y="11534"/>
                </a:lnTo>
              </a:path>
              <a:path w="14091" h="622">
                <a:moveTo>
                  <a:pt x="22845" y="10988"/>
                </a:moveTo>
                <a:cubicBezTo>
                  <a:pt x="22870" y="11021"/>
                  <a:pt x="22895" y="11055"/>
                  <a:pt x="22920" y="110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6640" y="4518000"/>
            <a:ext cx="152280" cy="24120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6375" y="12551"/>
                </a:moveTo>
                <a:cubicBezTo>
                  <a:pt x="6375" y="12734"/>
                  <a:pt x="6321" y="12917"/>
                  <a:pt x="6325" y="13097"/>
                </a:cubicBezTo>
                <a:cubicBezTo>
                  <a:pt x="6330" y="13351"/>
                  <a:pt x="6635" y="13150"/>
                  <a:pt x="6747" y="13097"/>
                </a:cubicBezTo>
              </a:path>
              <a:path w="423" h="671">
                <a:moveTo>
                  <a:pt x="6350" y="12973"/>
                </a:moveTo>
                <a:cubicBezTo>
                  <a:pt x="6466" y="12895"/>
                  <a:pt x="6663" y="12833"/>
                  <a:pt x="6747" y="127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1800" y="3286080"/>
            <a:ext cx="1660320" cy="973080"/>
          </a:xfrm>
          <a:custGeom>
            <a:avLst/>
            <a:gdLst/>
            <a:ahLst/>
            <a:rect l="l" t="t" r="r" b="b"/>
            <a:pathLst>
              <a:path w="4615" h="2705">
                <a:moveTo>
                  <a:pt x="10592" y="9203"/>
                </a:moveTo>
                <a:cubicBezTo>
                  <a:pt x="10433" y="9139"/>
                  <a:pt x="10292" y="9139"/>
                  <a:pt x="10244" y="9351"/>
                </a:cubicBezTo>
                <a:cubicBezTo>
                  <a:pt x="10252" y="9384"/>
                  <a:pt x="10261" y="9418"/>
                  <a:pt x="10269" y="9451"/>
                </a:cubicBezTo>
                <a:cubicBezTo>
                  <a:pt x="10497" y="9450"/>
                  <a:pt x="10556" y="9415"/>
                  <a:pt x="10542" y="9178"/>
                </a:cubicBezTo>
                <a:cubicBezTo>
                  <a:pt x="10603" y="9359"/>
                  <a:pt x="10716" y="9537"/>
                  <a:pt x="10666" y="9748"/>
                </a:cubicBezTo>
                <a:cubicBezTo>
                  <a:pt x="10622" y="9933"/>
                  <a:pt x="10096" y="10125"/>
                  <a:pt x="10096" y="9872"/>
                </a:cubicBezTo>
                <a:cubicBezTo>
                  <a:pt x="10129" y="9806"/>
                  <a:pt x="10162" y="9740"/>
                  <a:pt x="10195" y="9674"/>
                </a:cubicBezTo>
              </a:path>
              <a:path w="4615" h="2705">
                <a:moveTo>
                  <a:pt x="10864" y="9203"/>
                </a:moveTo>
                <a:cubicBezTo>
                  <a:pt x="10881" y="9243"/>
                  <a:pt x="10982" y="9559"/>
                  <a:pt x="10964" y="9426"/>
                </a:cubicBezTo>
                <a:cubicBezTo>
                  <a:pt x="10937" y="9232"/>
                  <a:pt x="11047" y="9060"/>
                  <a:pt x="11261" y="9153"/>
                </a:cubicBezTo>
                <a:cubicBezTo>
                  <a:pt x="11399" y="9213"/>
                  <a:pt x="11517" y="9417"/>
                  <a:pt x="11435" y="9525"/>
                </a:cubicBezTo>
              </a:path>
              <a:path w="4615" h="2705">
                <a:moveTo>
                  <a:pt x="9004" y="11038"/>
                </a:moveTo>
                <a:cubicBezTo>
                  <a:pt x="9004" y="10997"/>
                  <a:pt x="9004" y="10989"/>
                  <a:pt x="9004" y="10964"/>
                </a:cubicBezTo>
                <a:cubicBezTo>
                  <a:pt x="9085" y="10910"/>
                  <a:pt x="9005" y="11248"/>
                  <a:pt x="9004" y="11261"/>
                </a:cubicBezTo>
                <a:cubicBezTo>
                  <a:pt x="9000" y="11359"/>
                  <a:pt x="8923" y="11800"/>
                  <a:pt x="9128" y="11782"/>
                </a:cubicBezTo>
                <a:cubicBezTo>
                  <a:pt x="9185" y="11777"/>
                  <a:pt x="9329" y="11703"/>
                  <a:pt x="9351" y="11658"/>
                </a:cubicBezTo>
              </a:path>
              <a:path w="4615" h="2705">
                <a:moveTo>
                  <a:pt x="9277" y="10914"/>
                </a:moveTo>
                <a:cubicBezTo>
                  <a:pt x="9346" y="11145"/>
                  <a:pt x="9420" y="11375"/>
                  <a:pt x="9451" y="11609"/>
                </a:cubicBezTo>
                <a:cubicBezTo>
                  <a:pt x="9488" y="11646"/>
                  <a:pt x="9431" y="11511"/>
                  <a:pt x="9475" y="11435"/>
                </a:cubicBezTo>
                <a:cubicBezTo>
                  <a:pt x="9620" y="11183"/>
                  <a:pt x="9781" y="11302"/>
                  <a:pt x="9872" y="11509"/>
                </a:cubicBezTo>
                <a:cubicBezTo>
                  <a:pt x="9893" y="11592"/>
                  <a:pt x="9901" y="11607"/>
                  <a:pt x="9897" y="11658"/>
                </a:cubicBezTo>
              </a:path>
              <a:path w="4615" h="2705">
                <a:moveTo>
                  <a:pt x="10046" y="11385"/>
                </a:moveTo>
                <a:cubicBezTo>
                  <a:pt x="10125" y="11385"/>
                  <a:pt x="10193" y="11373"/>
                  <a:pt x="10269" y="11361"/>
                </a:cubicBezTo>
                <a:cubicBezTo>
                  <a:pt x="10294" y="11361"/>
                  <a:pt x="10302" y="11361"/>
                  <a:pt x="10319" y="11361"/>
                </a:cubicBezTo>
                <a:cubicBezTo>
                  <a:pt x="10319" y="11278"/>
                  <a:pt x="10195" y="11228"/>
                  <a:pt x="10120" y="11212"/>
                </a:cubicBezTo>
                <a:cubicBezTo>
                  <a:pt x="9923" y="11169"/>
                  <a:pt x="9878" y="11446"/>
                  <a:pt x="9922" y="11584"/>
                </a:cubicBezTo>
                <a:cubicBezTo>
                  <a:pt x="9961" y="11708"/>
                  <a:pt x="10143" y="11749"/>
                  <a:pt x="10244" y="11683"/>
                </a:cubicBezTo>
                <a:cubicBezTo>
                  <a:pt x="10261" y="11666"/>
                  <a:pt x="10277" y="11650"/>
                  <a:pt x="10294" y="11633"/>
                </a:cubicBezTo>
              </a:path>
              <a:path w="4615" h="2705">
                <a:moveTo>
                  <a:pt x="11261" y="11261"/>
                </a:moveTo>
                <a:cubicBezTo>
                  <a:pt x="11294" y="11392"/>
                  <a:pt x="11403" y="11576"/>
                  <a:pt x="11460" y="11708"/>
                </a:cubicBezTo>
                <a:cubicBezTo>
                  <a:pt x="11480" y="11748"/>
                  <a:pt x="11489" y="11754"/>
                  <a:pt x="11485" y="11782"/>
                </a:cubicBezTo>
                <a:cubicBezTo>
                  <a:pt x="11522" y="11658"/>
                  <a:pt x="11539" y="11380"/>
                  <a:pt x="11683" y="11311"/>
                </a:cubicBezTo>
                <a:cubicBezTo>
                  <a:pt x="11708" y="11319"/>
                  <a:pt x="11732" y="11328"/>
                  <a:pt x="11757" y="11336"/>
                </a:cubicBezTo>
              </a:path>
              <a:path w="4615" h="2705">
                <a:moveTo>
                  <a:pt x="12105" y="11534"/>
                </a:moveTo>
                <a:cubicBezTo>
                  <a:pt x="12095" y="11412"/>
                  <a:pt x="12095" y="11416"/>
                  <a:pt x="12005" y="11336"/>
                </a:cubicBezTo>
                <a:cubicBezTo>
                  <a:pt x="11908" y="11390"/>
                  <a:pt x="11619" y="11647"/>
                  <a:pt x="11832" y="11782"/>
                </a:cubicBezTo>
                <a:cubicBezTo>
                  <a:pt x="12016" y="11898"/>
                  <a:pt x="12074" y="11566"/>
                  <a:pt x="12105" y="11485"/>
                </a:cubicBezTo>
                <a:cubicBezTo>
                  <a:pt x="12115" y="11548"/>
                  <a:pt x="12175" y="11869"/>
                  <a:pt x="12328" y="11757"/>
                </a:cubicBezTo>
                <a:cubicBezTo>
                  <a:pt x="12353" y="11716"/>
                  <a:pt x="12377" y="11674"/>
                  <a:pt x="12402" y="11633"/>
                </a:cubicBezTo>
              </a:path>
              <a:path w="4615" h="2705">
                <a:moveTo>
                  <a:pt x="12353" y="11013"/>
                </a:moveTo>
                <a:cubicBezTo>
                  <a:pt x="12430" y="11247"/>
                  <a:pt x="12485" y="11466"/>
                  <a:pt x="12526" y="11708"/>
                </a:cubicBezTo>
              </a:path>
              <a:path w="4615" h="2705">
                <a:moveTo>
                  <a:pt x="12650" y="11286"/>
                </a:moveTo>
                <a:cubicBezTo>
                  <a:pt x="12650" y="11426"/>
                  <a:pt x="12642" y="11602"/>
                  <a:pt x="12700" y="11733"/>
                </a:cubicBezTo>
                <a:cubicBezTo>
                  <a:pt x="12717" y="11749"/>
                  <a:pt x="12733" y="11766"/>
                  <a:pt x="12750" y="11782"/>
                </a:cubicBezTo>
                <a:cubicBezTo>
                  <a:pt x="12902" y="11660"/>
                  <a:pt x="12898" y="11632"/>
                  <a:pt x="12923" y="11435"/>
                </a:cubicBezTo>
                <a:cubicBezTo>
                  <a:pt x="12923" y="11333"/>
                  <a:pt x="12944" y="11536"/>
                  <a:pt x="12973" y="11633"/>
                </a:cubicBezTo>
                <a:cubicBezTo>
                  <a:pt x="13025" y="11804"/>
                  <a:pt x="12999" y="11855"/>
                  <a:pt x="13097" y="11757"/>
                </a:cubicBezTo>
              </a:path>
              <a:path w="4615" h="2705">
                <a:moveTo>
                  <a:pt x="13196" y="11559"/>
                </a:moveTo>
                <a:cubicBezTo>
                  <a:pt x="13289" y="11522"/>
                  <a:pt x="13324" y="11509"/>
                  <a:pt x="13419" y="11509"/>
                </a:cubicBezTo>
                <a:cubicBezTo>
                  <a:pt x="13410" y="11454"/>
                  <a:pt x="13361" y="11208"/>
                  <a:pt x="13246" y="11311"/>
                </a:cubicBezTo>
                <a:cubicBezTo>
                  <a:pt x="13114" y="11429"/>
                  <a:pt x="13126" y="11893"/>
                  <a:pt x="13395" y="11807"/>
                </a:cubicBezTo>
                <a:cubicBezTo>
                  <a:pt x="13469" y="11757"/>
                  <a:pt x="13544" y="11708"/>
                  <a:pt x="13618" y="116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89680" y="3946680"/>
            <a:ext cx="893520" cy="358560"/>
          </a:xfrm>
          <a:custGeom>
            <a:avLst/>
            <a:gdLst/>
            <a:ahLst/>
            <a:rect l="l" t="t" r="r" b="b"/>
            <a:pathLst>
              <a:path w="2481" h="993">
                <a:moveTo>
                  <a:pt x="14139" y="11261"/>
                </a:moveTo>
                <a:cubicBezTo>
                  <a:pt x="14139" y="11403"/>
                  <a:pt x="14157" y="11541"/>
                  <a:pt x="14163" y="11683"/>
                </a:cubicBezTo>
                <a:cubicBezTo>
                  <a:pt x="14163" y="11716"/>
                  <a:pt x="14163" y="11716"/>
                  <a:pt x="14163" y="11658"/>
                </a:cubicBezTo>
                <a:cubicBezTo>
                  <a:pt x="14151" y="11547"/>
                  <a:pt x="14174" y="11163"/>
                  <a:pt x="14412" y="11361"/>
                </a:cubicBezTo>
                <a:cubicBezTo>
                  <a:pt x="14480" y="11417"/>
                  <a:pt x="14585" y="11637"/>
                  <a:pt x="14585" y="11733"/>
                </a:cubicBezTo>
                <a:cubicBezTo>
                  <a:pt x="14578" y="11694"/>
                  <a:pt x="14537" y="11179"/>
                  <a:pt x="14709" y="11286"/>
                </a:cubicBezTo>
                <a:cubicBezTo>
                  <a:pt x="14844" y="11370"/>
                  <a:pt x="14833" y="11670"/>
                  <a:pt x="14833" y="11807"/>
                </a:cubicBezTo>
              </a:path>
              <a:path w="2481" h="993">
                <a:moveTo>
                  <a:pt x="14957" y="11336"/>
                </a:moveTo>
                <a:cubicBezTo>
                  <a:pt x="14941" y="11439"/>
                  <a:pt x="14921" y="11727"/>
                  <a:pt x="15106" y="11733"/>
                </a:cubicBezTo>
                <a:cubicBezTo>
                  <a:pt x="15257" y="11738"/>
                  <a:pt x="15243" y="11472"/>
                  <a:pt x="15255" y="11385"/>
                </a:cubicBezTo>
                <a:cubicBezTo>
                  <a:pt x="15241" y="11527"/>
                  <a:pt x="15230" y="11875"/>
                  <a:pt x="15503" y="11757"/>
                </a:cubicBezTo>
                <a:cubicBezTo>
                  <a:pt x="15528" y="11724"/>
                  <a:pt x="15552" y="11691"/>
                  <a:pt x="15577" y="11658"/>
                </a:cubicBezTo>
              </a:path>
              <a:path w="2481" h="993">
                <a:moveTo>
                  <a:pt x="15528" y="11038"/>
                </a:moveTo>
                <a:cubicBezTo>
                  <a:pt x="15637" y="11093"/>
                  <a:pt x="15614" y="11429"/>
                  <a:pt x="15627" y="11534"/>
                </a:cubicBezTo>
                <a:cubicBezTo>
                  <a:pt x="15640" y="11639"/>
                  <a:pt x="15623" y="11718"/>
                  <a:pt x="15701" y="11757"/>
                </a:cubicBezTo>
              </a:path>
              <a:path w="2481" h="993">
                <a:moveTo>
                  <a:pt x="15900" y="10964"/>
                </a:moveTo>
                <a:cubicBezTo>
                  <a:pt x="15913" y="11202"/>
                  <a:pt x="15967" y="11423"/>
                  <a:pt x="15999" y="11658"/>
                </a:cubicBezTo>
                <a:cubicBezTo>
                  <a:pt x="15999" y="11708"/>
                  <a:pt x="15999" y="11725"/>
                  <a:pt x="15999" y="11658"/>
                </a:cubicBezTo>
              </a:path>
              <a:path w="2481" h="993">
                <a:moveTo>
                  <a:pt x="15726" y="11311"/>
                </a:moveTo>
                <a:cubicBezTo>
                  <a:pt x="15996" y="11273"/>
                  <a:pt x="16168" y="11187"/>
                  <a:pt x="16272" y="11485"/>
                </a:cubicBezTo>
                <a:cubicBezTo>
                  <a:pt x="16297" y="11556"/>
                  <a:pt x="16297" y="11684"/>
                  <a:pt x="16297" y="11609"/>
                </a:cubicBezTo>
              </a:path>
              <a:path w="2481" h="993">
                <a:moveTo>
                  <a:pt x="16197" y="11063"/>
                </a:moveTo>
                <a:cubicBezTo>
                  <a:pt x="16173" y="11063"/>
                  <a:pt x="16165" y="11063"/>
                  <a:pt x="16197" y="11063"/>
                </a:cubicBezTo>
              </a:path>
              <a:path w="2481" h="993">
                <a:moveTo>
                  <a:pt x="16446" y="11658"/>
                </a:moveTo>
                <a:cubicBezTo>
                  <a:pt x="16446" y="11796"/>
                  <a:pt x="16490" y="11930"/>
                  <a:pt x="16421" y="11906"/>
                </a:cubicBezTo>
                <a:cubicBezTo>
                  <a:pt x="16348" y="11584"/>
                  <a:pt x="16329" y="11422"/>
                  <a:pt x="16495" y="11137"/>
                </a:cubicBezTo>
                <a:cubicBezTo>
                  <a:pt x="16563" y="11226"/>
                  <a:pt x="16745" y="11577"/>
                  <a:pt x="16470" y="11609"/>
                </a:cubicBezTo>
                <a:cubicBezTo>
                  <a:pt x="16357" y="11552"/>
                  <a:pt x="16319" y="11521"/>
                  <a:pt x="16321" y="114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61040" y="3956040"/>
            <a:ext cx="312840" cy="258840"/>
          </a:xfrm>
          <a:custGeom>
            <a:avLst/>
            <a:gdLst/>
            <a:ahLst/>
            <a:rect l="l" t="t" r="r" b="b"/>
            <a:pathLst>
              <a:path w="869" h="721">
                <a:moveTo>
                  <a:pt x="17115" y="11286"/>
                </a:moveTo>
                <a:cubicBezTo>
                  <a:pt x="17116" y="11294"/>
                  <a:pt x="17245" y="11720"/>
                  <a:pt x="17140" y="11509"/>
                </a:cubicBezTo>
              </a:path>
              <a:path w="869" h="721">
                <a:moveTo>
                  <a:pt x="17338" y="11410"/>
                </a:moveTo>
                <a:cubicBezTo>
                  <a:pt x="17435" y="11381"/>
                  <a:pt x="17438" y="11404"/>
                  <a:pt x="17438" y="11311"/>
                </a:cubicBezTo>
                <a:cubicBezTo>
                  <a:pt x="17307" y="11180"/>
                  <a:pt x="17207" y="11262"/>
                  <a:pt x="17190" y="11460"/>
                </a:cubicBezTo>
                <a:cubicBezTo>
                  <a:pt x="17158" y="11831"/>
                  <a:pt x="17523" y="11607"/>
                  <a:pt x="17661" y="11534"/>
                </a:cubicBezTo>
              </a:path>
              <a:path w="869" h="721">
                <a:moveTo>
                  <a:pt x="17810" y="11311"/>
                </a:moveTo>
                <a:cubicBezTo>
                  <a:pt x="17656" y="11264"/>
                  <a:pt x="17503" y="11342"/>
                  <a:pt x="17438" y="11509"/>
                </a:cubicBezTo>
                <a:cubicBezTo>
                  <a:pt x="17438" y="11622"/>
                  <a:pt x="17432" y="11653"/>
                  <a:pt x="17487" y="11708"/>
                </a:cubicBezTo>
                <a:cubicBezTo>
                  <a:pt x="17803" y="11607"/>
                  <a:pt x="17794" y="11438"/>
                  <a:pt x="17810" y="11112"/>
                </a:cubicBezTo>
                <a:cubicBezTo>
                  <a:pt x="17821" y="10889"/>
                  <a:pt x="17788" y="11007"/>
                  <a:pt x="17810" y="11063"/>
                </a:cubicBezTo>
                <a:cubicBezTo>
                  <a:pt x="17825" y="11348"/>
                  <a:pt x="17797" y="11397"/>
                  <a:pt x="17983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07080" y="3938760"/>
            <a:ext cx="376200" cy="436320"/>
          </a:xfrm>
          <a:custGeom>
            <a:avLst/>
            <a:gdLst/>
            <a:ahLst/>
            <a:rect l="l" t="t" r="r" b="b"/>
            <a:pathLst>
              <a:path w="1043" h="1216">
                <a:moveTo>
                  <a:pt x="18355" y="10939"/>
                </a:moveTo>
                <a:cubicBezTo>
                  <a:pt x="18416" y="11170"/>
                  <a:pt x="18474" y="11401"/>
                  <a:pt x="18529" y="11633"/>
                </a:cubicBezTo>
                <a:cubicBezTo>
                  <a:pt x="18600" y="11449"/>
                  <a:pt x="18604" y="11364"/>
                  <a:pt x="18777" y="11237"/>
                </a:cubicBezTo>
                <a:cubicBezTo>
                  <a:pt x="18864" y="11375"/>
                  <a:pt x="18954" y="11692"/>
                  <a:pt x="18628" y="11658"/>
                </a:cubicBezTo>
                <a:cubicBezTo>
                  <a:pt x="18500" y="11582"/>
                  <a:pt x="18460" y="11553"/>
                  <a:pt x="18554" y="11435"/>
                </a:cubicBezTo>
              </a:path>
              <a:path w="1043" h="1216">
                <a:moveTo>
                  <a:pt x="19075" y="11336"/>
                </a:moveTo>
                <a:cubicBezTo>
                  <a:pt x="19063" y="11422"/>
                  <a:pt x="19035" y="11688"/>
                  <a:pt x="19224" y="11633"/>
                </a:cubicBezTo>
                <a:cubicBezTo>
                  <a:pt x="19346" y="11597"/>
                  <a:pt x="19338" y="11507"/>
                  <a:pt x="19348" y="11410"/>
                </a:cubicBezTo>
                <a:cubicBezTo>
                  <a:pt x="19374" y="11600"/>
                  <a:pt x="19442" y="11815"/>
                  <a:pt x="19372" y="12005"/>
                </a:cubicBezTo>
                <a:cubicBezTo>
                  <a:pt x="19253" y="12329"/>
                  <a:pt x="18929" y="12065"/>
                  <a:pt x="18777" y="119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16840" y="4062240"/>
            <a:ext cx="304560" cy="135000"/>
          </a:xfrm>
          <a:custGeom>
            <a:avLst/>
            <a:gdLst/>
            <a:ahLst/>
            <a:rect l="l" t="t" r="r" b="b"/>
            <a:pathLst>
              <a:path w="845" h="373">
                <a:moveTo>
                  <a:pt x="20141" y="11485"/>
                </a:moveTo>
                <a:cubicBezTo>
                  <a:pt x="20120" y="11422"/>
                  <a:pt x="20081" y="11369"/>
                  <a:pt x="20042" y="11311"/>
                </a:cubicBezTo>
                <a:cubicBezTo>
                  <a:pt x="19955" y="11321"/>
                  <a:pt x="19589" y="11516"/>
                  <a:pt x="19819" y="11658"/>
                </a:cubicBezTo>
                <a:cubicBezTo>
                  <a:pt x="19984" y="11760"/>
                  <a:pt x="20068" y="11499"/>
                  <a:pt x="20117" y="11410"/>
                </a:cubicBezTo>
                <a:cubicBezTo>
                  <a:pt x="20260" y="11679"/>
                  <a:pt x="20348" y="11614"/>
                  <a:pt x="20613" y="115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16880" y="3929040"/>
            <a:ext cx="1241280" cy="277920"/>
          </a:xfrm>
          <a:custGeom>
            <a:avLst/>
            <a:gdLst/>
            <a:ahLst/>
            <a:rect l="l" t="t" r="r" b="b"/>
            <a:pathLst>
              <a:path w="3449" h="770">
                <a:moveTo>
                  <a:pt x="21158" y="11137"/>
                </a:moveTo>
                <a:cubicBezTo>
                  <a:pt x="21243" y="11290"/>
                  <a:pt x="21309" y="11450"/>
                  <a:pt x="21382" y="11609"/>
                </a:cubicBezTo>
                <a:cubicBezTo>
                  <a:pt x="21424" y="11480"/>
                  <a:pt x="21440" y="11210"/>
                  <a:pt x="21580" y="11137"/>
                </a:cubicBezTo>
                <a:cubicBezTo>
                  <a:pt x="21605" y="11145"/>
                  <a:pt x="21629" y="11154"/>
                  <a:pt x="21654" y="11162"/>
                </a:cubicBezTo>
              </a:path>
              <a:path w="3449" h="770">
                <a:moveTo>
                  <a:pt x="22002" y="11187"/>
                </a:moveTo>
                <a:cubicBezTo>
                  <a:pt x="21868" y="11194"/>
                  <a:pt x="21470" y="11379"/>
                  <a:pt x="21704" y="11584"/>
                </a:cubicBezTo>
                <a:cubicBezTo>
                  <a:pt x="21885" y="11742"/>
                  <a:pt x="21979" y="11477"/>
                  <a:pt x="22027" y="11385"/>
                </a:cubicBezTo>
                <a:cubicBezTo>
                  <a:pt x="22006" y="11138"/>
                  <a:pt x="22005" y="11438"/>
                  <a:pt x="22101" y="11509"/>
                </a:cubicBezTo>
                <a:cubicBezTo>
                  <a:pt x="22306" y="11660"/>
                  <a:pt x="22321" y="11220"/>
                  <a:pt x="22374" y="11410"/>
                </a:cubicBezTo>
                <a:cubicBezTo>
                  <a:pt x="22382" y="11451"/>
                  <a:pt x="22391" y="11493"/>
                  <a:pt x="22399" y="11534"/>
                </a:cubicBezTo>
                <a:cubicBezTo>
                  <a:pt x="22399" y="11633"/>
                  <a:pt x="22436" y="11323"/>
                  <a:pt x="22473" y="11261"/>
                </a:cubicBezTo>
                <a:cubicBezTo>
                  <a:pt x="22544" y="11143"/>
                  <a:pt x="22612" y="11172"/>
                  <a:pt x="22721" y="11187"/>
                </a:cubicBezTo>
              </a:path>
              <a:path w="3449" h="770">
                <a:moveTo>
                  <a:pt x="22820" y="11336"/>
                </a:moveTo>
                <a:cubicBezTo>
                  <a:pt x="22826" y="11366"/>
                  <a:pt x="22929" y="11742"/>
                  <a:pt x="22870" y="11534"/>
                </a:cubicBezTo>
              </a:path>
              <a:path w="3449" h="770">
                <a:moveTo>
                  <a:pt x="23292" y="11311"/>
                </a:moveTo>
                <a:cubicBezTo>
                  <a:pt x="23292" y="11276"/>
                  <a:pt x="23287" y="11259"/>
                  <a:pt x="23267" y="11237"/>
                </a:cubicBezTo>
                <a:cubicBezTo>
                  <a:pt x="23118" y="11227"/>
                  <a:pt x="22853" y="11400"/>
                  <a:pt x="22994" y="11633"/>
                </a:cubicBezTo>
                <a:cubicBezTo>
                  <a:pt x="23027" y="11650"/>
                  <a:pt x="23060" y="11666"/>
                  <a:pt x="23093" y="11683"/>
                </a:cubicBezTo>
                <a:cubicBezTo>
                  <a:pt x="23200" y="11562"/>
                  <a:pt x="23243" y="11474"/>
                  <a:pt x="23292" y="11311"/>
                </a:cubicBezTo>
                <a:cubicBezTo>
                  <a:pt x="23301" y="11401"/>
                  <a:pt x="23351" y="11662"/>
                  <a:pt x="23515" y="11584"/>
                </a:cubicBezTo>
                <a:cubicBezTo>
                  <a:pt x="23548" y="11543"/>
                  <a:pt x="23581" y="11501"/>
                  <a:pt x="23614" y="11460"/>
                </a:cubicBezTo>
              </a:path>
              <a:path w="3449" h="770">
                <a:moveTo>
                  <a:pt x="23639" y="10914"/>
                </a:moveTo>
                <a:cubicBezTo>
                  <a:pt x="23627" y="11126"/>
                  <a:pt x="23637" y="11300"/>
                  <a:pt x="23664" y="11509"/>
                </a:cubicBezTo>
                <a:cubicBezTo>
                  <a:pt x="23677" y="11468"/>
                  <a:pt x="23804" y="11003"/>
                  <a:pt x="23937" y="11162"/>
                </a:cubicBezTo>
                <a:cubicBezTo>
                  <a:pt x="24058" y="11307"/>
                  <a:pt x="23934" y="11655"/>
                  <a:pt x="23713" y="11559"/>
                </a:cubicBezTo>
                <a:cubicBezTo>
                  <a:pt x="23680" y="11526"/>
                  <a:pt x="23647" y="11493"/>
                  <a:pt x="23614" y="11460"/>
                </a:cubicBezTo>
              </a:path>
              <a:path w="3449" h="770">
                <a:moveTo>
                  <a:pt x="24110" y="10914"/>
                </a:moveTo>
                <a:cubicBezTo>
                  <a:pt x="24154" y="11111"/>
                  <a:pt x="24209" y="11305"/>
                  <a:pt x="24234" y="11509"/>
                </a:cubicBezTo>
                <a:cubicBezTo>
                  <a:pt x="24234" y="11551"/>
                  <a:pt x="24234" y="11559"/>
                  <a:pt x="24234" y="11584"/>
                </a:cubicBezTo>
              </a:path>
              <a:path w="3449" h="770">
                <a:moveTo>
                  <a:pt x="24284" y="11286"/>
                </a:moveTo>
                <a:cubicBezTo>
                  <a:pt x="24379" y="11261"/>
                  <a:pt x="24426" y="11242"/>
                  <a:pt x="24507" y="11261"/>
                </a:cubicBezTo>
                <a:cubicBezTo>
                  <a:pt x="24533" y="11192"/>
                  <a:pt x="24503" y="11006"/>
                  <a:pt x="24383" y="11088"/>
                </a:cubicBezTo>
                <a:cubicBezTo>
                  <a:pt x="24239" y="11187"/>
                  <a:pt x="24144" y="11505"/>
                  <a:pt x="24358" y="11584"/>
                </a:cubicBezTo>
                <a:cubicBezTo>
                  <a:pt x="24453" y="11619"/>
                  <a:pt x="24558" y="11558"/>
                  <a:pt x="24606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2760" y="4500720"/>
            <a:ext cx="760320" cy="295200"/>
          </a:xfrm>
          <a:custGeom>
            <a:avLst/>
            <a:gdLst/>
            <a:ahLst/>
            <a:rect l="l" t="t" r="r" b="b"/>
            <a:pathLst>
              <a:path w="2109" h="819">
                <a:moveTo>
                  <a:pt x="20092" y="12799"/>
                </a:moveTo>
                <a:lnTo>
                  <a:pt x="20092" y="12799"/>
                </a:lnTo>
                <a:lnTo>
                  <a:pt x="20092" y="12799"/>
                </a:lnTo>
              </a:path>
              <a:path w="2109" h="819">
                <a:moveTo>
                  <a:pt x="20092" y="12799"/>
                </a:moveTo>
                <a:lnTo>
                  <a:pt x="20092" y="12799"/>
                </a:lnTo>
              </a:path>
              <a:path w="2109" h="819">
                <a:moveTo>
                  <a:pt x="21853" y="12502"/>
                </a:moveTo>
                <a:cubicBezTo>
                  <a:pt x="21924" y="12764"/>
                  <a:pt x="22006" y="13038"/>
                  <a:pt x="22151" y="13271"/>
                </a:cubicBezTo>
                <a:cubicBezTo>
                  <a:pt x="22167" y="13287"/>
                  <a:pt x="22184" y="13304"/>
                  <a:pt x="22200" y="133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4438800"/>
            <a:ext cx="1704960" cy="436320"/>
          </a:xfrm>
          <a:custGeom>
            <a:avLst/>
            <a:gdLst/>
            <a:ahLst/>
            <a:rect l="l" t="t" r="r" b="b"/>
            <a:pathLst>
              <a:path w="4739" h="1216">
                <a:moveTo>
                  <a:pt x="17884" y="12650"/>
                </a:moveTo>
                <a:cubicBezTo>
                  <a:pt x="17836" y="12488"/>
                  <a:pt x="17775" y="12446"/>
                  <a:pt x="17636" y="12328"/>
                </a:cubicBezTo>
                <a:cubicBezTo>
                  <a:pt x="17341" y="12589"/>
                  <a:pt x="17514" y="12847"/>
                  <a:pt x="17661" y="13196"/>
                </a:cubicBezTo>
                <a:cubicBezTo>
                  <a:pt x="17757" y="13424"/>
                  <a:pt x="17891" y="13543"/>
                  <a:pt x="17686" y="13469"/>
                </a:cubicBezTo>
              </a:path>
              <a:path w="4739" h="1216">
                <a:moveTo>
                  <a:pt x="17289" y="13171"/>
                </a:moveTo>
                <a:cubicBezTo>
                  <a:pt x="17442" y="13147"/>
                  <a:pt x="17954" y="12941"/>
                  <a:pt x="18083" y="13022"/>
                </a:cubicBezTo>
                <a:cubicBezTo>
                  <a:pt x="18175" y="13080"/>
                  <a:pt x="18171" y="13276"/>
                  <a:pt x="18182" y="13370"/>
                </a:cubicBezTo>
                <a:cubicBezTo>
                  <a:pt x="18173" y="13233"/>
                  <a:pt x="18102" y="12973"/>
                  <a:pt x="18281" y="12898"/>
                </a:cubicBezTo>
                <a:cubicBezTo>
                  <a:pt x="18414" y="12898"/>
                  <a:pt x="18464" y="12899"/>
                  <a:pt x="18554" y="12923"/>
                </a:cubicBezTo>
              </a:path>
              <a:path w="4739" h="1216">
                <a:moveTo>
                  <a:pt x="18703" y="12998"/>
                </a:moveTo>
                <a:cubicBezTo>
                  <a:pt x="18585" y="12880"/>
                  <a:pt x="18487" y="13196"/>
                  <a:pt x="18504" y="13295"/>
                </a:cubicBezTo>
                <a:cubicBezTo>
                  <a:pt x="18529" y="13328"/>
                  <a:pt x="18554" y="13362"/>
                  <a:pt x="18579" y="13395"/>
                </a:cubicBezTo>
                <a:cubicBezTo>
                  <a:pt x="18743" y="13269"/>
                  <a:pt x="18737" y="13266"/>
                  <a:pt x="18728" y="13047"/>
                </a:cubicBezTo>
                <a:cubicBezTo>
                  <a:pt x="18795" y="13195"/>
                  <a:pt x="18844" y="13259"/>
                  <a:pt x="19000" y="13295"/>
                </a:cubicBezTo>
              </a:path>
              <a:path w="4739" h="1216">
                <a:moveTo>
                  <a:pt x="19149" y="12948"/>
                </a:moveTo>
                <a:cubicBezTo>
                  <a:pt x="19178" y="12988"/>
                  <a:pt x="19207" y="13013"/>
                  <a:pt x="19224" y="13047"/>
                </a:cubicBezTo>
                <a:cubicBezTo>
                  <a:pt x="19176" y="12905"/>
                  <a:pt x="19079" y="12854"/>
                  <a:pt x="19025" y="13047"/>
                </a:cubicBezTo>
                <a:cubicBezTo>
                  <a:pt x="18910" y="13457"/>
                  <a:pt x="19251" y="13365"/>
                  <a:pt x="19496" y="13295"/>
                </a:cubicBezTo>
              </a:path>
              <a:path w="4739" h="1216">
                <a:moveTo>
                  <a:pt x="19472" y="12551"/>
                </a:moveTo>
                <a:cubicBezTo>
                  <a:pt x="19561" y="12807"/>
                  <a:pt x="19681" y="13057"/>
                  <a:pt x="19745" y="13320"/>
                </a:cubicBezTo>
                <a:cubicBezTo>
                  <a:pt x="19745" y="13362"/>
                  <a:pt x="19745" y="13387"/>
                  <a:pt x="19745" y="13345"/>
                </a:cubicBezTo>
              </a:path>
              <a:path w="4739" h="1216">
                <a:moveTo>
                  <a:pt x="19323" y="13022"/>
                </a:moveTo>
                <a:cubicBezTo>
                  <a:pt x="19521" y="12994"/>
                  <a:pt x="19916" y="12875"/>
                  <a:pt x="20092" y="13022"/>
                </a:cubicBezTo>
                <a:cubicBezTo>
                  <a:pt x="20146" y="13068"/>
                  <a:pt x="20166" y="13452"/>
                  <a:pt x="20166" y="13246"/>
                </a:cubicBezTo>
              </a:path>
              <a:path w="4739" h="1216">
                <a:moveTo>
                  <a:pt x="20538" y="12923"/>
                </a:moveTo>
                <a:cubicBezTo>
                  <a:pt x="20417" y="13017"/>
                  <a:pt x="20327" y="13203"/>
                  <a:pt x="20464" y="13345"/>
                </a:cubicBezTo>
                <a:cubicBezTo>
                  <a:pt x="20497" y="13353"/>
                  <a:pt x="20530" y="13362"/>
                  <a:pt x="20563" y="13370"/>
                </a:cubicBezTo>
                <a:cubicBezTo>
                  <a:pt x="20738" y="13194"/>
                  <a:pt x="20642" y="13131"/>
                  <a:pt x="20513" y="12948"/>
                </a:cubicBezTo>
                <a:cubicBezTo>
                  <a:pt x="20513" y="12923"/>
                  <a:pt x="20513" y="12915"/>
                  <a:pt x="20538" y="12923"/>
                </a:cubicBezTo>
                <a:cubicBezTo>
                  <a:pt x="20691" y="13043"/>
                  <a:pt x="20763" y="13139"/>
                  <a:pt x="20836" y="13320"/>
                </a:cubicBezTo>
                <a:cubicBezTo>
                  <a:pt x="20796" y="13200"/>
                  <a:pt x="20776" y="13158"/>
                  <a:pt x="20811" y="13022"/>
                </a:cubicBezTo>
                <a:cubicBezTo>
                  <a:pt x="20835" y="12931"/>
                  <a:pt x="20834" y="12934"/>
                  <a:pt x="20910" y="12923"/>
                </a:cubicBezTo>
                <a:cubicBezTo>
                  <a:pt x="21053" y="13028"/>
                  <a:pt x="21134" y="13140"/>
                  <a:pt x="21183" y="13320"/>
                </a:cubicBezTo>
                <a:cubicBezTo>
                  <a:pt x="21183" y="13366"/>
                  <a:pt x="21195" y="13357"/>
                  <a:pt x="21233" y="13271"/>
                </a:cubicBezTo>
              </a:path>
              <a:path w="4739" h="1216">
                <a:moveTo>
                  <a:pt x="21654" y="13072"/>
                </a:moveTo>
                <a:cubicBezTo>
                  <a:pt x="21619" y="13000"/>
                  <a:pt x="21482" y="12903"/>
                  <a:pt x="21382" y="12948"/>
                </a:cubicBezTo>
                <a:cubicBezTo>
                  <a:pt x="21128" y="13062"/>
                  <a:pt x="21200" y="13487"/>
                  <a:pt x="21456" y="13345"/>
                </a:cubicBezTo>
                <a:cubicBezTo>
                  <a:pt x="21560" y="13220"/>
                  <a:pt x="21601" y="13202"/>
                  <a:pt x="21580" y="13097"/>
                </a:cubicBezTo>
                <a:cubicBezTo>
                  <a:pt x="21633" y="13229"/>
                  <a:pt x="21656" y="13275"/>
                  <a:pt x="21754" y="13320"/>
                </a:cubicBezTo>
                <a:cubicBezTo>
                  <a:pt x="22059" y="13191"/>
                  <a:pt x="22010" y="13037"/>
                  <a:pt x="21977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30760" y="4983120"/>
            <a:ext cx="4278240" cy="561960"/>
          </a:xfrm>
          <a:custGeom>
            <a:avLst/>
            <a:gdLst/>
            <a:ahLst/>
            <a:rect l="l" t="t" r="r" b="b"/>
            <a:pathLst>
              <a:path w="11883" h="1564">
                <a:moveTo>
                  <a:pt x="10641" y="14784"/>
                </a:moveTo>
                <a:cubicBezTo>
                  <a:pt x="10795" y="14732"/>
                  <a:pt x="11013" y="14644"/>
                  <a:pt x="11137" y="14684"/>
                </a:cubicBezTo>
              </a:path>
              <a:path w="11883" h="1564">
                <a:moveTo>
                  <a:pt x="19794" y="14039"/>
                </a:moveTo>
                <a:cubicBezTo>
                  <a:pt x="20044" y="14058"/>
                  <a:pt x="20244" y="14067"/>
                  <a:pt x="20414" y="14263"/>
                </a:cubicBezTo>
                <a:cubicBezTo>
                  <a:pt x="20457" y="14326"/>
                  <a:pt x="20486" y="14351"/>
                  <a:pt x="20414" y="14337"/>
                </a:cubicBezTo>
              </a:path>
              <a:path w="11883" h="1564">
                <a:moveTo>
                  <a:pt x="20290" y="13915"/>
                </a:moveTo>
                <a:cubicBezTo>
                  <a:pt x="20290" y="13923"/>
                  <a:pt x="20290" y="13932"/>
                  <a:pt x="20290" y="13940"/>
                </a:cubicBezTo>
              </a:path>
              <a:path w="11883" h="1564">
                <a:moveTo>
                  <a:pt x="20290" y="13940"/>
                </a:moveTo>
                <a:lnTo>
                  <a:pt x="20290" y="13940"/>
                </a:lnTo>
              </a:path>
              <a:path w="11883" h="1564">
                <a:moveTo>
                  <a:pt x="20786" y="14015"/>
                </a:moveTo>
                <a:cubicBezTo>
                  <a:pt x="20613" y="14015"/>
                  <a:pt x="20471" y="14200"/>
                  <a:pt x="20662" y="14362"/>
                </a:cubicBezTo>
                <a:cubicBezTo>
                  <a:pt x="20862" y="14531"/>
                  <a:pt x="20940" y="14310"/>
                  <a:pt x="21010" y="14188"/>
                </a:cubicBezTo>
              </a:path>
              <a:path w="11883" h="1564">
                <a:moveTo>
                  <a:pt x="21059" y="14015"/>
                </a:moveTo>
                <a:cubicBezTo>
                  <a:pt x="21088" y="14114"/>
                  <a:pt x="21153" y="14297"/>
                  <a:pt x="21183" y="14312"/>
                </a:cubicBezTo>
              </a:path>
              <a:path w="11883" h="1564">
                <a:moveTo>
                  <a:pt x="21059" y="13891"/>
                </a:moveTo>
                <a:lnTo>
                  <a:pt x="21059" y="13891"/>
                </a:lnTo>
                <a:lnTo>
                  <a:pt x="21059" y="13891"/>
                </a:lnTo>
              </a:path>
              <a:path w="11883" h="1564">
                <a:moveTo>
                  <a:pt x="21059" y="13891"/>
                </a:moveTo>
                <a:lnTo>
                  <a:pt x="21059" y="13891"/>
                </a:lnTo>
              </a:path>
              <a:path w="11883" h="1564">
                <a:moveTo>
                  <a:pt x="22101" y="13915"/>
                </a:moveTo>
                <a:cubicBezTo>
                  <a:pt x="22249" y="13885"/>
                  <a:pt x="22374" y="13856"/>
                  <a:pt x="22523" y="13841"/>
                </a:cubicBezTo>
              </a:path>
              <a:path w="11883" h="1564">
                <a:moveTo>
                  <a:pt x="11956" y="15354"/>
                </a:moveTo>
                <a:cubicBezTo>
                  <a:pt x="12119" y="15231"/>
                  <a:pt x="12313" y="15108"/>
                  <a:pt x="12502" y="15280"/>
                </a:cubicBezTo>
                <a:cubicBezTo>
                  <a:pt x="12538" y="15353"/>
                  <a:pt x="12555" y="15358"/>
                  <a:pt x="12551" y="15404"/>
                </a:cubicBezTo>
              </a:path>
              <a:path w="11883" h="1564">
                <a:moveTo>
                  <a:pt x="12402" y="15056"/>
                </a:moveTo>
                <a:cubicBezTo>
                  <a:pt x="12410" y="15056"/>
                  <a:pt x="12419" y="15056"/>
                  <a:pt x="12427" y="15056"/>
                </a:cubicBezTo>
              </a:path>
              <a:path w="11883" h="1564">
                <a:moveTo>
                  <a:pt x="12427" y="15056"/>
                </a:moveTo>
                <a:lnTo>
                  <a:pt x="12427" y="1505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7720" y="5205240"/>
            <a:ext cx="1660320" cy="723960"/>
          </a:xfrm>
          <a:custGeom>
            <a:avLst/>
            <a:gdLst/>
            <a:ahLst/>
            <a:rect l="l" t="t" r="r" b="b"/>
            <a:pathLst>
              <a:path w="4614" h="2010">
                <a:moveTo>
                  <a:pt x="9327" y="16470"/>
                </a:moveTo>
                <a:cubicBezTo>
                  <a:pt x="9445" y="16352"/>
                  <a:pt x="9580" y="16261"/>
                  <a:pt x="9723" y="16173"/>
                </a:cubicBezTo>
                <a:cubicBezTo>
                  <a:pt x="9905" y="16062"/>
                  <a:pt x="10099" y="15953"/>
                  <a:pt x="10294" y="15875"/>
                </a:cubicBezTo>
                <a:cubicBezTo>
                  <a:pt x="10302" y="15875"/>
                  <a:pt x="10311" y="15875"/>
                  <a:pt x="10319" y="15875"/>
                </a:cubicBezTo>
              </a:path>
              <a:path w="4614" h="2010">
                <a:moveTo>
                  <a:pt x="9624" y="15999"/>
                </a:moveTo>
                <a:cubicBezTo>
                  <a:pt x="9531" y="16074"/>
                  <a:pt x="9497" y="16256"/>
                  <a:pt x="9426" y="16371"/>
                </a:cubicBezTo>
                <a:cubicBezTo>
                  <a:pt x="9401" y="16396"/>
                  <a:pt x="9393" y="16404"/>
                  <a:pt x="9426" y="16421"/>
                </a:cubicBezTo>
                <a:cubicBezTo>
                  <a:pt x="9563" y="16393"/>
                  <a:pt x="9675" y="16352"/>
                  <a:pt x="9823" y="16346"/>
                </a:cubicBezTo>
                <a:cubicBezTo>
                  <a:pt x="9851" y="16346"/>
                  <a:pt x="9861" y="16349"/>
                  <a:pt x="9872" y="16371"/>
                </a:cubicBezTo>
              </a:path>
              <a:path w="4614" h="2010">
                <a:moveTo>
                  <a:pt x="10716" y="15478"/>
                </a:moveTo>
                <a:cubicBezTo>
                  <a:pt x="10674" y="15562"/>
                  <a:pt x="10771" y="15911"/>
                  <a:pt x="10790" y="16049"/>
                </a:cubicBezTo>
                <a:cubicBezTo>
                  <a:pt x="10810" y="16187"/>
                  <a:pt x="10794" y="16220"/>
                  <a:pt x="10864" y="16272"/>
                </a:cubicBezTo>
                <a:cubicBezTo>
                  <a:pt x="10942" y="16161"/>
                  <a:pt x="11010" y="16000"/>
                  <a:pt x="10864" y="15900"/>
                </a:cubicBezTo>
                <a:cubicBezTo>
                  <a:pt x="10798" y="15854"/>
                  <a:pt x="10722" y="15872"/>
                  <a:pt x="10666" y="15900"/>
                </a:cubicBezTo>
              </a:path>
              <a:path w="4614" h="2010">
                <a:moveTo>
                  <a:pt x="11237" y="15677"/>
                </a:moveTo>
                <a:cubicBezTo>
                  <a:pt x="11151" y="15610"/>
                  <a:pt x="11138" y="15607"/>
                  <a:pt x="11038" y="15627"/>
                </a:cubicBezTo>
                <a:cubicBezTo>
                  <a:pt x="11050" y="15664"/>
                  <a:pt x="11078" y="15717"/>
                  <a:pt x="11112" y="15776"/>
                </a:cubicBezTo>
                <a:cubicBezTo>
                  <a:pt x="11129" y="15801"/>
                  <a:pt x="11145" y="15825"/>
                  <a:pt x="11162" y="15850"/>
                </a:cubicBezTo>
                <a:cubicBezTo>
                  <a:pt x="11135" y="15742"/>
                  <a:pt x="11065" y="15636"/>
                  <a:pt x="11187" y="15553"/>
                </a:cubicBezTo>
                <a:cubicBezTo>
                  <a:pt x="11268" y="15526"/>
                  <a:pt x="11300" y="15517"/>
                  <a:pt x="11361" y="15528"/>
                </a:cubicBezTo>
              </a:path>
              <a:path w="4614" h="2010">
                <a:moveTo>
                  <a:pt x="11633" y="15553"/>
                </a:moveTo>
                <a:cubicBezTo>
                  <a:pt x="11472" y="15526"/>
                  <a:pt x="11434" y="15509"/>
                  <a:pt x="11385" y="15701"/>
                </a:cubicBezTo>
                <a:cubicBezTo>
                  <a:pt x="11385" y="15734"/>
                  <a:pt x="11385" y="15768"/>
                  <a:pt x="11385" y="15801"/>
                </a:cubicBezTo>
                <a:cubicBezTo>
                  <a:pt x="11533" y="15771"/>
                  <a:pt x="11569" y="15723"/>
                  <a:pt x="11609" y="15577"/>
                </a:cubicBezTo>
                <a:cubicBezTo>
                  <a:pt x="11616" y="15611"/>
                  <a:pt x="11709" y="15805"/>
                  <a:pt x="11782" y="15701"/>
                </a:cubicBezTo>
                <a:cubicBezTo>
                  <a:pt x="11799" y="15652"/>
                  <a:pt x="11815" y="15602"/>
                  <a:pt x="11832" y="15553"/>
                </a:cubicBezTo>
              </a:path>
              <a:path w="4614" h="2010">
                <a:moveTo>
                  <a:pt x="11881" y="15404"/>
                </a:moveTo>
                <a:cubicBezTo>
                  <a:pt x="11736" y="15404"/>
                  <a:pt x="11795" y="15518"/>
                  <a:pt x="11807" y="15627"/>
                </a:cubicBezTo>
                <a:cubicBezTo>
                  <a:pt x="12059" y="15744"/>
                  <a:pt x="12186" y="15542"/>
                  <a:pt x="12179" y="15255"/>
                </a:cubicBezTo>
                <a:cubicBezTo>
                  <a:pt x="12138" y="15070"/>
                  <a:pt x="12138" y="15031"/>
                  <a:pt x="12080" y="14932"/>
                </a:cubicBezTo>
                <a:cubicBezTo>
                  <a:pt x="12160" y="15118"/>
                  <a:pt x="12243" y="15307"/>
                  <a:pt x="12353" y="15478"/>
                </a:cubicBezTo>
                <a:cubicBezTo>
                  <a:pt x="12345" y="15462"/>
                  <a:pt x="12336" y="15445"/>
                  <a:pt x="12328" y="15429"/>
                </a:cubicBezTo>
              </a:path>
              <a:path w="4614" h="2010">
                <a:moveTo>
                  <a:pt x="12799" y="15131"/>
                </a:moveTo>
                <a:cubicBezTo>
                  <a:pt x="12710" y="15254"/>
                  <a:pt x="12665" y="15318"/>
                  <a:pt x="12774" y="15429"/>
                </a:cubicBezTo>
                <a:cubicBezTo>
                  <a:pt x="12834" y="15362"/>
                  <a:pt x="12806" y="15144"/>
                  <a:pt x="12824" y="15131"/>
                </a:cubicBezTo>
                <a:cubicBezTo>
                  <a:pt x="12910" y="15069"/>
                  <a:pt x="13018" y="15231"/>
                  <a:pt x="13072" y="15280"/>
                </a:cubicBezTo>
                <a:cubicBezTo>
                  <a:pt x="13072" y="15344"/>
                  <a:pt x="13046" y="15084"/>
                  <a:pt x="13047" y="15056"/>
                </a:cubicBezTo>
                <a:cubicBezTo>
                  <a:pt x="13188" y="15113"/>
                  <a:pt x="13225" y="15212"/>
                  <a:pt x="13295" y="15354"/>
                </a:cubicBezTo>
              </a:path>
              <a:path w="4614" h="2010">
                <a:moveTo>
                  <a:pt x="13370" y="14932"/>
                </a:moveTo>
                <a:cubicBezTo>
                  <a:pt x="13344" y="15007"/>
                  <a:pt x="13197" y="15425"/>
                  <a:pt x="13419" y="15354"/>
                </a:cubicBezTo>
                <a:cubicBezTo>
                  <a:pt x="13575" y="15304"/>
                  <a:pt x="13522" y="15193"/>
                  <a:pt x="13494" y="15081"/>
                </a:cubicBezTo>
                <a:cubicBezTo>
                  <a:pt x="13494" y="15089"/>
                  <a:pt x="13494" y="15098"/>
                  <a:pt x="13494" y="15106"/>
                </a:cubicBezTo>
                <a:cubicBezTo>
                  <a:pt x="13642" y="15254"/>
                  <a:pt x="13812" y="15178"/>
                  <a:pt x="13816" y="14932"/>
                </a:cubicBezTo>
                <a:cubicBezTo>
                  <a:pt x="13819" y="14718"/>
                  <a:pt x="13695" y="14606"/>
                  <a:pt x="13568" y="14461"/>
                </a:cubicBezTo>
                <a:cubicBezTo>
                  <a:pt x="13623" y="14681"/>
                  <a:pt x="13740" y="14869"/>
                  <a:pt x="13866" y="15056"/>
                </a:cubicBezTo>
                <a:cubicBezTo>
                  <a:pt x="13891" y="15089"/>
                  <a:pt x="13915" y="15123"/>
                  <a:pt x="13940" y="151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45160" y="4938840"/>
            <a:ext cx="750960" cy="295200"/>
          </a:xfrm>
          <a:custGeom>
            <a:avLst/>
            <a:gdLst/>
            <a:ahLst/>
            <a:rect l="l" t="t" r="r" b="b"/>
            <a:pathLst>
              <a:path w="2084" h="820">
                <a:moveTo>
                  <a:pt x="18380" y="14015"/>
                </a:moveTo>
                <a:cubicBezTo>
                  <a:pt x="18421" y="14056"/>
                  <a:pt x="18443" y="14066"/>
                  <a:pt x="18455" y="14114"/>
                </a:cubicBezTo>
                <a:cubicBezTo>
                  <a:pt x="18425" y="13994"/>
                  <a:pt x="18344" y="13950"/>
                  <a:pt x="18231" y="13915"/>
                </a:cubicBezTo>
                <a:cubicBezTo>
                  <a:pt x="18186" y="14082"/>
                  <a:pt x="18098" y="14459"/>
                  <a:pt x="18355" y="14536"/>
                </a:cubicBezTo>
                <a:cubicBezTo>
                  <a:pt x="18524" y="14502"/>
                  <a:pt x="18596" y="14459"/>
                  <a:pt x="18653" y="14312"/>
                </a:cubicBezTo>
              </a:path>
              <a:path w="2084" h="820">
                <a:moveTo>
                  <a:pt x="18703" y="14015"/>
                </a:moveTo>
                <a:cubicBezTo>
                  <a:pt x="18562" y="14217"/>
                  <a:pt x="18541" y="14300"/>
                  <a:pt x="18703" y="14461"/>
                </a:cubicBezTo>
                <a:cubicBezTo>
                  <a:pt x="18894" y="14345"/>
                  <a:pt x="18983" y="14213"/>
                  <a:pt x="18752" y="14039"/>
                </a:cubicBezTo>
                <a:cubicBezTo>
                  <a:pt x="18684" y="14039"/>
                  <a:pt x="18681" y="14052"/>
                  <a:pt x="18777" y="14114"/>
                </a:cubicBezTo>
              </a:path>
              <a:path w="2084" h="820">
                <a:moveTo>
                  <a:pt x="19100" y="14163"/>
                </a:moveTo>
                <a:cubicBezTo>
                  <a:pt x="19174" y="14163"/>
                  <a:pt x="19249" y="14163"/>
                  <a:pt x="19323" y="14163"/>
                </a:cubicBezTo>
                <a:cubicBezTo>
                  <a:pt x="19302" y="14109"/>
                  <a:pt x="19139" y="13895"/>
                  <a:pt x="19050" y="14015"/>
                </a:cubicBezTo>
                <a:cubicBezTo>
                  <a:pt x="18843" y="14293"/>
                  <a:pt x="19139" y="14404"/>
                  <a:pt x="19323" y="14412"/>
                </a:cubicBezTo>
              </a:path>
              <a:path w="2084" h="820">
                <a:moveTo>
                  <a:pt x="19769" y="13767"/>
                </a:moveTo>
                <a:cubicBezTo>
                  <a:pt x="19555" y="13740"/>
                  <a:pt x="19476" y="13804"/>
                  <a:pt x="19521" y="14039"/>
                </a:cubicBezTo>
                <a:cubicBezTo>
                  <a:pt x="19537" y="14125"/>
                  <a:pt x="19704" y="14356"/>
                  <a:pt x="19596" y="14312"/>
                </a:cubicBezTo>
              </a:path>
              <a:path w="2084" h="820">
                <a:moveTo>
                  <a:pt x="19323" y="14089"/>
                </a:moveTo>
                <a:cubicBezTo>
                  <a:pt x="19542" y="14089"/>
                  <a:pt x="19724" y="14068"/>
                  <a:pt x="19943" y="14039"/>
                </a:cubicBezTo>
              </a:path>
              <a:path w="2084" h="820">
                <a:moveTo>
                  <a:pt x="20265" y="13767"/>
                </a:moveTo>
                <a:cubicBezTo>
                  <a:pt x="20149" y="13696"/>
                  <a:pt x="19952" y="13697"/>
                  <a:pt x="19918" y="13891"/>
                </a:cubicBezTo>
                <a:cubicBezTo>
                  <a:pt x="19885" y="14079"/>
                  <a:pt x="20053" y="14215"/>
                  <a:pt x="20117" y="143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70880" y="4884840"/>
            <a:ext cx="517320" cy="295200"/>
          </a:xfrm>
          <a:custGeom>
            <a:avLst/>
            <a:gdLst/>
            <a:ahLst/>
            <a:rect l="l" t="t" r="r" b="b"/>
            <a:pathLst>
              <a:path w="1440" h="820">
                <a:moveTo>
                  <a:pt x="21431" y="14064"/>
                </a:moveTo>
                <a:cubicBezTo>
                  <a:pt x="21534" y="14056"/>
                  <a:pt x="21638" y="14081"/>
                  <a:pt x="21605" y="13965"/>
                </a:cubicBezTo>
                <a:cubicBezTo>
                  <a:pt x="21434" y="13993"/>
                  <a:pt x="21167" y="14090"/>
                  <a:pt x="21382" y="14312"/>
                </a:cubicBezTo>
                <a:cubicBezTo>
                  <a:pt x="21600" y="14537"/>
                  <a:pt x="21731" y="14266"/>
                  <a:pt x="21779" y="14089"/>
                </a:cubicBezTo>
                <a:cubicBezTo>
                  <a:pt x="21798" y="14020"/>
                  <a:pt x="21842" y="14227"/>
                  <a:pt x="21853" y="14263"/>
                </a:cubicBezTo>
                <a:cubicBezTo>
                  <a:pt x="21809" y="14101"/>
                  <a:pt x="21833" y="14049"/>
                  <a:pt x="21952" y="13940"/>
                </a:cubicBezTo>
                <a:cubicBezTo>
                  <a:pt x="22022" y="13998"/>
                  <a:pt x="22135" y="14240"/>
                  <a:pt x="22200" y="14263"/>
                </a:cubicBezTo>
                <a:cubicBezTo>
                  <a:pt x="22225" y="14255"/>
                  <a:pt x="22250" y="14246"/>
                  <a:pt x="22275" y="14238"/>
                </a:cubicBezTo>
              </a:path>
              <a:path w="1440" h="820">
                <a:moveTo>
                  <a:pt x="22324" y="13568"/>
                </a:moveTo>
                <a:cubicBezTo>
                  <a:pt x="22308" y="13794"/>
                  <a:pt x="22301" y="14041"/>
                  <a:pt x="22448" y="14238"/>
                </a:cubicBezTo>
                <a:cubicBezTo>
                  <a:pt x="22554" y="14380"/>
                  <a:pt x="22676" y="14198"/>
                  <a:pt x="22746" y="141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87800" y="5205240"/>
            <a:ext cx="839520" cy="250920"/>
          </a:xfrm>
          <a:custGeom>
            <a:avLst/>
            <a:gdLst/>
            <a:ahLst/>
            <a:rect l="l" t="t" r="r" b="b"/>
            <a:pathLst>
              <a:path w="2333" h="696">
                <a:moveTo>
                  <a:pt x="9153" y="14511"/>
                </a:moveTo>
                <a:cubicBezTo>
                  <a:pt x="8972" y="14488"/>
                  <a:pt x="8859" y="14510"/>
                  <a:pt x="8855" y="14734"/>
                </a:cubicBezTo>
                <a:cubicBezTo>
                  <a:pt x="8852" y="14877"/>
                  <a:pt x="9103" y="15234"/>
                  <a:pt x="9004" y="15131"/>
                </a:cubicBezTo>
                <a:cubicBezTo>
                  <a:pt x="8996" y="15114"/>
                  <a:pt x="8987" y="15098"/>
                  <a:pt x="8979" y="15081"/>
                </a:cubicBezTo>
              </a:path>
              <a:path w="2333" h="696">
                <a:moveTo>
                  <a:pt x="8880" y="14858"/>
                </a:moveTo>
                <a:cubicBezTo>
                  <a:pt x="9105" y="14834"/>
                  <a:pt x="9296" y="14766"/>
                  <a:pt x="9376" y="15032"/>
                </a:cubicBezTo>
                <a:cubicBezTo>
                  <a:pt x="9393" y="15087"/>
                  <a:pt x="9414" y="15190"/>
                  <a:pt x="9351" y="15106"/>
                </a:cubicBezTo>
              </a:path>
              <a:path w="2333" h="696">
                <a:moveTo>
                  <a:pt x="9649" y="14734"/>
                </a:moveTo>
                <a:cubicBezTo>
                  <a:pt x="9649" y="14779"/>
                  <a:pt x="9602" y="14624"/>
                  <a:pt x="9525" y="14784"/>
                </a:cubicBezTo>
                <a:cubicBezTo>
                  <a:pt x="9432" y="14977"/>
                  <a:pt x="9641" y="15120"/>
                  <a:pt x="9798" y="14982"/>
                </a:cubicBezTo>
                <a:cubicBezTo>
                  <a:pt x="9831" y="14932"/>
                  <a:pt x="9864" y="14883"/>
                  <a:pt x="9897" y="14833"/>
                </a:cubicBezTo>
              </a:path>
              <a:path w="2333" h="696">
                <a:moveTo>
                  <a:pt x="9872" y="14660"/>
                </a:moveTo>
                <a:cubicBezTo>
                  <a:pt x="9920" y="14742"/>
                  <a:pt x="9997" y="15003"/>
                  <a:pt x="9996" y="14908"/>
                </a:cubicBezTo>
                <a:cubicBezTo>
                  <a:pt x="9988" y="14891"/>
                  <a:pt x="9979" y="14875"/>
                  <a:pt x="9971" y="14858"/>
                </a:cubicBezTo>
              </a:path>
              <a:path w="2333" h="696">
                <a:moveTo>
                  <a:pt x="10145" y="14734"/>
                </a:moveTo>
                <a:cubicBezTo>
                  <a:pt x="10189" y="14756"/>
                  <a:pt x="10338" y="14779"/>
                  <a:pt x="10344" y="14684"/>
                </a:cubicBezTo>
                <a:cubicBezTo>
                  <a:pt x="10336" y="14668"/>
                  <a:pt x="10327" y="14651"/>
                  <a:pt x="10319" y="14635"/>
                </a:cubicBezTo>
                <a:cubicBezTo>
                  <a:pt x="10146" y="14634"/>
                  <a:pt x="10029" y="14768"/>
                  <a:pt x="10145" y="14957"/>
                </a:cubicBezTo>
                <a:cubicBezTo>
                  <a:pt x="10271" y="15162"/>
                  <a:pt x="10401" y="14821"/>
                  <a:pt x="10443" y="14759"/>
                </a:cubicBezTo>
                <a:cubicBezTo>
                  <a:pt x="10471" y="14718"/>
                  <a:pt x="10443" y="14858"/>
                  <a:pt x="10443" y="14908"/>
                </a:cubicBezTo>
                <a:cubicBezTo>
                  <a:pt x="10443" y="14797"/>
                  <a:pt x="10450" y="14736"/>
                  <a:pt x="10517" y="14660"/>
                </a:cubicBezTo>
                <a:cubicBezTo>
                  <a:pt x="10712" y="14704"/>
                  <a:pt x="10727" y="14787"/>
                  <a:pt x="10740" y="14982"/>
                </a:cubicBezTo>
                <a:cubicBezTo>
                  <a:pt x="10740" y="15027"/>
                  <a:pt x="10737" y="15047"/>
                  <a:pt x="10765" y="15007"/>
                </a:cubicBezTo>
              </a:path>
              <a:path w="2333" h="696">
                <a:moveTo>
                  <a:pt x="10790" y="14461"/>
                </a:moveTo>
                <a:cubicBezTo>
                  <a:pt x="10815" y="14621"/>
                  <a:pt x="10828" y="14856"/>
                  <a:pt x="10889" y="15007"/>
                </a:cubicBezTo>
                <a:cubicBezTo>
                  <a:pt x="10961" y="15186"/>
                  <a:pt x="11127" y="14998"/>
                  <a:pt x="11187" y="149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30920" y="5276880"/>
            <a:ext cx="1357200" cy="992160"/>
          </a:xfrm>
          <a:custGeom>
            <a:avLst/>
            <a:gdLst/>
            <a:ahLst/>
            <a:rect l="l" t="t" r="r" b="b"/>
            <a:pathLst>
              <a:path w="3772" h="2754">
                <a:moveTo>
                  <a:pt x="17165" y="15974"/>
                </a:moveTo>
                <a:cubicBezTo>
                  <a:pt x="17264" y="15904"/>
                  <a:pt x="17516" y="15683"/>
                  <a:pt x="17636" y="15850"/>
                </a:cubicBezTo>
                <a:cubicBezTo>
                  <a:pt x="17747" y="16004"/>
                  <a:pt x="17478" y="16107"/>
                  <a:pt x="17388" y="16123"/>
                </a:cubicBezTo>
                <a:cubicBezTo>
                  <a:pt x="17447" y="16004"/>
                  <a:pt x="17611" y="15962"/>
                  <a:pt x="17711" y="16098"/>
                </a:cubicBezTo>
                <a:cubicBezTo>
                  <a:pt x="17863" y="16305"/>
                  <a:pt x="17524" y="16440"/>
                  <a:pt x="17388" y="16446"/>
                </a:cubicBezTo>
                <a:cubicBezTo>
                  <a:pt x="17225" y="16453"/>
                  <a:pt x="17264" y="16423"/>
                  <a:pt x="17363" y="16396"/>
                </a:cubicBezTo>
              </a:path>
              <a:path w="3772" h="2754">
                <a:moveTo>
                  <a:pt x="17314" y="16594"/>
                </a:moveTo>
                <a:cubicBezTo>
                  <a:pt x="17485" y="16549"/>
                  <a:pt x="17910" y="16386"/>
                  <a:pt x="18058" y="16446"/>
                </a:cubicBezTo>
              </a:path>
              <a:path w="3772" h="2754">
                <a:moveTo>
                  <a:pt x="17338" y="16917"/>
                </a:moveTo>
                <a:cubicBezTo>
                  <a:pt x="17330" y="16917"/>
                  <a:pt x="17322" y="16917"/>
                  <a:pt x="17314" y="16917"/>
                </a:cubicBezTo>
                <a:cubicBezTo>
                  <a:pt x="17327" y="16875"/>
                  <a:pt x="17437" y="16875"/>
                  <a:pt x="17487" y="16867"/>
                </a:cubicBezTo>
                <a:cubicBezTo>
                  <a:pt x="17606" y="16848"/>
                  <a:pt x="17692" y="16842"/>
                  <a:pt x="17810" y="16842"/>
                </a:cubicBezTo>
                <a:cubicBezTo>
                  <a:pt x="17810" y="16953"/>
                  <a:pt x="17746" y="17049"/>
                  <a:pt x="17735" y="17165"/>
                </a:cubicBezTo>
                <a:cubicBezTo>
                  <a:pt x="17726" y="17262"/>
                  <a:pt x="17725" y="17323"/>
                  <a:pt x="17711" y="17413"/>
                </a:cubicBezTo>
              </a:path>
              <a:path w="3772" h="2754">
                <a:moveTo>
                  <a:pt x="18604" y="16644"/>
                </a:moveTo>
                <a:cubicBezTo>
                  <a:pt x="18642" y="16817"/>
                  <a:pt x="18718" y="16990"/>
                  <a:pt x="18752" y="17165"/>
                </a:cubicBezTo>
                <a:cubicBezTo>
                  <a:pt x="18752" y="17190"/>
                  <a:pt x="18752" y="17214"/>
                  <a:pt x="18752" y="17239"/>
                </a:cubicBezTo>
                <a:cubicBezTo>
                  <a:pt x="18594" y="16996"/>
                  <a:pt x="18518" y="16794"/>
                  <a:pt x="18579" y="16495"/>
                </a:cubicBezTo>
                <a:cubicBezTo>
                  <a:pt x="18595" y="16454"/>
                  <a:pt x="18612" y="16412"/>
                  <a:pt x="18628" y="16371"/>
                </a:cubicBezTo>
                <a:cubicBezTo>
                  <a:pt x="18807" y="16371"/>
                  <a:pt x="19049" y="16411"/>
                  <a:pt x="18951" y="16669"/>
                </a:cubicBezTo>
                <a:cubicBezTo>
                  <a:pt x="18878" y="16862"/>
                  <a:pt x="18682" y="16806"/>
                  <a:pt x="18604" y="16694"/>
                </a:cubicBezTo>
              </a:path>
              <a:path w="3772" h="2754">
                <a:moveTo>
                  <a:pt x="19447" y="16371"/>
                </a:moveTo>
                <a:cubicBezTo>
                  <a:pt x="19566" y="16371"/>
                  <a:pt x="19677" y="16357"/>
                  <a:pt x="19794" y="16346"/>
                </a:cubicBezTo>
                <a:cubicBezTo>
                  <a:pt x="19839" y="16346"/>
                  <a:pt x="19852" y="16343"/>
                  <a:pt x="19869" y="16371"/>
                </a:cubicBezTo>
              </a:path>
              <a:path w="3772" h="2754">
                <a:moveTo>
                  <a:pt x="19546" y="16594"/>
                </a:moveTo>
                <a:cubicBezTo>
                  <a:pt x="19712" y="16594"/>
                  <a:pt x="19823" y="16598"/>
                  <a:pt x="19968" y="16520"/>
                </a:cubicBezTo>
              </a:path>
              <a:path w="3772" h="2754">
                <a:moveTo>
                  <a:pt x="16867" y="16793"/>
                </a:moveTo>
                <a:cubicBezTo>
                  <a:pt x="16841" y="16712"/>
                  <a:pt x="16845" y="16760"/>
                  <a:pt x="16743" y="16743"/>
                </a:cubicBezTo>
                <a:cubicBezTo>
                  <a:pt x="16621" y="16723"/>
                  <a:pt x="16495" y="16696"/>
                  <a:pt x="16396" y="16619"/>
                </a:cubicBezTo>
                <a:cubicBezTo>
                  <a:pt x="16322" y="16561"/>
                  <a:pt x="16260" y="16512"/>
                  <a:pt x="16222" y="16421"/>
                </a:cubicBezTo>
                <a:cubicBezTo>
                  <a:pt x="16160" y="16274"/>
                  <a:pt x="16220" y="16138"/>
                  <a:pt x="16272" y="15999"/>
                </a:cubicBezTo>
                <a:cubicBezTo>
                  <a:pt x="16331" y="15841"/>
                  <a:pt x="16429" y="15722"/>
                  <a:pt x="16545" y="15602"/>
                </a:cubicBezTo>
                <a:cubicBezTo>
                  <a:pt x="16639" y="15504"/>
                  <a:pt x="16733" y="15409"/>
                  <a:pt x="16818" y="15304"/>
                </a:cubicBezTo>
                <a:cubicBezTo>
                  <a:pt x="16919" y="15179"/>
                  <a:pt x="17025" y="15065"/>
                  <a:pt x="17115" y="14932"/>
                </a:cubicBezTo>
                <a:cubicBezTo>
                  <a:pt x="17161" y="14864"/>
                  <a:pt x="17218" y="14801"/>
                  <a:pt x="17264" y="14734"/>
                </a:cubicBezTo>
                <a:cubicBezTo>
                  <a:pt x="17297" y="14685"/>
                  <a:pt x="17288" y="14691"/>
                  <a:pt x="17239" y="14684"/>
                </a:cubicBezTo>
                <a:cubicBezTo>
                  <a:pt x="17195" y="14678"/>
                  <a:pt x="17175" y="14696"/>
                  <a:pt x="17140" y="14709"/>
                </a:cubicBezTo>
                <a:cubicBezTo>
                  <a:pt x="17174" y="14697"/>
                  <a:pt x="17232" y="14667"/>
                  <a:pt x="17264" y="14660"/>
                </a:cubicBezTo>
                <a:cubicBezTo>
                  <a:pt x="17340" y="14644"/>
                  <a:pt x="17296" y="14673"/>
                  <a:pt x="17289" y="14734"/>
                </a:cubicBezTo>
              </a:path>
              <a:path w="3772" h="2754">
                <a:moveTo>
                  <a:pt x="16718" y="16421"/>
                </a:moveTo>
                <a:cubicBezTo>
                  <a:pt x="16727" y="16393"/>
                  <a:pt x="16775" y="16378"/>
                  <a:pt x="16818" y="16396"/>
                </a:cubicBezTo>
                <a:cubicBezTo>
                  <a:pt x="16854" y="16411"/>
                  <a:pt x="16875" y="16484"/>
                  <a:pt x="16892" y="16495"/>
                </a:cubicBezTo>
                <a:cubicBezTo>
                  <a:pt x="16922" y="16515"/>
                  <a:pt x="16934" y="16588"/>
                  <a:pt x="16942" y="16644"/>
                </a:cubicBezTo>
                <a:cubicBezTo>
                  <a:pt x="16955" y="16735"/>
                  <a:pt x="16982" y="16824"/>
                  <a:pt x="16991" y="16917"/>
                </a:cubicBezTo>
                <a:cubicBezTo>
                  <a:pt x="16962" y="16830"/>
                  <a:pt x="16832" y="16895"/>
                  <a:pt x="16768" y="16917"/>
                </a:cubicBezTo>
                <a:cubicBezTo>
                  <a:pt x="16681" y="16947"/>
                  <a:pt x="16589" y="16989"/>
                  <a:pt x="16520" y="17041"/>
                </a:cubicBezTo>
                <a:cubicBezTo>
                  <a:pt x="16563" y="17084"/>
                  <a:pt x="16726" y="16977"/>
                  <a:pt x="16793" y="16942"/>
                </a:cubicBezTo>
                <a:cubicBezTo>
                  <a:pt x="16857" y="16909"/>
                  <a:pt x="16945" y="16922"/>
                  <a:pt x="16991" y="16867"/>
                </a:cubicBezTo>
                <a:cubicBezTo>
                  <a:pt x="17023" y="16828"/>
                  <a:pt x="16978" y="16652"/>
                  <a:pt x="16966" y="16619"/>
                </a:cubicBezTo>
                <a:cubicBezTo>
                  <a:pt x="16924" y="16505"/>
                  <a:pt x="16849" y="16404"/>
                  <a:pt x="16793" y="16297"/>
                </a:cubicBezTo>
                <a:cubicBezTo>
                  <a:pt x="16785" y="16280"/>
                  <a:pt x="16776" y="16264"/>
                  <a:pt x="16768" y="1624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56320" y="5715000"/>
            <a:ext cx="312840" cy="285840"/>
          </a:xfrm>
          <a:custGeom>
            <a:avLst/>
            <a:gdLst/>
            <a:ahLst/>
            <a:rect l="l" t="t" r="r" b="b"/>
            <a:pathLst>
              <a:path w="869" h="795">
                <a:moveTo>
                  <a:pt x="20712" y="15974"/>
                </a:moveTo>
                <a:cubicBezTo>
                  <a:pt x="20780" y="16205"/>
                  <a:pt x="20839" y="16437"/>
                  <a:pt x="20886" y="16669"/>
                </a:cubicBezTo>
                <a:cubicBezTo>
                  <a:pt x="20886" y="16661"/>
                  <a:pt x="20886" y="16652"/>
                  <a:pt x="20886" y="16644"/>
                </a:cubicBezTo>
              </a:path>
              <a:path w="869" h="795">
                <a:moveTo>
                  <a:pt x="21406" y="15875"/>
                </a:moveTo>
                <a:cubicBezTo>
                  <a:pt x="21216" y="15946"/>
                  <a:pt x="21153" y="15965"/>
                  <a:pt x="21034" y="16123"/>
                </a:cubicBezTo>
                <a:cubicBezTo>
                  <a:pt x="21180" y="16302"/>
                  <a:pt x="21379" y="16370"/>
                  <a:pt x="21580" y="16495"/>
                </a:cubicBezTo>
                <a:cubicBezTo>
                  <a:pt x="21494" y="16581"/>
                  <a:pt x="21206" y="16747"/>
                  <a:pt x="21233" y="16470"/>
                </a:cubicBezTo>
                <a:cubicBezTo>
                  <a:pt x="21250" y="16300"/>
                  <a:pt x="21403" y="16110"/>
                  <a:pt x="21357" y="159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0800" y="5419800"/>
            <a:ext cx="2197080" cy="795240"/>
          </a:xfrm>
          <a:custGeom>
            <a:avLst/>
            <a:gdLst/>
            <a:ahLst/>
            <a:rect l="l" t="t" r="r" b="b"/>
            <a:pathLst>
              <a:path w="6103" h="2209">
                <a:moveTo>
                  <a:pt x="8781" y="16123"/>
                </a:moveTo>
                <a:cubicBezTo>
                  <a:pt x="8827" y="16373"/>
                  <a:pt x="8882" y="16625"/>
                  <a:pt x="8954" y="16867"/>
                </a:cubicBezTo>
                <a:cubicBezTo>
                  <a:pt x="8974" y="16908"/>
                  <a:pt x="8983" y="16914"/>
                  <a:pt x="8979" y="16942"/>
                </a:cubicBezTo>
              </a:path>
              <a:path w="6103" h="2209">
                <a:moveTo>
                  <a:pt x="10145" y="16991"/>
                </a:moveTo>
                <a:cubicBezTo>
                  <a:pt x="10159" y="16987"/>
                  <a:pt x="10351" y="16892"/>
                  <a:pt x="10368" y="16917"/>
                </a:cubicBezTo>
                <a:cubicBezTo>
                  <a:pt x="10368" y="16933"/>
                  <a:pt x="10368" y="16950"/>
                  <a:pt x="10368" y="16966"/>
                </a:cubicBezTo>
              </a:path>
              <a:path w="6103" h="2209">
                <a:moveTo>
                  <a:pt x="10170" y="17264"/>
                </a:moveTo>
                <a:cubicBezTo>
                  <a:pt x="10252" y="17213"/>
                  <a:pt x="10328" y="17175"/>
                  <a:pt x="10418" y="17140"/>
                </a:cubicBezTo>
              </a:path>
              <a:path w="6103" h="2209">
                <a:moveTo>
                  <a:pt x="13271" y="15627"/>
                </a:moveTo>
                <a:cubicBezTo>
                  <a:pt x="13305" y="15591"/>
                  <a:pt x="13327" y="15578"/>
                  <a:pt x="13370" y="15577"/>
                </a:cubicBezTo>
              </a:path>
              <a:path w="6103" h="2209">
                <a:moveTo>
                  <a:pt x="13717" y="15304"/>
                </a:moveTo>
                <a:cubicBezTo>
                  <a:pt x="13776" y="15304"/>
                  <a:pt x="13802" y="15307"/>
                  <a:pt x="13841" y="15329"/>
                </a:cubicBezTo>
              </a:path>
              <a:path w="6103" h="2209">
                <a:moveTo>
                  <a:pt x="14560" y="15205"/>
                </a:moveTo>
                <a:cubicBezTo>
                  <a:pt x="14655" y="15161"/>
                  <a:pt x="14787" y="15092"/>
                  <a:pt x="14883" y="150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30680" y="5911920"/>
            <a:ext cx="741240" cy="606240"/>
          </a:xfrm>
          <a:custGeom>
            <a:avLst/>
            <a:gdLst/>
            <a:ahLst/>
            <a:rect l="l" t="t" r="r" b="b"/>
            <a:pathLst>
              <a:path w="2060" h="1687">
                <a:moveTo>
                  <a:pt x="8012" y="16669"/>
                </a:moveTo>
                <a:cubicBezTo>
                  <a:pt x="8020" y="16702"/>
                  <a:pt x="8029" y="16735"/>
                  <a:pt x="8037" y="16768"/>
                </a:cubicBezTo>
                <a:cubicBezTo>
                  <a:pt x="7973" y="16875"/>
                  <a:pt x="8024" y="16697"/>
                  <a:pt x="8111" y="16694"/>
                </a:cubicBezTo>
                <a:cubicBezTo>
                  <a:pt x="8470" y="16683"/>
                  <a:pt x="8393" y="17146"/>
                  <a:pt x="8285" y="17338"/>
                </a:cubicBezTo>
                <a:cubicBezTo>
                  <a:pt x="8183" y="17520"/>
                  <a:pt x="7972" y="17559"/>
                  <a:pt x="7863" y="17438"/>
                </a:cubicBezTo>
                <a:cubicBezTo>
                  <a:pt x="8011" y="17253"/>
                  <a:pt x="8136" y="17206"/>
                  <a:pt x="8359" y="17338"/>
                </a:cubicBezTo>
                <a:cubicBezTo>
                  <a:pt x="8376" y="17355"/>
                  <a:pt x="8392" y="17371"/>
                  <a:pt x="8409" y="17388"/>
                </a:cubicBezTo>
              </a:path>
              <a:path w="2060" h="1687">
                <a:moveTo>
                  <a:pt x="8657" y="16446"/>
                </a:moveTo>
                <a:cubicBezTo>
                  <a:pt x="8657" y="16520"/>
                  <a:pt x="8657" y="16595"/>
                  <a:pt x="8657" y="16669"/>
                </a:cubicBezTo>
                <a:cubicBezTo>
                  <a:pt x="8758" y="16712"/>
                  <a:pt x="8931" y="16672"/>
                  <a:pt x="8979" y="16545"/>
                </a:cubicBezTo>
                <a:cubicBezTo>
                  <a:pt x="8979" y="16504"/>
                  <a:pt x="8979" y="16462"/>
                  <a:pt x="8979" y="16421"/>
                </a:cubicBezTo>
              </a:path>
              <a:path w="2060" h="1687">
                <a:moveTo>
                  <a:pt x="8706" y="17140"/>
                </a:moveTo>
                <a:cubicBezTo>
                  <a:pt x="8878" y="17066"/>
                  <a:pt x="9111" y="16903"/>
                  <a:pt x="9302" y="16966"/>
                </a:cubicBezTo>
                <a:cubicBezTo>
                  <a:pt x="9302" y="16974"/>
                  <a:pt x="9302" y="16983"/>
                  <a:pt x="9302" y="16991"/>
                </a:cubicBezTo>
              </a:path>
              <a:path w="2060" h="1687">
                <a:moveTo>
                  <a:pt x="9227" y="17338"/>
                </a:moveTo>
                <a:cubicBezTo>
                  <a:pt x="9110" y="17261"/>
                  <a:pt x="8984" y="17320"/>
                  <a:pt x="8880" y="17413"/>
                </a:cubicBezTo>
                <a:cubicBezTo>
                  <a:pt x="8820" y="17494"/>
                  <a:pt x="8805" y="17507"/>
                  <a:pt x="8781" y="17562"/>
                </a:cubicBezTo>
                <a:cubicBezTo>
                  <a:pt x="8936" y="17603"/>
                  <a:pt x="9071" y="17622"/>
                  <a:pt x="9203" y="17711"/>
                </a:cubicBezTo>
                <a:cubicBezTo>
                  <a:pt x="9134" y="17790"/>
                  <a:pt x="8975" y="17884"/>
                  <a:pt x="8954" y="17686"/>
                </a:cubicBezTo>
                <a:cubicBezTo>
                  <a:pt x="8941" y="17562"/>
                  <a:pt x="9006" y="17479"/>
                  <a:pt x="9103" y="17438"/>
                </a:cubicBezTo>
              </a:path>
              <a:path w="2060" h="1687">
                <a:moveTo>
                  <a:pt x="9500" y="17214"/>
                </a:moveTo>
                <a:cubicBezTo>
                  <a:pt x="9416" y="17242"/>
                  <a:pt x="9545" y="17367"/>
                  <a:pt x="9599" y="17388"/>
                </a:cubicBezTo>
                <a:cubicBezTo>
                  <a:pt x="9789" y="17461"/>
                  <a:pt x="9750" y="17173"/>
                  <a:pt x="9723" y="17090"/>
                </a:cubicBezTo>
                <a:cubicBezTo>
                  <a:pt x="9715" y="17082"/>
                  <a:pt x="9707" y="17074"/>
                  <a:pt x="9699" y="17066"/>
                </a:cubicBezTo>
                <a:cubicBezTo>
                  <a:pt x="9782" y="17272"/>
                  <a:pt x="9915" y="17424"/>
                  <a:pt x="9922" y="17661"/>
                </a:cubicBezTo>
                <a:cubicBezTo>
                  <a:pt x="9925" y="17777"/>
                  <a:pt x="9750" y="18267"/>
                  <a:pt x="9550" y="18083"/>
                </a:cubicBezTo>
                <a:cubicBezTo>
                  <a:pt x="9495" y="17946"/>
                  <a:pt x="9480" y="17891"/>
                  <a:pt x="9525" y="177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19680" y="5983200"/>
            <a:ext cx="72720" cy="241560"/>
          </a:xfrm>
          <a:custGeom>
            <a:avLst/>
            <a:gdLst/>
            <a:ahLst/>
            <a:rect l="l" t="t" r="r" b="b"/>
            <a:pathLst>
              <a:path w="200" h="671">
                <a:moveTo>
                  <a:pt x="10889" y="16619"/>
                </a:moveTo>
                <a:cubicBezTo>
                  <a:pt x="10960" y="16822"/>
                  <a:pt x="11041" y="17029"/>
                  <a:pt x="11088" y="17239"/>
                </a:cubicBezTo>
                <a:cubicBezTo>
                  <a:pt x="11088" y="17281"/>
                  <a:pt x="11088" y="17306"/>
                  <a:pt x="11088" y="172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71960" y="5973840"/>
            <a:ext cx="81000" cy="250920"/>
          </a:xfrm>
          <a:custGeom>
            <a:avLst/>
            <a:gdLst/>
            <a:ahLst/>
            <a:rect l="l" t="t" r="r" b="b"/>
            <a:pathLst>
              <a:path w="224" h="696">
                <a:moveTo>
                  <a:pt x="11311" y="16594"/>
                </a:moveTo>
                <a:cubicBezTo>
                  <a:pt x="11448" y="16792"/>
                  <a:pt x="11452" y="16985"/>
                  <a:pt x="11509" y="17214"/>
                </a:cubicBezTo>
                <a:cubicBezTo>
                  <a:pt x="11529" y="17255"/>
                  <a:pt x="11538" y="17261"/>
                  <a:pt x="11534" y="172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76800" y="5367240"/>
            <a:ext cx="1144440" cy="517680"/>
          </a:xfrm>
          <a:custGeom>
            <a:avLst/>
            <a:gdLst/>
            <a:ahLst/>
            <a:rect l="l" t="t" r="r" b="b"/>
            <a:pathLst>
              <a:path w="3176" h="1439">
                <a:moveTo>
                  <a:pt x="12055" y="15974"/>
                </a:moveTo>
                <a:cubicBezTo>
                  <a:pt x="12078" y="16043"/>
                  <a:pt x="12000" y="15953"/>
                  <a:pt x="11931" y="15925"/>
                </a:cubicBezTo>
                <a:cubicBezTo>
                  <a:pt x="11889" y="16049"/>
                  <a:pt x="11857" y="16345"/>
                  <a:pt x="12080" y="16346"/>
                </a:cubicBezTo>
                <a:cubicBezTo>
                  <a:pt x="12201" y="16298"/>
                  <a:pt x="12241" y="16284"/>
                  <a:pt x="12278" y="16197"/>
                </a:cubicBezTo>
              </a:path>
              <a:path w="3176" h="1439">
                <a:moveTo>
                  <a:pt x="12353" y="15999"/>
                </a:moveTo>
                <a:cubicBezTo>
                  <a:pt x="12336" y="16068"/>
                  <a:pt x="12294" y="16195"/>
                  <a:pt x="12328" y="16272"/>
                </a:cubicBezTo>
                <a:cubicBezTo>
                  <a:pt x="12353" y="16297"/>
                  <a:pt x="12377" y="16321"/>
                  <a:pt x="12402" y="16346"/>
                </a:cubicBezTo>
                <a:cubicBezTo>
                  <a:pt x="12502" y="16278"/>
                  <a:pt x="12787" y="16026"/>
                  <a:pt x="12502" y="15949"/>
                </a:cubicBezTo>
                <a:cubicBezTo>
                  <a:pt x="12408" y="15968"/>
                  <a:pt x="12388" y="15955"/>
                  <a:pt x="12353" y="15999"/>
                </a:cubicBezTo>
              </a:path>
              <a:path w="3176" h="1439">
                <a:moveTo>
                  <a:pt x="12675" y="16049"/>
                </a:moveTo>
                <a:cubicBezTo>
                  <a:pt x="12737" y="16005"/>
                  <a:pt x="12760" y="16009"/>
                  <a:pt x="12774" y="15949"/>
                </a:cubicBezTo>
                <a:cubicBezTo>
                  <a:pt x="12666" y="15918"/>
                  <a:pt x="12474" y="15965"/>
                  <a:pt x="12601" y="16123"/>
                </a:cubicBezTo>
                <a:cubicBezTo>
                  <a:pt x="12707" y="16254"/>
                  <a:pt x="12862" y="16100"/>
                  <a:pt x="12948" y="16049"/>
                </a:cubicBezTo>
              </a:path>
              <a:path w="3176" h="1439">
                <a:moveTo>
                  <a:pt x="12998" y="15553"/>
                </a:moveTo>
                <a:cubicBezTo>
                  <a:pt x="12866" y="15744"/>
                  <a:pt x="12846" y="15782"/>
                  <a:pt x="12998" y="15974"/>
                </a:cubicBezTo>
                <a:cubicBezTo>
                  <a:pt x="13035" y="16021"/>
                  <a:pt x="13086" y="16030"/>
                  <a:pt x="13047" y="16049"/>
                </a:cubicBezTo>
              </a:path>
              <a:path w="3176" h="1439">
                <a:moveTo>
                  <a:pt x="12774" y="15974"/>
                </a:moveTo>
                <a:cubicBezTo>
                  <a:pt x="12897" y="15912"/>
                  <a:pt x="13018" y="15852"/>
                  <a:pt x="13146" y="15801"/>
                </a:cubicBezTo>
              </a:path>
              <a:path w="3176" h="1439">
                <a:moveTo>
                  <a:pt x="13295" y="15528"/>
                </a:moveTo>
                <a:cubicBezTo>
                  <a:pt x="13174" y="15562"/>
                  <a:pt x="13069" y="15630"/>
                  <a:pt x="13097" y="15776"/>
                </a:cubicBezTo>
                <a:cubicBezTo>
                  <a:pt x="13120" y="15896"/>
                  <a:pt x="13247" y="15901"/>
                  <a:pt x="13271" y="15999"/>
                </a:cubicBezTo>
              </a:path>
              <a:path w="3176" h="1439">
                <a:moveTo>
                  <a:pt x="13022" y="15900"/>
                </a:moveTo>
                <a:cubicBezTo>
                  <a:pt x="13123" y="15839"/>
                  <a:pt x="13289" y="15706"/>
                  <a:pt x="13419" y="15751"/>
                </a:cubicBezTo>
                <a:cubicBezTo>
                  <a:pt x="13507" y="15782"/>
                  <a:pt x="13519" y="15846"/>
                  <a:pt x="13519" y="15925"/>
                </a:cubicBezTo>
              </a:path>
              <a:path w="3176" h="1439">
                <a:moveTo>
                  <a:pt x="13494" y="15726"/>
                </a:moveTo>
                <a:cubicBezTo>
                  <a:pt x="13521" y="15711"/>
                  <a:pt x="13696" y="15618"/>
                  <a:pt x="13643" y="15553"/>
                </a:cubicBezTo>
                <a:cubicBezTo>
                  <a:pt x="13635" y="15553"/>
                  <a:pt x="13626" y="15553"/>
                  <a:pt x="13618" y="15553"/>
                </a:cubicBezTo>
                <a:cubicBezTo>
                  <a:pt x="13546" y="15553"/>
                  <a:pt x="13571" y="15685"/>
                  <a:pt x="13593" y="15751"/>
                </a:cubicBezTo>
                <a:cubicBezTo>
                  <a:pt x="13658" y="15944"/>
                  <a:pt x="13822" y="15791"/>
                  <a:pt x="13915" y="15726"/>
                </a:cubicBezTo>
              </a:path>
              <a:path w="3176" h="1439">
                <a:moveTo>
                  <a:pt x="14015" y="15478"/>
                </a:moveTo>
                <a:cubicBezTo>
                  <a:pt x="14043" y="15507"/>
                  <a:pt x="14055" y="15517"/>
                  <a:pt x="14064" y="15553"/>
                </a:cubicBezTo>
                <a:cubicBezTo>
                  <a:pt x="14090" y="15570"/>
                  <a:pt x="14113" y="15629"/>
                  <a:pt x="14139" y="15677"/>
                </a:cubicBezTo>
              </a:path>
              <a:path w="3176" h="1439">
                <a:moveTo>
                  <a:pt x="14163" y="15478"/>
                </a:moveTo>
                <a:cubicBezTo>
                  <a:pt x="14242" y="15450"/>
                  <a:pt x="14303" y="15447"/>
                  <a:pt x="14312" y="15354"/>
                </a:cubicBezTo>
                <a:cubicBezTo>
                  <a:pt x="14312" y="15346"/>
                  <a:pt x="14312" y="15337"/>
                  <a:pt x="14312" y="15329"/>
                </a:cubicBezTo>
                <a:cubicBezTo>
                  <a:pt x="14196" y="15358"/>
                  <a:pt x="14036" y="15480"/>
                  <a:pt x="14213" y="15602"/>
                </a:cubicBezTo>
                <a:cubicBezTo>
                  <a:pt x="14337" y="15687"/>
                  <a:pt x="14412" y="15443"/>
                  <a:pt x="14461" y="15453"/>
                </a:cubicBezTo>
                <a:cubicBezTo>
                  <a:pt x="14499" y="15461"/>
                  <a:pt x="14487" y="15523"/>
                  <a:pt x="14511" y="15553"/>
                </a:cubicBezTo>
                <a:cubicBezTo>
                  <a:pt x="14488" y="15460"/>
                  <a:pt x="14467" y="15361"/>
                  <a:pt x="14461" y="15255"/>
                </a:cubicBezTo>
                <a:cubicBezTo>
                  <a:pt x="14550" y="15273"/>
                  <a:pt x="14608" y="15378"/>
                  <a:pt x="14660" y="15453"/>
                </a:cubicBezTo>
                <a:cubicBezTo>
                  <a:pt x="14768" y="15610"/>
                  <a:pt x="14799" y="15252"/>
                  <a:pt x="14808" y="15205"/>
                </a:cubicBezTo>
              </a:path>
              <a:path w="3176" h="1439">
                <a:moveTo>
                  <a:pt x="14684" y="14908"/>
                </a:moveTo>
                <a:cubicBezTo>
                  <a:pt x="14684" y="15020"/>
                  <a:pt x="14750" y="15205"/>
                  <a:pt x="14808" y="15304"/>
                </a:cubicBezTo>
                <a:cubicBezTo>
                  <a:pt x="14895" y="15452"/>
                  <a:pt x="14994" y="15409"/>
                  <a:pt x="15056" y="153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7280" y="4473720"/>
            <a:ext cx="268560" cy="241200"/>
          </a:xfrm>
          <a:custGeom>
            <a:avLst/>
            <a:gdLst/>
            <a:ahLst/>
            <a:rect l="l" t="t" r="r" b="b"/>
            <a:pathLst>
              <a:path w="746" h="671">
                <a:moveTo>
                  <a:pt x="6548" y="12502"/>
                </a:moveTo>
                <a:cubicBezTo>
                  <a:pt x="6739" y="12461"/>
                  <a:pt x="6971" y="12326"/>
                  <a:pt x="6970" y="12551"/>
                </a:cubicBezTo>
              </a:path>
              <a:path w="746" h="671">
                <a:moveTo>
                  <a:pt x="7293" y="12675"/>
                </a:moveTo>
                <a:cubicBezTo>
                  <a:pt x="7189" y="12831"/>
                  <a:pt x="7097" y="12961"/>
                  <a:pt x="6970" y="130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4572000"/>
            <a:ext cx="106200" cy="12528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7045" y="12700"/>
                </a:moveTo>
                <a:cubicBezTo>
                  <a:pt x="7116" y="12810"/>
                  <a:pt x="7196" y="12981"/>
                  <a:pt x="7317" y="13047"/>
                </a:cubicBezTo>
                <a:cubicBezTo>
                  <a:pt x="7345" y="13047"/>
                  <a:pt x="7351" y="13045"/>
                  <a:pt x="7317" y="130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n equation with a coefficient containing a fraction, you will need to divide by the fraction to solve for the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752480" y="4038480"/>
                <a:ext cx="1371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589040" y="3456000"/>
            <a:ext cx="4108320" cy="285840"/>
          </a:xfrm>
          <a:custGeom>
            <a:avLst/>
            <a:gdLst/>
            <a:ahLst/>
            <a:rect l="l" t="t" r="r" b="b"/>
            <a:pathLst>
              <a:path w="11411" h="795">
                <a:moveTo>
                  <a:pt x="4415" y="9624"/>
                </a:moveTo>
                <a:cubicBezTo>
                  <a:pt x="4415" y="9691"/>
                  <a:pt x="4422" y="9741"/>
                  <a:pt x="4440" y="9798"/>
                </a:cubicBezTo>
              </a:path>
              <a:path w="11411" h="795">
                <a:moveTo>
                  <a:pt x="4415" y="10368"/>
                </a:moveTo>
                <a:cubicBezTo>
                  <a:pt x="4432" y="10376"/>
                  <a:pt x="4448" y="10385"/>
                  <a:pt x="4465" y="10393"/>
                </a:cubicBezTo>
              </a:path>
              <a:path w="11411" h="795">
                <a:moveTo>
                  <a:pt x="4465" y="10393"/>
                </a:moveTo>
                <a:lnTo>
                  <a:pt x="4465" y="10393"/>
                </a:lnTo>
              </a:path>
              <a:path w="11411" h="795">
                <a:moveTo>
                  <a:pt x="7913" y="9723"/>
                </a:moveTo>
                <a:cubicBezTo>
                  <a:pt x="7969" y="9864"/>
                  <a:pt x="8162" y="10186"/>
                  <a:pt x="8086" y="10344"/>
                </a:cubicBezTo>
                <a:cubicBezTo>
                  <a:pt x="8078" y="10336"/>
                  <a:pt x="8070" y="10327"/>
                  <a:pt x="8062" y="10319"/>
                </a:cubicBezTo>
              </a:path>
              <a:path w="11411" h="795">
                <a:moveTo>
                  <a:pt x="12750" y="9723"/>
                </a:moveTo>
                <a:cubicBezTo>
                  <a:pt x="12628" y="9628"/>
                  <a:pt x="12407" y="9502"/>
                  <a:pt x="12378" y="9773"/>
                </a:cubicBezTo>
                <a:cubicBezTo>
                  <a:pt x="12364" y="9905"/>
                  <a:pt x="12527" y="10241"/>
                  <a:pt x="12477" y="10195"/>
                </a:cubicBezTo>
              </a:path>
              <a:path w="11411" h="795">
                <a:moveTo>
                  <a:pt x="13271" y="9847"/>
                </a:moveTo>
                <a:cubicBezTo>
                  <a:pt x="13279" y="9847"/>
                  <a:pt x="13287" y="9847"/>
                  <a:pt x="13295" y="9847"/>
                </a:cubicBezTo>
              </a:path>
              <a:path w="11411" h="795">
                <a:moveTo>
                  <a:pt x="14089" y="9947"/>
                </a:moveTo>
                <a:cubicBezTo>
                  <a:pt x="14107" y="10056"/>
                  <a:pt x="14121" y="10173"/>
                  <a:pt x="14163" y="10269"/>
                </a:cubicBezTo>
              </a:path>
              <a:path w="11411" h="795">
                <a:moveTo>
                  <a:pt x="14064" y="9748"/>
                </a:moveTo>
                <a:cubicBezTo>
                  <a:pt x="14056" y="9748"/>
                  <a:pt x="14047" y="9748"/>
                  <a:pt x="14039" y="9748"/>
                </a:cubicBezTo>
              </a:path>
              <a:path w="11411" h="795">
                <a:moveTo>
                  <a:pt x="15354" y="9823"/>
                </a:moveTo>
                <a:cubicBezTo>
                  <a:pt x="15503" y="9804"/>
                  <a:pt x="15652" y="9770"/>
                  <a:pt x="15801" y="9748"/>
                </a:cubicBezTo>
                <a:cubicBezTo>
                  <a:pt x="15809" y="9748"/>
                  <a:pt x="15817" y="9748"/>
                  <a:pt x="15825" y="97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1200" y="3652920"/>
            <a:ext cx="320760" cy="27000"/>
          </a:xfrm>
          <a:custGeom>
            <a:avLst/>
            <a:gdLst/>
            <a:ahLst/>
            <a:rect l="l" t="t" r="r" b="b"/>
            <a:pathLst>
              <a:path w="894" h="76">
                <a:moveTo>
                  <a:pt x="3919" y="10220"/>
                </a:moveTo>
                <a:cubicBezTo>
                  <a:pt x="4199" y="10182"/>
                  <a:pt x="4479" y="10153"/>
                  <a:pt x="4762" y="10145"/>
                </a:cubicBezTo>
                <a:cubicBezTo>
                  <a:pt x="4779" y="10145"/>
                  <a:pt x="4795" y="10145"/>
                  <a:pt x="4812" y="101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55880" y="3537000"/>
            <a:ext cx="366480" cy="303120"/>
          </a:xfrm>
          <a:custGeom>
            <a:avLst/>
            <a:gdLst/>
            <a:ahLst/>
            <a:rect l="l" t="t" r="r" b="b"/>
            <a:pathLst>
              <a:path w="1018" h="844">
                <a:moveTo>
                  <a:pt x="5432" y="9823"/>
                </a:moveTo>
                <a:cubicBezTo>
                  <a:pt x="5521" y="10069"/>
                  <a:pt x="5547" y="10132"/>
                  <a:pt x="5581" y="10294"/>
                </a:cubicBezTo>
                <a:cubicBezTo>
                  <a:pt x="5622" y="10457"/>
                  <a:pt x="5543" y="10203"/>
                  <a:pt x="5606" y="10096"/>
                </a:cubicBezTo>
                <a:cubicBezTo>
                  <a:pt x="5639" y="10063"/>
                  <a:pt x="5672" y="10029"/>
                  <a:pt x="5705" y="9996"/>
                </a:cubicBezTo>
                <a:cubicBezTo>
                  <a:pt x="5851" y="10059"/>
                  <a:pt x="6083" y="10259"/>
                  <a:pt x="5779" y="10368"/>
                </a:cubicBezTo>
                <a:cubicBezTo>
                  <a:pt x="5667" y="10368"/>
                  <a:pt x="5632" y="10378"/>
                  <a:pt x="5606" y="10294"/>
                </a:cubicBezTo>
              </a:path>
              <a:path w="1018" h="844">
                <a:moveTo>
                  <a:pt x="6127" y="10120"/>
                </a:moveTo>
                <a:cubicBezTo>
                  <a:pt x="6140" y="10236"/>
                  <a:pt x="6213" y="10463"/>
                  <a:pt x="6375" y="10269"/>
                </a:cubicBezTo>
                <a:cubicBezTo>
                  <a:pt x="6411" y="10179"/>
                  <a:pt x="6391" y="10137"/>
                  <a:pt x="6449" y="10145"/>
                </a:cubicBezTo>
                <a:cubicBezTo>
                  <a:pt x="6449" y="10302"/>
                  <a:pt x="6507" y="10507"/>
                  <a:pt x="6350" y="10616"/>
                </a:cubicBezTo>
                <a:cubicBezTo>
                  <a:pt x="6111" y="10782"/>
                  <a:pt x="6033" y="10642"/>
                  <a:pt x="5978" y="104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86040" y="3527280"/>
            <a:ext cx="608040" cy="204840"/>
          </a:xfrm>
          <a:custGeom>
            <a:avLst/>
            <a:gdLst/>
            <a:ahLst/>
            <a:rect l="l" t="t" r="r" b="b"/>
            <a:pathLst>
              <a:path w="1688" h="571">
                <a:moveTo>
                  <a:pt x="7739" y="10195"/>
                </a:moveTo>
                <a:cubicBezTo>
                  <a:pt x="8043" y="10214"/>
                  <a:pt x="8249" y="10236"/>
                  <a:pt x="8359" y="9897"/>
                </a:cubicBezTo>
                <a:cubicBezTo>
                  <a:pt x="8426" y="9692"/>
                  <a:pt x="8433" y="10152"/>
                  <a:pt x="8458" y="10294"/>
                </a:cubicBezTo>
                <a:cubicBezTo>
                  <a:pt x="8466" y="10311"/>
                  <a:pt x="8475" y="10327"/>
                  <a:pt x="8483" y="10344"/>
                </a:cubicBezTo>
                <a:cubicBezTo>
                  <a:pt x="8483" y="10290"/>
                  <a:pt x="8456" y="9937"/>
                  <a:pt x="8607" y="9996"/>
                </a:cubicBezTo>
                <a:cubicBezTo>
                  <a:pt x="8728" y="10044"/>
                  <a:pt x="8759" y="10240"/>
                  <a:pt x="8806" y="10344"/>
                </a:cubicBezTo>
              </a:path>
              <a:path w="1688" h="571">
                <a:moveTo>
                  <a:pt x="8855" y="10195"/>
                </a:moveTo>
                <a:cubicBezTo>
                  <a:pt x="8889" y="10172"/>
                  <a:pt x="9104" y="10061"/>
                  <a:pt x="9079" y="9996"/>
                </a:cubicBezTo>
                <a:cubicBezTo>
                  <a:pt x="9062" y="9988"/>
                  <a:pt x="9046" y="9979"/>
                  <a:pt x="9029" y="9971"/>
                </a:cubicBezTo>
                <a:cubicBezTo>
                  <a:pt x="8910" y="10001"/>
                  <a:pt x="8633" y="10211"/>
                  <a:pt x="8880" y="10344"/>
                </a:cubicBezTo>
                <a:cubicBezTo>
                  <a:pt x="9130" y="10374"/>
                  <a:pt x="9247" y="10371"/>
                  <a:pt x="9426" y="102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3760" y="3456000"/>
            <a:ext cx="1009440" cy="268200"/>
          </a:xfrm>
          <a:custGeom>
            <a:avLst/>
            <a:gdLst/>
            <a:ahLst/>
            <a:rect l="l" t="t" r="r" b="b"/>
            <a:pathLst>
              <a:path w="2804" h="746">
                <a:moveTo>
                  <a:pt x="10790" y="9947"/>
                </a:moveTo>
                <a:cubicBezTo>
                  <a:pt x="10846" y="9983"/>
                  <a:pt x="10763" y="9894"/>
                  <a:pt x="10716" y="9847"/>
                </a:cubicBezTo>
                <a:cubicBezTo>
                  <a:pt x="10618" y="9920"/>
                  <a:pt x="10431" y="10254"/>
                  <a:pt x="10691" y="10319"/>
                </a:cubicBezTo>
                <a:cubicBezTo>
                  <a:pt x="10903" y="10258"/>
                  <a:pt x="10994" y="10218"/>
                  <a:pt x="11112" y="10096"/>
                </a:cubicBezTo>
              </a:path>
              <a:path w="2804" h="746">
                <a:moveTo>
                  <a:pt x="11162" y="9947"/>
                </a:moveTo>
                <a:cubicBezTo>
                  <a:pt x="11087" y="10017"/>
                  <a:pt x="10822" y="10274"/>
                  <a:pt x="11088" y="10344"/>
                </a:cubicBezTo>
                <a:cubicBezTo>
                  <a:pt x="11260" y="10389"/>
                  <a:pt x="11496" y="10120"/>
                  <a:pt x="11311" y="9996"/>
                </a:cubicBezTo>
                <a:cubicBezTo>
                  <a:pt x="11254" y="9996"/>
                  <a:pt x="11212" y="9996"/>
                  <a:pt x="11261" y="9996"/>
                </a:cubicBezTo>
              </a:path>
              <a:path w="2804" h="746">
                <a:moveTo>
                  <a:pt x="11658" y="10046"/>
                </a:moveTo>
                <a:cubicBezTo>
                  <a:pt x="11716" y="10046"/>
                  <a:pt x="11774" y="10046"/>
                  <a:pt x="11832" y="10046"/>
                </a:cubicBezTo>
                <a:cubicBezTo>
                  <a:pt x="11711" y="9943"/>
                  <a:pt x="11486" y="9887"/>
                  <a:pt x="11559" y="10170"/>
                </a:cubicBezTo>
                <a:cubicBezTo>
                  <a:pt x="11623" y="10415"/>
                  <a:pt x="11825" y="10283"/>
                  <a:pt x="11981" y="10244"/>
                </a:cubicBezTo>
              </a:path>
              <a:path w="2804" h="746">
                <a:moveTo>
                  <a:pt x="12154" y="9971"/>
                </a:moveTo>
                <a:cubicBezTo>
                  <a:pt x="12380" y="9971"/>
                  <a:pt x="12599" y="9965"/>
                  <a:pt x="12824" y="9947"/>
                </a:cubicBezTo>
              </a:path>
              <a:path w="2804" h="746">
                <a:moveTo>
                  <a:pt x="13246" y="9674"/>
                </a:moveTo>
                <a:cubicBezTo>
                  <a:pt x="13150" y="9562"/>
                  <a:pt x="13021" y="9572"/>
                  <a:pt x="12898" y="9674"/>
                </a:cubicBezTo>
                <a:cubicBezTo>
                  <a:pt x="12724" y="9819"/>
                  <a:pt x="12910" y="10033"/>
                  <a:pt x="12948" y="10195"/>
                </a:cubicBezTo>
                <a:cubicBezTo>
                  <a:pt x="12948" y="10220"/>
                  <a:pt x="12948" y="10244"/>
                  <a:pt x="12948" y="10269"/>
                </a:cubicBezTo>
              </a:path>
              <a:path w="2804" h="746">
                <a:moveTo>
                  <a:pt x="12799" y="9971"/>
                </a:moveTo>
                <a:cubicBezTo>
                  <a:pt x="12996" y="9950"/>
                  <a:pt x="13204" y="9888"/>
                  <a:pt x="13320" y="10096"/>
                </a:cubicBezTo>
                <a:cubicBezTo>
                  <a:pt x="13341" y="10180"/>
                  <a:pt x="13342" y="10199"/>
                  <a:pt x="13370" y="102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7960" y="3402000"/>
            <a:ext cx="581040" cy="312840"/>
          </a:xfrm>
          <a:custGeom>
            <a:avLst/>
            <a:gdLst/>
            <a:ahLst/>
            <a:rect l="l" t="t" r="r" b="b"/>
            <a:pathLst>
              <a:path w="1613" h="869">
                <a:moveTo>
                  <a:pt x="14412" y="10071"/>
                </a:moveTo>
                <a:cubicBezTo>
                  <a:pt x="14516" y="10063"/>
                  <a:pt x="14646" y="10059"/>
                  <a:pt x="14709" y="9996"/>
                </a:cubicBezTo>
                <a:cubicBezTo>
                  <a:pt x="14609" y="9919"/>
                  <a:pt x="14471" y="9874"/>
                  <a:pt x="14412" y="10046"/>
                </a:cubicBezTo>
                <a:cubicBezTo>
                  <a:pt x="14325" y="10300"/>
                  <a:pt x="14584" y="10379"/>
                  <a:pt x="14759" y="10244"/>
                </a:cubicBezTo>
                <a:cubicBezTo>
                  <a:pt x="14800" y="10195"/>
                  <a:pt x="14842" y="10145"/>
                  <a:pt x="14883" y="10096"/>
                </a:cubicBezTo>
              </a:path>
              <a:path w="1613" h="869">
                <a:moveTo>
                  <a:pt x="14957" y="9947"/>
                </a:moveTo>
                <a:cubicBezTo>
                  <a:pt x="14934" y="10029"/>
                  <a:pt x="14932" y="10280"/>
                  <a:pt x="14932" y="10195"/>
                </a:cubicBezTo>
                <a:cubicBezTo>
                  <a:pt x="14932" y="10178"/>
                  <a:pt x="14932" y="10162"/>
                  <a:pt x="14932" y="10145"/>
                </a:cubicBezTo>
                <a:cubicBezTo>
                  <a:pt x="14918" y="10044"/>
                  <a:pt x="14895" y="9852"/>
                  <a:pt x="15056" y="9847"/>
                </a:cubicBezTo>
                <a:cubicBezTo>
                  <a:pt x="15236" y="9841"/>
                  <a:pt x="15260" y="10037"/>
                  <a:pt x="15280" y="10170"/>
                </a:cubicBezTo>
                <a:cubicBezTo>
                  <a:pt x="15296" y="10276"/>
                  <a:pt x="15314" y="10207"/>
                  <a:pt x="15429" y="10120"/>
                </a:cubicBezTo>
              </a:path>
              <a:path w="1613" h="869">
                <a:moveTo>
                  <a:pt x="15577" y="9451"/>
                </a:moveTo>
                <a:cubicBezTo>
                  <a:pt x="15577" y="9636"/>
                  <a:pt x="15567" y="9793"/>
                  <a:pt x="15627" y="9971"/>
                </a:cubicBezTo>
                <a:cubicBezTo>
                  <a:pt x="15691" y="10162"/>
                  <a:pt x="15789" y="10171"/>
                  <a:pt x="15949" y="10120"/>
                </a:cubicBezTo>
                <a:cubicBezTo>
                  <a:pt x="15974" y="10112"/>
                  <a:pt x="15999" y="10104"/>
                  <a:pt x="16024" y="100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5000" y="4626000"/>
            <a:ext cx="2805120" cy="61920"/>
          </a:xfrm>
          <a:custGeom>
            <a:avLst/>
            <a:gdLst/>
            <a:ahLst/>
            <a:rect l="l" t="t" r="r" b="b"/>
            <a:pathLst>
              <a:path w="7789" h="174">
                <a:moveTo>
                  <a:pt x="6176" y="12849"/>
                </a:moveTo>
                <a:cubicBezTo>
                  <a:pt x="6176" y="12898"/>
                  <a:pt x="6176" y="12914"/>
                  <a:pt x="6127" y="12898"/>
                </a:cubicBezTo>
              </a:path>
              <a:path w="7789" h="174">
                <a:moveTo>
                  <a:pt x="6276" y="12898"/>
                </a:moveTo>
                <a:cubicBezTo>
                  <a:pt x="6292" y="12939"/>
                  <a:pt x="6309" y="12981"/>
                  <a:pt x="6325" y="13022"/>
                </a:cubicBezTo>
              </a:path>
              <a:path w="7789" h="174">
                <a:moveTo>
                  <a:pt x="13915" y="12973"/>
                </a:moveTo>
                <a:cubicBezTo>
                  <a:pt x="13915" y="12981"/>
                  <a:pt x="13915" y="12990"/>
                  <a:pt x="13915" y="129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98760" y="5045040"/>
            <a:ext cx="588960" cy="27000"/>
          </a:xfrm>
          <a:custGeom>
            <a:avLst/>
            <a:gdLst/>
            <a:ahLst/>
            <a:rect l="l" t="t" r="r" b="b"/>
            <a:pathLst>
              <a:path w="1638" h="75">
                <a:moveTo>
                  <a:pt x="4465" y="14064"/>
                </a:moveTo>
                <a:cubicBezTo>
                  <a:pt x="4465" y="14089"/>
                  <a:pt x="4465" y="14097"/>
                  <a:pt x="4440" y="14089"/>
                </a:cubicBezTo>
                <a:cubicBezTo>
                  <a:pt x="4633" y="14089"/>
                  <a:pt x="4820" y="14076"/>
                  <a:pt x="5011" y="14064"/>
                </a:cubicBezTo>
                <a:cubicBezTo>
                  <a:pt x="5161" y="14055"/>
                  <a:pt x="5306" y="14039"/>
                  <a:pt x="5457" y="14039"/>
                </a:cubicBezTo>
                <a:cubicBezTo>
                  <a:pt x="5601" y="14039"/>
                  <a:pt x="5737" y="14028"/>
                  <a:pt x="5879" y="14015"/>
                </a:cubicBezTo>
                <a:cubicBezTo>
                  <a:pt x="5944" y="14009"/>
                  <a:pt x="6012" y="14015"/>
                  <a:pt x="6077" y="140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24120" y="4813200"/>
            <a:ext cx="527040" cy="9720"/>
          </a:xfrm>
          <a:custGeom>
            <a:avLst/>
            <a:gdLst/>
            <a:ahLst/>
            <a:rect l="l" t="t" r="r" b="b"/>
            <a:pathLst>
              <a:path w="1465" h="26">
                <a:moveTo>
                  <a:pt x="7565" y="13395"/>
                </a:moveTo>
                <a:cubicBezTo>
                  <a:pt x="7831" y="13395"/>
                  <a:pt x="8094" y="13380"/>
                  <a:pt x="8359" y="13370"/>
                </a:cubicBezTo>
                <a:cubicBezTo>
                  <a:pt x="8541" y="13363"/>
                  <a:pt x="8732" y="13360"/>
                  <a:pt x="8905" y="13395"/>
                </a:cubicBezTo>
                <a:cubicBezTo>
                  <a:pt x="8943" y="13403"/>
                  <a:pt x="8990" y="13395"/>
                  <a:pt x="9029" y="133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21080" y="3554280"/>
            <a:ext cx="706680" cy="1473480"/>
          </a:xfrm>
          <a:custGeom>
            <a:avLst/>
            <a:gdLst/>
            <a:ahLst/>
            <a:rect l="l" t="t" r="r" b="b"/>
            <a:pathLst>
              <a:path w="1961" h="4094">
                <a:moveTo>
                  <a:pt x="13667" y="9897"/>
                </a:moveTo>
                <a:cubicBezTo>
                  <a:pt x="13675" y="9905"/>
                  <a:pt x="13684" y="9914"/>
                  <a:pt x="13692" y="9922"/>
                </a:cubicBezTo>
                <a:cubicBezTo>
                  <a:pt x="13570" y="9819"/>
                  <a:pt x="13481" y="10054"/>
                  <a:pt x="13543" y="10170"/>
                </a:cubicBezTo>
                <a:cubicBezTo>
                  <a:pt x="13657" y="10383"/>
                  <a:pt x="13836" y="10234"/>
                  <a:pt x="13965" y="10170"/>
                </a:cubicBezTo>
              </a:path>
              <a:path w="1961" h="4094">
                <a:moveTo>
                  <a:pt x="12005" y="13196"/>
                </a:moveTo>
                <a:cubicBezTo>
                  <a:pt x="12018" y="13158"/>
                  <a:pt x="12035" y="13171"/>
                  <a:pt x="12080" y="13171"/>
                </a:cubicBezTo>
                <a:cubicBezTo>
                  <a:pt x="12168" y="13171"/>
                  <a:pt x="12241" y="13193"/>
                  <a:pt x="12328" y="13196"/>
                </a:cubicBezTo>
                <a:cubicBezTo>
                  <a:pt x="12454" y="13200"/>
                  <a:pt x="12573" y="13221"/>
                  <a:pt x="12700" y="13221"/>
                </a:cubicBezTo>
                <a:cubicBezTo>
                  <a:pt x="12745" y="13221"/>
                  <a:pt x="12777" y="13246"/>
                  <a:pt x="12824" y="13246"/>
                </a:cubicBezTo>
                <a:cubicBezTo>
                  <a:pt x="12946" y="13246"/>
                  <a:pt x="13112" y="13235"/>
                  <a:pt x="13196" y="13271"/>
                </a:cubicBezTo>
                <a:cubicBezTo>
                  <a:pt x="13221" y="13271"/>
                  <a:pt x="13229" y="13271"/>
                  <a:pt x="13221" y="13295"/>
                </a:cubicBezTo>
              </a:path>
              <a:path w="1961" h="4094">
                <a:moveTo>
                  <a:pt x="12601" y="13568"/>
                </a:moveTo>
                <a:cubicBezTo>
                  <a:pt x="12601" y="13560"/>
                  <a:pt x="12601" y="13551"/>
                  <a:pt x="12601" y="13543"/>
                </a:cubicBezTo>
                <a:cubicBezTo>
                  <a:pt x="12629" y="13628"/>
                  <a:pt x="12601" y="13781"/>
                  <a:pt x="12601" y="13891"/>
                </a:cubicBezTo>
                <a:cubicBezTo>
                  <a:pt x="12601" y="13936"/>
                  <a:pt x="12588" y="13952"/>
                  <a:pt x="12626" y="139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13240" y="4384800"/>
            <a:ext cx="598680" cy="588960"/>
          </a:xfrm>
          <a:custGeom>
            <a:avLst/>
            <a:gdLst/>
            <a:ahLst/>
            <a:rect l="l" t="t" r="r" b="b"/>
            <a:pathLst>
              <a:path w="1663" h="1638">
                <a:moveTo>
                  <a:pt x="14982" y="12179"/>
                </a:moveTo>
                <a:cubicBezTo>
                  <a:pt x="14999" y="12329"/>
                  <a:pt x="15040" y="12477"/>
                  <a:pt x="15056" y="12626"/>
                </a:cubicBezTo>
                <a:cubicBezTo>
                  <a:pt x="15056" y="12651"/>
                  <a:pt x="15056" y="12675"/>
                  <a:pt x="15056" y="12700"/>
                </a:cubicBezTo>
              </a:path>
              <a:path w="1663" h="1638">
                <a:moveTo>
                  <a:pt x="14759" y="12898"/>
                </a:moveTo>
                <a:cubicBezTo>
                  <a:pt x="14932" y="12877"/>
                  <a:pt x="15106" y="12838"/>
                  <a:pt x="15280" y="12824"/>
                </a:cubicBezTo>
                <a:cubicBezTo>
                  <a:pt x="15350" y="12818"/>
                  <a:pt x="15403" y="12810"/>
                  <a:pt x="15429" y="12849"/>
                </a:cubicBezTo>
              </a:path>
              <a:path w="1663" h="1638">
                <a:moveTo>
                  <a:pt x="14957" y="13196"/>
                </a:moveTo>
                <a:cubicBezTo>
                  <a:pt x="15016" y="13137"/>
                  <a:pt x="15097" y="13107"/>
                  <a:pt x="15180" y="13097"/>
                </a:cubicBezTo>
                <a:cubicBezTo>
                  <a:pt x="15289" y="13084"/>
                  <a:pt x="15261" y="13105"/>
                  <a:pt x="15329" y="13122"/>
                </a:cubicBezTo>
                <a:cubicBezTo>
                  <a:pt x="15354" y="13194"/>
                  <a:pt x="15321" y="13326"/>
                  <a:pt x="15255" y="13395"/>
                </a:cubicBezTo>
                <a:cubicBezTo>
                  <a:pt x="15178" y="13475"/>
                  <a:pt x="15061" y="13553"/>
                  <a:pt x="14982" y="13618"/>
                </a:cubicBezTo>
                <a:cubicBezTo>
                  <a:pt x="14899" y="13685"/>
                  <a:pt x="14879" y="13711"/>
                  <a:pt x="14858" y="13816"/>
                </a:cubicBezTo>
                <a:cubicBezTo>
                  <a:pt x="14935" y="13726"/>
                  <a:pt x="14978" y="13651"/>
                  <a:pt x="15106" y="13643"/>
                </a:cubicBezTo>
                <a:cubicBezTo>
                  <a:pt x="15209" y="13637"/>
                  <a:pt x="15233" y="13762"/>
                  <a:pt x="15329" y="13791"/>
                </a:cubicBezTo>
                <a:cubicBezTo>
                  <a:pt x="15425" y="13820"/>
                  <a:pt x="15477" y="13750"/>
                  <a:pt x="15528" y="13692"/>
                </a:cubicBezTo>
              </a:path>
              <a:path w="1663" h="1638">
                <a:moveTo>
                  <a:pt x="16073" y="12948"/>
                </a:moveTo>
                <a:cubicBezTo>
                  <a:pt x="16089" y="12899"/>
                  <a:pt x="16248" y="12916"/>
                  <a:pt x="16297" y="12923"/>
                </a:cubicBezTo>
                <a:cubicBezTo>
                  <a:pt x="16370" y="12934"/>
                  <a:pt x="16447" y="12930"/>
                  <a:pt x="16396" y="12998"/>
                </a:cubicBezTo>
              </a:path>
              <a:path w="1663" h="1638">
                <a:moveTo>
                  <a:pt x="15999" y="13246"/>
                </a:moveTo>
                <a:cubicBezTo>
                  <a:pt x="16120" y="13223"/>
                  <a:pt x="16212" y="13218"/>
                  <a:pt x="16321" y="13246"/>
                </a:cubicBezTo>
                <a:cubicBezTo>
                  <a:pt x="16329" y="13246"/>
                  <a:pt x="16338" y="13246"/>
                  <a:pt x="16346" y="132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40320" y="4429080"/>
            <a:ext cx="2581560" cy="741240"/>
          </a:xfrm>
          <a:custGeom>
            <a:avLst/>
            <a:gdLst/>
            <a:ahLst/>
            <a:rect l="l" t="t" r="r" b="b"/>
            <a:pathLst>
              <a:path w="7170" h="2060">
                <a:moveTo>
                  <a:pt x="19199" y="12626"/>
                </a:moveTo>
                <a:cubicBezTo>
                  <a:pt x="19282" y="12708"/>
                  <a:pt x="19383" y="12802"/>
                  <a:pt x="19447" y="12898"/>
                </a:cubicBezTo>
                <a:cubicBezTo>
                  <a:pt x="19464" y="12923"/>
                  <a:pt x="19482" y="12945"/>
                  <a:pt x="19496" y="12973"/>
                </a:cubicBezTo>
              </a:path>
              <a:path w="7170" h="2060">
                <a:moveTo>
                  <a:pt x="19472" y="12601"/>
                </a:moveTo>
                <a:cubicBezTo>
                  <a:pt x="19448" y="12648"/>
                  <a:pt x="19237" y="12819"/>
                  <a:pt x="19149" y="12898"/>
                </a:cubicBezTo>
                <a:cubicBezTo>
                  <a:pt x="19108" y="12940"/>
                  <a:pt x="19100" y="12948"/>
                  <a:pt x="19075" y="12973"/>
                </a:cubicBezTo>
              </a:path>
              <a:path w="7170" h="2060">
                <a:moveTo>
                  <a:pt x="17686" y="12402"/>
                </a:moveTo>
                <a:cubicBezTo>
                  <a:pt x="17686" y="12303"/>
                  <a:pt x="17705" y="12551"/>
                  <a:pt x="17711" y="12650"/>
                </a:cubicBezTo>
                <a:cubicBezTo>
                  <a:pt x="17722" y="12834"/>
                  <a:pt x="17710" y="12754"/>
                  <a:pt x="17686" y="12849"/>
                </a:cubicBezTo>
              </a:path>
              <a:path w="7170" h="2060">
                <a:moveTo>
                  <a:pt x="18033" y="12427"/>
                </a:moveTo>
                <a:cubicBezTo>
                  <a:pt x="18049" y="12379"/>
                  <a:pt x="18122" y="12351"/>
                  <a:pt x="18182" y="12328"/>
                </a:cubicBezTo>
                <a:cubicBezTo>
                  <a:pt x="18284" y="12289"/>
                  <a:pt x="18334" y="12361"/>
                  <a:pt x="18331" y="12477"/>
                </a:cubicBezTo>
                <a:cubicBezTo>
                  <a:pt x="18326" y="12659"/>
                  <a:pt x="18175" y="12738"/>
                  <a:pt x="18058" y="12849"/>
                </a:cubicBezTo>
                <a:cubicBezTo>
                  <a:pt x="18050" y="12857"/>
                  <a:pt x="18041" y="12866"/>
                  <a:pt x="18033" y="12874"/>
                </a:cubicBezTo>
                <a:cubicBezTo>
                  <a:pt x="18160" y="12874"/>
                  <a:pt x="18293" y="12866"/>
                  <a:pt x="18405" y="12898"/>
                </a:cubicBezTo>
                <a:cubicBezTo>
                  <a:pt x="18430" y="12898"/>
                  <a:pt x="18438" y="12898"/>
                  <a:pt x="18430" y="12923"/>
                </a:cubicBezTo>
              </a:path>
              <a:path w="7170" h="2060">
                <a:moveTo>
                  <a:pt x="17611" y="13196"/>
                </a:moveTo>
                <a:cubicBezTo>
                  <a:pt x="17845" y="13196"/>
                  <a:pt x="18075" y="13197"/>
                  <a:pt x="18306" y="13221"/>
                </a:cubicBezTo>
                <a:cubicBezTo>
                  <a:pt x="18347" y="13221"/>
                  <a:pt x="18363" y="13213"/>
                  <a:pt x="18355" y="13246"/>
                </a:cubicBezTo>
              </a:path>
              <a:path w="7170" h="2060">
                <a:moveTo>
                  <a:pt x="18033" y="13519"/>
                </a:moveTo>
                <a:cubicBezTo>
                  <a:pt x="18033" y="13456"/>
                  <a:pt x="17984" y="13810"/>
                  <a:pt x="17983" y="13816"/>
                </a:cubicBezTo>
                <a:cubicBezTo>
                  <a:pt x="17964" y="13915"/>
                  <a:pt x="17956" y="13931"/>
                  <a:pt x="17959" y="13990"/>
                </a:cubicBezTo>
              </a:path>
              <a:path w="7170" h="2060">
                <a:moveTo>
                  <a:pt x="20216" y="12601"/>
                </a:moveTo>
                <a:cubicBezTo>
                  <a:pt x="20257" y="12519"/>
                  <a:pt x="20267" y="12472"/>
                  <a:pt x="20365" y="12452"/>
                </a:cubicBezTo>
                <a:cubicBezTo>
                  <a:pt x="20427" y="12439"/>
                  <a:pt x="20494" y="12456"/>
                  <a:pt x="20513" y="12526"/>
                </a:cubicBezTo>
                <a:cubicBezTo>
                  <a:pt x="20549" y="12658"/>
                  <a:pt x="20384" y="12805"/>
                  <a:pt x="20315" y="12898"/>
                </a:cubicBezTo>
                <a:cubicBezTo>
                  <a:pt x="20260" y="12972"/>
                  <a:pt x="20137" y="13040"/>
                  <a:pt x="20117" y="13122"/>
                </a:cubicBezTo>
                <a:cubicBezTo>
                  <a:pt x="20127" y="13091"/>
                  <a:pt x="20169" y="13053"/>
                  <a:pt x="20216" y="13047"/>
                </a:cubicBezTo>
                <a:cubicBezTo>
                  <a:pt x="20286" y="13038"/>
                  <a:pt x="20351" y="13070"/>
                  <a:pt x="20414" y="13097"/>
                </a:cubicBezTo>
                <a:cubicBezTo>
                  <a:pt x="20510" y="13138"/>
                  <a:pt x="20579" y="13129"/>
                  <a:pt x="20662" y="13072"/>
                </a:cubicBezTo>
              </a:path>
              <a:path w="7170" h="2060">
                <a:moveTo>
                  <a:pt x="19993" y="13444"/>
                </a:moveTo>
                <a:cubicBezTo>
                  <a:pt x="20013" y="13381"/>
                  <a:pt x="20138" y="13441"/>
                  <a:pt x="20191" y="13444"/>
                </a:cubicBezTo>
                <a:cubicBezTo>
                  <a:pt x="20327" y="13453"/>
                  <a:pt x="20455" y="13484"/>
                  <a:pt x="20588" y="13494"/>
                </a:cubicBezTo>
                <a:cubicBezTo>
                  <a:pt x="20613" y="13494"/>
                  <a:pt x="20621" y="13494"/>
                  <a:pt x="20638" y="13494"/>
                </a:cubicBezTo>
              </a:path>
              <a:path w="7170" h="2060">
                <a:moveTo>
                  <a:pt x="20117" y="13891"/>
                </a:moveTo>
                <a:cubicBezTo>
                  <a:pt x="20117" y="13883"/>
                  <a:pt x="20117" y="13874"/>
                  <a:pt x="20117" y="13866"/>
                </a:cubicBezTo>
                <a:cubicBezTo>
                  <a:pt x="20148" y="13996"/>
                  <a:pt x="20085" y="14166"/>
                  <a:pt x="20067" y="14312"/>
                </a:cubicBezTo>
                <a:cubicBezTo>
                  <a:pt x="20067" y="14329"/>
                  <a:pt x="20067" y="14345"/>
                  <a:pt x="20067" y="14362"/>
                </a:cubicBezTo>
              </a:path>
              <a:path w="7170" h="2060">
                <a:moveTo>
                  <a:pt x="21183" y="13295"/>
                </a:moveTo>
                <a:cubicBezTo>
                  <a:pt x="21252" y="13305"/>
                  <a:pt x="21316" y="13338"/>
                  <a:pt x="21382" y="13345"/>
                </a:cubicBezTo>
                <a:cubicBezTo>
                  <a:pt x="21390" y="13345"/>
                  <a:pt x="21398" y="13345"/>
                  <a:pt x="21406" y="13345"/>
                </a:cubicBezTo>
              </a:path>
              <a:path w="7170" h="2060">
                <a:moveTo>
                  <a:pt x="21134" y="13568"/>
                </a:moveTo>
                <a:cubicBezTo>
                  <a:pt x="21213" y="13568"/>
                  <a:pt x="21268" y="13572"/>
                  <a:pt x="21332" y="13593"/>
                </a:cubicBezTo>
                <a:cubicBezTo>
                  <a:pt x="21340" y="13593"/>
                  <a:pt x="21349" y="13593"/>
                  <a:pt x="21357" y="13593"/>
                </a:cubicBezTo>
              </a:path>
              <a:path w="7170" h="2060">
                <a:moveTo>
                  <a:pt x="22076" y="12750"/>
                </a:moveTo>
                <a:cubicBezTo>
                  <a:pt x="22028" y="12762"/>
                  <a:pt x="22019" y="12808"/>
                  <a:pt x="22002" y="12774"/>
                </a:cubicBezTo>
                <a:cubicBezTo>
                  <a:pt x="22136" y="12707"/>
                  <a:pt x="22273" y="12702"/>
                  <a:pt x="22225" y="12923"/>
                </a:cubicBezTo>
                <a:cubicBezTo>
                  <a:pt x="22182" y="13120"/>
                  <a:pt x="22032" y="13210"/>
                  <a:pt x="21853" y="13246"/>
                </a:cubicBezTo>
                <a:cubicBezTo>
                  <a:pt x="21916" y="13120"/>
                  <a:pt x="21981" y="13009"/>
                  <a:pt x="22126" y="13097"/>
                </a:cubicBezTo>
                <a:cubicBezTo>
                  <a:pt x="22168" y="13122"/>
                  <a:pt x="22190" y="13156"/>
                  <a:pt x="22200" y="13196"/>
                </a:cubicBezTo>
              </a:path>
              <a:path w="7170" h="2060">
                <a:moveTo>
                  <a:pt x="22523" y="12700"/>
                </a:moveTo>
                <a:cubicBezTo>
                  <a:pt x="22514" y="12746"/>
                  <a:pt x="22444" y="12859"/>
                  <a:pt x="22473" y="12898"/>
                </a:cubicBezTo>
                <a:cubicBezTo>
                  <a:pt x="22530" y="12973"/>
                  <a:pt x="22709" y="12957"/>
                  <a:pt x="22771" y="12898"/>
                </a:cubicBezTo>
                <a:cubicBezTo>
                  <a:pt x="22787" y="12873"/>
                  <a:pt x="22804" y="12849"/>
                  <a:pt x="22820" y="12824"/>
                </a:cubicBezTo>
              </a:path>
              <a:path w="7170" h="2060">
                <a:moveTo>
                  <a:pt x="22820" y="12526"/>
                </a:moveTo>
                <a:cubicBezTo>
                  <a:pt x="22758" y="12686"/>
                  <a:pt x="22758" y="12895"/>
                  <a:pt x="22746" y="13072"/>
                </a:cubicBezTo>
                <a:cubicBezTo>
                  <a:pt x="22746" y="13146"/>
                  <a:pt x="22746" y="13155"/>
                  <a:pt x="22746" y="13196"/>
                </a:cubicBezTo>
              </a:path>
              <a:path w="7170" h="2060">
                <a:moveTo>
                  <a:pt x="21853" y="13419"/>
                </a:moveTo>
                <a:cubicBezTo>
                  <a:pt x="22101" y="13399"/>
                  <a:pt x="22349" y="13360"/>
                  <a:pt x="22597" y="13345"/>
                </a:cubicBezTo>
                <a:cubicBezTo>
                  <a:pt x="22640" y="13342"/>
                  <a:pt x="22803" y="13318"/>
                  <a:pt x="22820" y="13370"/>
                </a:cubicBezTo>
              </a:path>
              <a:path w="7170" h="2060">
                <a:moveTo>
                  <a:pt x="22250" y="13717"/>
                </a:moveTo>
                <a:cubicBezTo>
                  <a:pt x="22297" y="13764"/>
                  <a:pt x="22262" y="14002"/>
                  <a:pt x="22250" y="14139"/>
                </a:cubicBezTo>
                <a:cubicBezTo>
                  <a:pt x="22250" y="14180"/>
                  <a:pt x="22250" y="14188"/>
                  <a:pt x="22250" y="14213"/>
                </a:cubicBezTo>
              </a:path>
              <a:path w="7170" h="2060">
                <a:moveTo>
                  <a:pt x="23118" y="13543"/>
                </a:moveTo>
                <a:cubicBezTo>
                  <a:pt x="23148" y="13500"/>
                  <a:pt x="23322" y="13481"/>
                  <a:pt x="23391" y="13469"/>
                </a:cubicBezTo>
                <a:cubicBezTo>
                  <a:pt x="23431" y="13462"/>
                  <a:pt x="23416" y="13491"/>
                  <a:pt x="23416" y="13519"/>
                </a:cubicBezTo>
              </a:path>
              <a:path w="7170" h="2060">
                <a:moveTo>
                  <a:pt x="23143" y="13717"/>
                </a:moveTo>
                <a:cubicBezTo>
                  <a:pt x="23217" y="13717"/>
                  <a:pt x="23292" y="13717"/>
                  <a:pt x="23366" y="13717"/>
                </a:cubicBezTo>
              </a:path>
              <a:path w="7170" h="2060">
                <a:moveTo>
                  <a:pt x="23986" y="13221"/>
                </a:moveTo>
                <a:cubicBezTo>
                  <a:pt x="23996" y="13241"/>
                  <a:pt x="24121" y="13162"/>
                  <a:pt x="24185" y="13146"/>
                </a:cubicBezTo>
                <a:cubicBezTo>
                  <a:pt x="24193" y="13146"/>
                  <a:pt x="24201" y="13146"/>
                  <a:pt x="24209" y="13146"/>
                </a:cubicBezTo>
                <a:cubicBezTo>
                  <a:pt x="24319" y="13348"/>
                  <a:pt x="24178" y="13459"/>
                  <a:pt x="24061" y="13643"/>
                </a:cubicBezTo>
                <a:cubicBezTo>
                  <a:pt x="23997" y="13743"/>
                  <a:pt x="23977" y="13780"/>
                  <a:pt x="23961" y="13891"/>
                </a:cubicBezTo>
                <a:cubicBezTo>
                  <a:pt x="24017" y="13846"/>
                  <a:pt x="24071" y="13758"/>
                  <a:pt x="24135" y="13742"/>
                </a:cubicBezTo>
                <a:cubicBezTo>
                  <a:pt x="24208" y="13778"/>
                  <a:pt x="24202" y="13791"/>
                  <a:pt x="24309" y="13791"/>
                </a:cubicBezTo>
                <a:cubicBezTo>
                  <a:pt x="24353" y="13791"/>
                  <a:pt x="24366" y="13794"/>
                  <a:pt x="24383" y="13767"/>
                </a:cubicBezTo>
              </a:path>
              <a:path w="7170" h="2060">
                <a:moveTo>
                  <a:pt x="24532" y="13246"/>
                </a:moveTo>
                <a:cubicBezTo>
                  <a:pt x="24532" y="13377"/>
                  <a:pt x="24501" y="13376"/>
                  <a:pt x="24631" y="13419"/>
                </a:cubicBezTo>
                <a:cubicBezTo>
                  <a:pt x="24683" y="13436"/>
                  <a:pt x="24767" y="13430"/>
                  <a:pt x="24780" y="13469"/>
                </a:cubicBezTo>
              </a:path>
              <a:path w="7170" h="2060">
                <a:moveTo>
                  <a:pt x="24755" y="13097"/>
                </a:moveTo>
                <a:cubicBezTo>
                  <a:pt x="24755" y="13265"/>
                  <a:pt x="24741" y="13427"/>
                  <a:pt x="24730" y="13593"/>
                </a:cubicBezTo>
                <a:cubicBezTo>
                  <a:pt x="24723" y="13698"/>
                  <a:pt x="24722" y="13673"/>
                  <a:pt x="24705" y="13742"/>
                </a:cubicBezTo>
              </a:path>
              <a:path w="7170" h="2060">
                <a:moveTo>
                  <a:pt x="24532" y="13146"/>
                </a:moveTo>
                <a:cubicBezTo>
                  <a:pt x="24532" y="13221"/>
                  <a:pt x="24532" y="13295"/>
                  <a:pt x="24532" y="133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84800" y="4367160"/>
            <a:ext cx="758880" cy="293760"/>
          </a:xfrm>
          <a:custGeom>
            <a:avLst/>
            <a:gdLst/>
            <a:ahLst/>
            <a:rect l="l" t="t" r="r" b="b"/>
            <a:pathLst>
              <a:path w="2110" h="820">
                <a:moveTo>
                  <a:pt x="12179" y="12204"/>
                </a:moveTo>
                <a:cubicBezTo>
                  <a:pt x="12179" y="12404"/>
                  <a:pt x="12201" y="12599"/>
                  <a:pt x="12204" y="12799"/>
                </a:cubicBezTo>
                <a:cubicBezTo>
                  <a:pt x="12204" y="12890"/>
                  <a:pt x="12204" y="12898"/>
                  <a:pt x="12204" y="12948"/>
                </a:cubicBezTo>
              </a:path>
              <a:path w="2110" h="820">
                <a:moveTo>
                  <a:pt x="12774" y="12254"/>
                </a:moveTo>
                <a:cubicBezTo>
                  <a:pt x="12774" y="12194"/>
                  <a:pt x="12816" y="12147"/>
                  <a:pt x="12874" y="12129"/>
                </a:cubicBezTo>
                <a:cubicBezTo>
                  <a:pt x="12957" y="12103"/>
                  <a:pt x="13007" y="12159"/>
                  <a:pt x="13047" y="12204"/>
                </a:cubicBezTo>
                <a:cubicBezTo>
                  <a:pt x="13131" y="12300"/>
                  <a:pt x="13093" y="12307"/>
                  <a:pt x="13047" y="12402"/>
                </a:cubicBezTo>
                <a:cubicBezTo>
                  <a:pt x="12986" y="12528"/>
                  <a:pt x="12849" y="12640"/>
                  <a:pt x="12750" y="12750"/>
                </a:cubicBezTo>
                <a:cubicBezTo>
                  <a:pt x="12701" y="12804"/>
                  <a:pt x="12669" y="12844"/>
                  <a:pt x="12626" y="12898"/>
                </a:cubicBezTo>
                <a:cubicBezTo>
                  <a:pt x="12682" y="12879"/>
                  <a:pt x="12764" y="12778"/>
                  <a:pt x="12824" y="12799"/>
                </a:cubicBezTo>
                <a:cubicBezTo>
                  <a:pt x="12899" y="12825"/>
                  <a:pt x="12962" y="12894"/>
                  <a:pt x="13047" y="12898"/>
                </a:cubicBezTo>
                <a:cubicBezTo>
                  <a:pt x="13113" y="12898"/>
                  <a:pt x="13130" y="12898"/>
                  <a:pt x="13171" y="12898"/>
                </a:cubicBezTo>
              </a:path>
              <a:path w="2110" h="820">
                <a:moveTo>
                  <a:pt x="13618" y="12700"/>
                </a:moveTo>
                <a:cubicBezTo>
                  <a:pt x="13768" y="12685"/>
                  <a:pt x="13911" y="12675"/>
                  <a:pt x="14064" y="12675"/>
                </a:cubicBezTo>
                <a:cubicBezTo>
                  <a:pt x="14143" y="12675"/>
                  <a:pt x="14245" y="12668"/>
                  <a:pt x="14288" y="12700"/>
                </a:cubicBezTo>
              </a:path>
              <a:path w="2110" h="820">
                <a:moveTo>
                  <a:pt x="13891" y="12378"/>
                </a:moveTo>
                <a:cubicBezTo>
                  <a:pt x="13891" y="12435"/>
                  <a:pt x="13891" y="12477"/>
                  <a:pt x="13891" y="125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66960" y="5187960"/>
            <a:ext cx="34920" cy="223920"/>
          </a:xfrm>
          <a:custGeom>
            <a:avLst/>
            <a:gdLst/>
            <a:ahLst/>
            <a:rect l="l" t="t" r="r" b="b"/>
            <a:pathLst>
              <a:path w="100" h="621">
                <a:moveTo>
                  <a:pt x="5259" y="14412"/>
                </a:moveTo>
                <a:cubicBezTo>
                  <a:pt x="5315" y="14527"/>
                  <a:pt x="5240" y="14759"/>
                  <a:pt x="5209" y="14908"/>
                </a:cubicBezTo>
                <a:cubicBezTo>
                  <a:pt x="5190" y="14982"/>
                  <a:pt x="5182" y="14989"/>
                  <a:pt x="5184" y="150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24040" y="5446800"/>
            <a:ext cx="276120" cy="63360"/>
          </a:xfrm>
          <a:custGeom>
            <a:avLst/>
            <a:gdLst/>
            <a:ahLst/>
            <a:rect l="l" t="t" r="r" b="b"/>
            <a:pathLst>
              <a:path w="770" h="174">
                <a:moveTo>
                  <a:pt x="4787" y="15304"/>
                </a:moveTo>
                <a:cubicBezTo>
                  <a:pt x="5009" y="15250"/>
                  <a:pt x="5229" y="15182"/>
                  <a:pt x="5457" y="15156"/>
                </a:cubicBezTo>
                <a:cubicBezTo>
                  <a:pt x="5525" y="15148"/>
                  <a:pt x="5545" y="15134"/>
                  <a:pt x="5556" y="151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85960" y="5581800"/>
            <a:ext cx="17928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5159" y="15553"/>
                </a:moveTo>
                <a:cubicBezTo>
                  <a:pt x="5255" y="15505"/>
                  <a:pt x="5284" y="15488"/>
                  <a:pt x="5358" y="15503"/>
                </a:cubicBezTo>
                <a:cubicBezTo>
                  <a:pt x="5327" y="15720"/>
                  <a:pt x="5216" y="15780"/>
                  <a:pt x="5060" y="15925"/>
                </a:cubicBezTo>
                <a:cubicBezTo>
                  <a:pt x="5027" y="15958"/>
                  <a:pt x="4994" y="15991"/>
                  <a:pt x="4961" y="16024"/>
                </a:cubicBezTo>
                <a:cubicBezTo>
                  <a:pt x="5122" y="15979"/>
                  <a:pt x="5265" y="15932"/>
                  <a:pt x="5432" y="15925"/>
                </a:cubicBezTo>
                <a:cubicBezTo>
                  <a:pt x="5440" y="15925"/>
                  <a:pt x="5449" y="15925"/>
                  <a:pt x="5457" y="159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3240" y="4919760"/>
            <a:ext cx="97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8260" y="13667"/>
                </a:moveTo>
                <a:cubicBezTo>
                  <a:pt x="8260" y="13810"/>
                  <a:pt x="8253" y="13962"/>
                  <a:pt x="8285" y="14089"/>
                </a:cubicBezTo>
                <a:cubicBezTo>
                  <a:pt x="8285" y="14097"/>
                  <a:pt x="8285" y="14106"/>
                  <a:pt x="8285" y="141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153040"/>
            <a:ext cx="260280" cy="34920"/>
          </a:xfrm>
          <a:custGeom>
            <a:avLst/>
            <a:gdLst/>
            <a:ahLst/>
            <a:rect l="l" t="t" r="r" b="b"/>
            <a:pathLst>
              <a:path w="720" h="101">
                <a:moveTo>
                  <a:pt x="7913" y="14412"/>
                </a:moveTo>
                <a:cubicBezTo>
                  <a:pt x="8117" y="14369"/>
                  <a:pt x="8325" y="14334"/>
                  <a:pt x="8533" y="14312"/>
                </a:cubicBezTo>
                <a:cubicBezTo>
                  <a:pt x="8588" y="14306"/>
                  <a:pt x="8594" y="14308"/>
                  <a:pt x="8632" y="143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4040" y="5295960"/>
            <a:ext cx="258840" cy="204840"/>
          </a:xfrm>
          <a:custGeom>
            <a:avLst/>
            <a:gdLst/>
            <a:ahLst/>
            <a:rect l="l" t="t" r="r" b="b"/>
            <a:pathLst>
              <a:path w="720" h="572">
                <a:moveTo>
                  <a:pt x="8161" y="14784"/>
                </a:moveTo>
                <a:cubicBezTo>
                  <a:pt x="8255" y="14666"/>
                  <a:pt x="8357" y="14708"/>
                  <a:pt x="8483" y="14759"/>
                </a:cubicBezTo>
                <a:cubicBezTo>
                  <a:pt x="8452" y="14980"/>
                  <a:pt x="8333" y="15040"/>
                  <a:pt x="8161" y="15180"/>
                </a:cubicBezTo>
                <a:cubicBezTo>
                  <a:pt x="8120" y="15213"/>
                  <a:pt x="8078" y="15247"/>
                  <a:pt x="8037" y="15280"/>
                </a:cubicBezTo>
                <a:cubicBezTo>
                  <a:pt x="8210" y="15236"/>
                  <a:pt x="8371" y="15152"/>
                  <a:pt x="8558" y="15131"/>
                </a:cubicBezTo>
                <a:cubicBezTo>
                  <a:pt x="8726" y="15112"/>
                  <a:pt x="8604" y="15198"/>
                  <a:pt x="8756" y="151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9960" y="4098960"/>
            <a:ext cx="142920" cy="1679400"/>
          </a:xfrm>
          <a:custGeom>
            <a:avLst/>
            <a:gdLst/>
            <a:ahLst/>
            <a:rect l="l" t="t" r="r" b="b"/>
            <a:pathLst>
              <a:path w="398" h="4665">
                <a:moveTo>
                  <a:pt x="5358" y="11435"/>
                </a:moveTo>
                <a:cubicBezTo>
                  <a:pt x="5345" y="11485"/>
                  <a:pt x="5338" y="11433"/>
                  <a:pt x="5333" y="11485"/>
                </a:cubicBezTo>
                <a:cubicBezTo>
                  <a:pt x="5323" y="11583"/>
                  <a:pt x="5316" y="11690"/>
                  <a:pt x="5308" y="11782"/>
                </a:cubicBezTo>
                <a:cubicBezTo>
                  <a:pt x="5298" y="11895"/>
                  <a:pt x="5303" y="11998"/>
                  <a:pt x="5283" y="12105"/>
                </a:cubicBezTo>
                <a:cubicBezTo>
                  <a:pt x="5274" y="12153"/>
                  <a:pt x="5264" y="12207"/>
                  <a:pt x="5259" y="12254"/>
                </a:cubicBezTo>
                <a:cubicBezTo>
                  <a:pt x="5251" y="12325"/>
                  <a:pt x="5247" y="12384"/>
                  <a:pt x="5234" y="12452"/>
                </a:cubicBezTo>
                <a:cubicBezTo>
                  <a:pt x="5223" y="12509"/>
                  <a:pt x="5214" y="12569"/>
                  <a:pt x="5209" y="12626"/>
                </a:cubicBezTo>
                <a:cubicBezTo>
                  <a:pt x="5203" y="12688"/>
                  <a:pt x="5188" y="12774"/>
                  <a:pt x="5184" y="12824"/>
                </a:cubicBezTo>
                <a:cubicBezTo>
                  <a:pt x="5178" y="12890"/>
                  <a:pt x="5164" y="12962"/>
                  <a:pt x="5159" y="13022"/>
                </a:cubicBezTo>
                <a:cubicBezTo>
                  <a:pt x="5151" y="13123"/>
                  <a:pt x="5142" y="13220"/>
                  <a:pt x="5135" y="13320"/>
                </a:cubicBezTo>
                <a:cubicBezTo>
                  <a:pt x="5129" y="13416"/>
                  <a:pt x="5117" y="13502"/>
                  <a:pt x="5110" y="13593"/>
                </a:cubicBezTo>
                <a:cubicBezTo>
                  <a:pt x="5089" y="13857"/>
                  <a:pt x="5097" y="14153"/>
                  <a:pt x="5135" y="14412"/>
                </a:cubicBezTo>
                <a:cubicBezTo>
                  <a:pt x="5157" y="14559"/>
                  <a:pt x="5161" y="14712"/>
                  <a:pt x="5184" y="14858"/>
                </a:cubicBezTo>
                <a:cubicBezTo>
                  <a:pt x="5198" y="14948"/>
                  <a:pt x="5207" y="15033"/>
                  <a:pt x="5209" y="15131"/>
                </a:cubicBezTo>
                <a:cubicBezTo>
                  <a:pt x="5215" y="15437"/>
                  <a:pt x="5209" y="15743"/>
                  <a:pt x="5209" y="16049"/>
                </a:cubicBezTo>
                <a:cubicBezTo>
                  <a:pt x="5219" y="15990"/>
                  <a:pt x="5223" y="15934"/>
                  <a:pt x="5234" y="15875"/>
                </a:cubicBezTo>
                <a:cubicBezTo>
                  <a:pt x="5248" y="15800"/>
                  <a:pt x="5257" y="15729"/>
                  <a:pt x="5259" y="15652"/>
                </a:cubicBezTo>
                <a:cubicBezTo>
                  <a:pt x="5269" y="15271"/>
                  <a:pt x="5251" y="14887"/>
                  <a:pt x="5283" y="14511"/>
                </a:cubicBezTo>
                <a:cubicBezTo>
                  <a:pt x="5293" y="14390"/>
                  <a:pt x="5269" y="14278"/>
                  <a:pt x="5259" y="14163"/>
                </a:cubicBezTo>
                <a:cubicBezTo>
                  <a:pt x="5243" y="13980"/>
                  <a:pt x="5271" y="13792"/>
                  <a:pt x="5283" y="13618"/>
                </a:cubicBezTo>
                <a:cubicBezTo>
                  <a:pt x="5290" y="13518"/>
                  <a:pt x="5291" y="13418"/>
                  <a:pt x="5308" y="13320"/>
                </a:cubicBezTo>
                <a:cubicBezTo>
                  <a:pt x="5327" y="13212"/>
                  <a:pt x="5341" y="13101"/>
                  <a:pt x="5358" y="12998"/>
                </a:cubicBezTo>
                <a:cubicBezTo>
                  <a:pt x="5374" y="12902"/>
                  <a:pt x="5383" y="12794"/>
                  <a:pt x="5407" y="12700"/>
                </a:cubicBezTo>
                <a:cubicBezTo>
                  <a:pt x="5430" y="12610"/>
                  <a:pt x="5450" y="12520"/>
                  <a:pt x="5457" y="12427"/>
                </a:cubicBezTo>
                <a:cubicBezTo>
                  <a:pt x="5464" y="12333"/>
                  <a:pt x="5466" y="12246"/>
                  <a:pt x="5482" y="12154"/>
                </a:cubicBezTo>
                <a:cubicBezTo>
                  <a:pt x="5495" y="12082"/>
                  <a:pt x="5517" y="12006"/>
                  <a:pt x="5507" y="11931"/>
                </a:cubicBezTo>
                <a:cubicBezTo>
                  <a:pt x="5497" y="11854"/>
                  <a:pt x="5496" y="11760"/>
                  <a:pt x="5482" y="11683"/>
                </a:cubicBezTo>
                <a:cubicBezTo>
                  <a:pt x="5465" y="11592"/>
                  <a:pt x="5457" y="11601"/>
                  <a:pt x="5457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9880" y="6081840"/>
            <a:ext cx="115920" cy="231480"/>
          </a:xfrm>
          <a:custGeom>
            <a:avLst/>
            <a:gdLst/>
            <a:ahLst/>
            <a:rect l="l" t="t" r="r" b="b"/>
            <a:pathLst>
              <a:path w="324" h="646">
                <a:moveTo>
                  <a:pt x="5606" y="16892"/>
                </a:moveTo>
                <a:cubicBezTo>
                  <a:pt x="5548" y="16911"/>
                  <a:pt x="5637" y="17048"/>
                  <a:pt x="5655" y="17090"/>
                </a:cubicBezTo>
                <a:cubicBezTo>
                  <a:pt x="5717" y="17235"/>
                  <a:pt x="5820" y="17371"/>
                  <a:pt x="5879" y="17512"/>
                </a:cubicBezTo>
                <a:cubicBezTo>
                  <a:pt x="5879" y="17537"/>
                  <a:pt x="5879" y="17545"/>
                  <a:pt x="5904" y="175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90800" y="6099120"/>
            <a:ext cx="162000" cy="277920"/>
          </a:xfrm>
          <a:custGeom>
            <a:avLst/>
            <a:gdLst/>
            <a:ahLst/>
            <a:rect l="l" t="t" r="r" b="b"/>
            <a:pathLst>
              <a:path w="448" h="770">
                <a:moveTo>
                  <a:pt x="5978" y="16942"/>
                </a:moveTo>
                <a:cubicBezTo>
                  <a:pt x="5946" y="16952"/>
                  <a:pt x="5944" y="16952"/>
                  <a:pt x="5904" y="16966"/>
                </a:cubicBezTo>
                <a:cubicBezTo>
                  <a:pt x="5767" y="17015"/>
                  <a:pt x="5754" y="17272"/>
                  <a:pt x="5705" y="17388"/>
                </a:cubicBezTo>
                <a:cubicBezTo>
                  <a:pt x="5655" y="17505"/>
                  <a:pt x="5474" y="17825"/>
                  <a:pt x="5531" y="17711"/>
                </a:cubicBezTo>
                <a:cubicBezTo>
                  <a:pt x="5539" y="17703"/>
                  <a:pt x="5548" y="17694"/>
                  <a:pt x="5556" y="176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3640" y="6180120"/>
            <a:ext cx="90360" cy="79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6424" y="17190"/>
                </a:moveTo>
                <a:cubicBezTo>
                  <a:pt x="6357" y="17190"/>
                  <a:pt x="6537" y="17166"/>
                  <a:pt x="6548" y="17165"/>
                </a:cubicBezTo>
                <a:cubicBezTo>
                  <a:pt x="6596" y="17162"/>
                  <a:pt x="6611" y="17168"/>
                  <a:pt x="6648" y="171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13000" y="6269040"/>
            <a:ext cx="108000" cy="9360"/>
          </a:xfrm>
          <a:custGeom>
            <a:avLst/>
            <a:gdLst/>
            <a:ahLst/>
            <a:rect l="l" t="t" r="r" b="b"/>
            <a:pathLst>
              <a:path w="299" h="26">
                <a:moveTo>
                  <a:pt x="6424" y="17438"/>
                </a:moveTo>
                <a:cubicBezTo>
                  <a:pt x="6521" y="17438"/>
                  <a:pt x="6603" y="17429"/>
                  <a:pt x="6697" y="17413"/>
                </a:cubicBezTo>
                <a:cubicBezTo>
                  <a:pt x="6705" y="17413"/>
                  <a:pt x="6714" y="17413"/>
                  <a:pt x="6722" y="1741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4200" y="6045120"/>
            <a:ext cx="258840" cy="401760"/>
          </a:xfrm>
          <a:custGeom>
            <a:avLst/>
            <a:gdLst/>
            <a:ahLst/>
            <a:rect l="l" t="t" r="r" b="b"/>
            <a:pathLst>
              <a:path w="720" h="1117">
                <a:moveTo>
                  <a:pt x="7243" y="17041"/>
                </a:moveTo>
                <a:cubicBezTo>
                  <a:pt x="7234" y="16982"/>
                  <a:pt x="7190" y="17045"/>
                  <a:pt x="7268" y="16917"/>
                </a:cubicBezTo>
                <a:cubicBezTo>
                  <a:pt x="7308" y="16852"/>
                  <a:pt x="7428" y="16731"/>
                  <a:pt x="7516" y="16818"/>
                </a:cubicBezTo>
                <a:cubicBezTo>
                  <a:pt x="7586" y="16887"/>
                  <a:pt x="7606" y="17046"/>
                  <a:pt x="7590" y="17140"/>
                </a:cubicBezTo>
                <a:cubicBezTo>
                  <a:pt x="7566" y="17281"/>
                  <a:pt x="7461" y="17389"/>
                  <a:pt x="7367" y="17487"/>
                </a:cubicBezTo>
                <a:cubicBezTo>
                  <a:pt x="7271" y="17586"/>
                  <a:pt x="7115" y="17737"/>
                  <a:pt x="7094" y="17884"/>
                </a:cubicBezTo>
                <a:cubicBezTo>
                  <a:pt x="7094" y="17909"/>
                  <a:pt x="7094" y="17917"/>
                  <a:pt x="7119" y="17909"/>
                </a:cubicBezTo>
                <a:cubicBezTo>
                  <a:pt x="7206" y="17793"/>
                  <a:pt x="7242" y="17721"/>
                  <a:pt x="7392" y="17760"/>
                </a:cubicBezTo>
                <a:cubicBezTo>
                  <a:pt x="7485" y="17784"/>
                  <a:pt x="7514" y="17867"/>
                  <a:pt x="7590" y="17884"/>
                </a:cubicBezTo>
                <a:cubicBezTo>
                  <a:pt x="7703" y="17910"/>
                  <a:pt x="7712" y="17831"/>
                  <a:pt x="7789" y="17785"/>
                </a:cubicBezTo>
                <a:cubicBezTo>
                  <a:pt x="7797" y="17785"/>
                  <a:pt x="7805" y="17785"/>
                  <a:pt x="7813" y="177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6089760"/>
            <a:ext cx="160200" cy="13500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8086" y="16917"/>
                </a:moveTo>
                <a:cubicBezTo>
                  <a:pt x="8116" y="17045"/>
                  <a:pt x="8096" y="17094"/>
                  <a:pt x="8062" y="17214"/>
                </a:cubicBezTo>
                <a:cubicBezTo>
                  <a:pt x="8062" y="17239"/>
                  <a:pt x="8062" y="17247"/>
                  <a:pt x="8037" y="17239"/>
                </a:cubicBezTo>
                <a:cubicBezTo>
                  <a:pt x="8143" y="17293"/>
                  <a:pt x="8247" y="17231"/>
                  <a:pt x="8359" y="17239"/>
                </a:cubicBezTo>
                <a:cubicBezTo>
                  <a:pt x="8392" y="17241"/>
                  <a:pt x="8458" y="17270"/>
                  <a:pt x="8483" y="172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2160" y="6054840"/>
            <a:ext cx="27000" cy="330120"/>
          </a:xfrm>
          <a:custGeom>
            <a:avLst/>
            <a:gdLst/>
            <a:ahLst/>
            <a:rect l="l" t="t" r="r" b="b"/>
            <a:pathLst>
              <a:path w="75" h="918">
                <a:moveTo>
                  <a:pt x="8508" y="16818"/>
                </a:moveTo>
                <a:cubicBezTo>
                  <a:pt x="8508" y="16963"/>
                  <a:pt x="8548" y="17096"/>
                  <a:pt x="8558" y="17239"/>
                </a:cubicBezTo>
                <a:cubicBezTo>
                  <a:pt x="8569" y="17396"/>
                  <a:pt x="8582" y="17554"/>
                  <a:pt x="8582" y="17711"/>
                </a:cubicBezTo>
                <a:cubicBezTo>
                  <a:pt x="8582" y="17719"/>
                  <a:pt x="8582" y="17727"/>
                  <a:pt x="8582" y="177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5884920"/>
            <a:ext cx="1616040" cy="741240"/>
          </a:xfrm>
          <a:custGeom>
            <a:avLst/>
            <a:gdLst/>
            <a:ahLst/>
            <a:rect l="l" t="t" r="r" b="b"/>
            <a:pathLst>
              <a:path w="4490" h="2060">
                <a:moveTo>
                  <a:pt x="4911" y="16545"/>
                </a:moveTo>
                <a:cubicBezTo>
                  <a:pt x="4911" y="16937"/>
                  <a:pt x="4982" y="17300"/>
                  <a:pt x="5011" y="17686"/>
                </a:cubicBezTo>
                <a:cubicBezTo>
                  <a:pt x="5025" y="17876"/>
                  <a:pt x="5013" y="18072"/>
                  <a:pt x="5035" y="18256"/>
                </a:cubicBezTo>
                <a:cubicBezTo>
                  <a:pt x="5035" y="18264"/>
                  <a:pt x="5035" y="18273"/>
                  <a:pt x="5035" y="18281"/>
                </a:cubicBezTo>
                <a:cubicBezTo>
                  <a:pt x="5149" y="18243"/>
                  <a:pt x="5258" y="18194"/>
                  <a:pt x="5383" y="18182"/>
                </a:cubicBezTo>
                <a:cubicBezTo>
                  <a:pt x="5578" y="18164"/>
                  <a:pt x="5762" y="18237"/>
                  <a:pt x="5953" y="18256"/>
                </a:cubicBezTo>
                <a:cubicBezTo>
                  <a:pt x="6129" y="18273"/>
                  <a:pt x="6296" y="18306"/>
                  <a:pt x="6474" y="18306"/>
                </a:cubicBezTo>
                <a:cubicBezTo>
                  <a:pt x="6692" y="18306"/>
                  <a:pt x="6904" y="18296"/>
                  <a:pt x="7119" y="18281"/>
                </a:cubicBezTo>
                <a:cubicBezTo>
                  <a:pt x="7562" y="18251"/>
                  <a:pt x="8018" y="18285"/>
                  <a:pt x="8458" y="18306"/>
                </a:cubicBezTo>
                <a:cubicBezTo>
                  <a:pt x="8641" y="18315"/>
                  <a:pt x="8824" y="18329"/>
                  <a:pt x="9004" y="18355"/>
                </a:cubicBezTo>
                <a:cubicBezTo>
                  <a:pt x="9049" y="18361"/>
                  <a:pt x="9210" y="18402"/>
                  <a:pt x="9227" y="18405"/>
                </a:cubicBezTo>
                <a:cubicBezTo>
                  <a:pt x="9235" y="18405"/>
                  <a:pt x="9244" y="18405"/>
                  <a:pt x="9252" y="18405"/>
                </a:cubicBezTo>
                <a:cubicBezTo>
                  <a:pt x="9259" y="18266"/>
                  <a:pt x="9260" y="18121"/>
                  <a:pt x="9277" y="17983"/>
                </a:cubicBezTo>
                <a:cubicBezTo>
                  <a:pt x="9297" y="17816"/>
                  <a:pt x="9302" y="17656"/>
                  <a:pt x="9302" y="17487"/>
                </a:cubicBezTo>
                <a:cubicBezTo>
                  <a:pt x="9302" y="17352"/>
                  <a:pt x="9314" y="17202"/>
                  <a:pt x="9327" y="17066"/>
                </a:cubicBezTo>
                <a:cubicBezTo>
                  <a:pt x="9346" y="16874"/>
                  <a:pt x="9351" y="16689"/>
                  <a:pt x="9351" y="16495"/>
                </a:cubicBezTo>
                <a:cubicBezTo>
                  <a:pt x="9351" y="16454"/>
                  <a:pt x="9351" y="16446"/>
                  <a:pt x="9351" y="16421"/>
                </a:cubicBezTo>
                <a:cubicBezTo>
                  <a:pt x="9211" y="16437"/>
                  <a:pt x="9075" y="16446"/>
                  <a:pt x="8930" y="16446"/>
                </a:cubicBezTo>
                <a:cubicBezTo>
                  <a:pt x="8747" y="16446"/>
                  <a:pt x="8588" y="16410"/>
                  <a:pt x="8409" y="16396"/>
                </a:cubicBezTo>
                <a:cubicBezTo>
                  <a:pt x="8212" y="16380"/>
                  <a:pt x="8009" y="16391"/>
                  <a:pt x="7813" y="16371"/>
                </a:cubicBezTo>
                <a:cubicBezTo>
                  <a:pt x="7654" y="16355"/>
                  <a:pt x="7504" y="16346"/>
                  <a:pt x="7342" y="16346"/>
                </a:cubicBezTo>
                <a:cubicBezTo>
                  <a:pt x="7150" y="16346"/>
                  <a:pt x="6963" y="16367"/>
                  <a:pt x="6772" y="16371"/>
                </a:cubicBezTo>
                <a:cubicBezTo>
                  <a:pt x="6563" y="16375"/>
                  <a:pt x="6359" y="16385"/>
                  <a:pt x="6152" y="16396"/>
                </a:cubicBezTo>
                <a:cubicBezTo>
                  <a:pt x="5927" y="16408"/>
                  <a:pt x="5704" y="16402"/>
                  <a:pt x="5482" y="16421"/>
                </a:cubicBezTo>
                <a:cubicBezTo>
                  <a:pt x="5351" y="16432"/>
                  <a:pt x="5212" y="16437"/>
                  <a:pt x="5085" y="16446"/>
                </a:cubicBezTo>
                <a:cubicBezTo>
                  <a:pt x="5028" y="16450"/>
                  <a:pt x="4985" y="16449"/>
                  <a:pt x="4936" y="16470"/>
                </a:cubicBezTo>
                <a:cubicBezTo>
                  <a:pt x="4900" y="16486"/>
                  <a:pt x="4869" y="16483"/>
                  <a:pt x="4862" y="16520"/>
                </a:cubicBezTo>
                <a:cubicBezTo>
                  <a:pt x="4878" y="16537"/>
                  <a:pt x="4895" y="16553"/>
                  <a:pt x="4911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nd answers to nearest hundredth if necess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47920" y="2438280"/>
                <a:ext cx="990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30320" y="4205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600200" y="4114800"/>
                <a:ext cx="1295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357200" y="2446200"/>
            <a:ext cx="438120" cy="1305000"/>
          </a:xfrm>
          <a:custGeom>
            <a:avLst/>
            <a:gdLst/>
            <a:ahLst/>
            <a:rect l="l" t="t" r="r" b="b"/>
            <a:pathLst>
              <a:path w="1217" h="3623">
                <a:moveTo>
                  <a:pt x="3795" y="9029"/>
                </a:moveTo>
                <a:cubicBezTo>
                  <a:pt x="3716" y="9029"/>
                  <a:pt x="3891" y="8993"/>
                  <a:pt x="3969" y="8979"/>
                </a:cubicBezTo>
                <a:cubicBezTo>
                  <a:pt x="4139" y="8949"/>
                  <a:pt x="4320" y="8919"/>
                  <a:pt x="4490" y="8905"/>
                </a:cubicBezTo>
                <a:cubicBezTo>
                  <a:pt x="4626" y="8894"/>
                  <a:pt x="4757" y="8903"/>
                  <a:pt x="4887" y="8880"/>
                </a:cubicBezTo>
                <a:cubicBezTo>
                  <a:pt x="4916" y="8875"/>
                  <a:pt x="4956" y="8880"/>
                  <a:pt x="4986" y="8880"/>
                </a:cubicBezTo>
              </a:path>
              <a:path w="1217" h="3623">
                <a:moveTo>
                  <a:pt x="4440" y="9203"/>
                </a:moveTo>
                <a:cubicBezTo>
                  <a:pt x="4400" y="9143"/>
                  <a:pt x="4334" y="9208"/>
                  <a:pt x="4266" y="9227"/>
                </a:cubicBezTo>
                <a:cubicBezTo>
                  <a:pt x="4226" y="9238"/>
                  <a:pt x="4242" y="9280"/>
                  <a:pt x="4242" y="9327"/>
                </a:cubicBezTo>
                <a:cubicBezTo>
                  <a:pt x="4242" y="9343"/>
                  <a:pt x="4242" y="9360"/>
                  <a:pt x="4242" y="9376"/>
                </a:cubicBezTo>
                <a:cubicBezTo>
                  <a:pt x="4320" y="9376"/>
                  <a:pt x="4387" y="9293"/>
                  <a:pt x="4465" y="9327"/>
                </a:cubicBezTo>
                <a:cubicBezTo>
                  <a:pt x="4579" y="9377"/>
                  <a:pt x="4385" y="9462"/>
                  <a:pt x="4366" y="9475"/>
                </a:cubicBezTo>
                <a:cubicBezTo>
                  <a:pt x="4343" y="9498"/>
                  <a:pt x="4339" y="9506"/>
                  <a:pt x="4316" y="9500"/>
                </a:cubicBezTo>
              </a:path>
              <a:path w="1217" h="3623">
                <a:moveTo>
                  <a:pt x="4043" y="9748"/>
                </a:moveTo>
                <a:cubicBezTo>
                  <a:pt x="4201" y="9660"/>
                  <a:pt x="4365" y="9669"/>
                  <a:pt x="4539" y="9624"/>
                </a:cubicBezTo>
                <a:cubicBezTo>
                  <a:pt x="4590" y="9611"/>
                  <a:pt x="4590" y="9599"/>
                  <a:pt x="4638" y="9599"/>
                </a:cubicBezTo>
              </a:path>
              <a:path w="1217" h="3623">
                <a:moveTo>
                  <a:pt x="4217" y="10046"/>
                </a:moveTo>
                <a:cubicBezTo>
                  <a:pt x="4322" y="9980"/>
                  <a:pt x="4440" y="9946"/>
                  <a:pt x="4564" y="9922"/>
                </a:cubicBezTo>
                <a:cubicBezTo>
                  <a:pt x="4572" y="9922"/>
                  <a:pt x="4581" y="9922"/>
                  <a:pt x="4589" y="9922"/>
                </a:cubicBezTo>
                <a:cubicBezTo>
                  <a:pt x="4572" y="10055"/>
                  <a:pt x="4537" y="10187"/>
                  <a:pt x="4514" y="10319"/>
                </a:cubicBezTo>
                <a:cubicBezTo>
                  <a:pt x="4514" y="10344"/>
                  <a:pt x="4514" y="10352"/>
                  <a:pt x="4514" y="10368"/>
                </a:cubicBezTo>
              </a:path>
              <a:path w="1217" h="3623">
                <a:moveTo>
                  <a:pt x="4316" y="6796"/>
                </a:moveTo>
                <a:cubicBezTo>
                  <a:pt x="4325" y="6916"/>
                  <a:pt x="4376" y="7026"/>
                  <a:pt x="4390" y="7144"/>
                </a:cubicBezTo>
                <a:cubicBezTo>
                  <a:pt x="4402" y="7249"/>
                  <a:pt x="4413" y="7339"/>
                  <a:pt x="4440" y="7441"/>
                </a:cubicBezTo>
                <a:cubicBezTo>
                  <a:pt x="4477" y="7582"/>
                  <a:pt x="4498" y="7726"/>
                  <a:pt x="4539" y="7863"/>
                </a:cubicBezTo>
                <a:cubicBezTo>
                  <a:pt x="4571" y="7970"/>
                  <a:pt x="4569" y="8078"/>
                  <a:pt x="4589" y="8186"/>
                </a:cubicBezTo>
                <a:cubicBezTo>
                  <a:pt x="4600" y="8246"/>
                  <a:pt x="4633" y="8331"/>
                  <a:pt x="4638" y="8384"/>
                </a:cubicBezTo>
                <a:cubicBezTo>
                  <a:pt x="4673" y="8745"/>
                  <a:pt x="4624" y="9116"/>
                  <a:pt x="4663" y="9475"/>
                </a:cubicBezTo>
                <a:cubicBezTo>
                  <a:pt x="4675" y="9590"/>
                  <a:pt x="4676" y="9709"/>
                  <a:pt x="4688" y="9823"/>
                </a:cubicBezTo>
                <a:cubicBezTo>
                  <a:pt x="4697" y="9913"/>
                  <a:pt x="4705" y="10009"/>
                  <a:pt x="4713" y="10096"/>
                </a:cubicBezTo>
                <a:cubicBezTo>
                  <a:pt x="4720" y="10170"/>
                  <a:pt x="4732" y="10251"/>
                  <a:pt x="4738" y="10319"/>
                </a:cubicBezTo>
                <a:cubicBezTo>
                  <a:pt x="4743" y="10377"/>
                  <a:pt x="4753" y="10394"/>
                  <a:pt x="4762" y="104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70080" y="2928960"/>
            <a:ext cx="330120" cy="581040"/>
          </a:xfrm>
          <a:custGeom>
            <a:avLst/>
            <a:gdLst/>
            <a:ahLst/>
            <a:rect l="l" t="t" r="r" b="b"/>
            <a:pathLst>
              <a:path w="918" h="1613">
                <a:moveTo>
                  <a:pt x="6028" y="8210"/>
                </a:moveTo>
                <a:cubicBezTo>
                  <a:pt x="6172" y="8210"/>
                  <a:pt x="6305" y="8201"/>
                  <a:pt x="6449" y="8186"/>
                </a:cubicBezTo>
                <a:cubicBezTo>
                  <a:pt x="6616" y="8169"/>
                  <a:pt x="6779" y="8145"/>
                  <a:pt x="6945" y="8136"/>
                </a:cubicBezTo>
              </a:path>
              <a:path w="918" h="1613">
                <a:moveTo>
                  <a:pt x="6697" y="8409"/>
                </a:moveTo>
                <a:cubicBezTo>
                  <a:pt x="6599" y="8409"/>
                  <a:pt x="6491" y="8419"/>
                  <a:pt x="6400" y="8458"/>
                </a:cubicBezTo>
                <a:cubicBezTo>
                  <a:pt x="6349" y="8480"/>
                  <a:pt x="6375" y="8564"/>
                  <a:pt x="6375" y="8607"/>
                </a:cubicBezTo>
                <a:cubicBezTo>
                  <a:pt x="6426" y="8633"/>
                  <a:pt x="6521" y="8573"/>
                  <a:pt x="6598" y="8558"/>
                </a:cubicBezTo>
                <a:cubicBezTo>
                  <a:pt x="6638" y="8558"/>
                  <a:pt x="6657" y="8568"/>
                  <a:pt x="6672" y="8607"/>
                </a:cubicBezTo>
                <a:cubicBezTo>
                  <a:pt x="6636" y="8752"/>
                  <a:pt x="6587" y="8751"/>
                  <a:pt x="6449" y="8806"/>
                </a:cubicBezTo>
              </a:path>
              <a:path w="918" h="1613">
                <a:moveTo>
                  <a:pt x="6276" y="9029"/>
                </a:moveTo>
                <a:cubicBezTo>
                  <a:pt x="6465" y="9005"/>
                  <a:pt x="6654" y="8953"/>
                  <a:pt x="6846" y="8930"/>
                </a:cubicBezTo>
                <a:cubicBezTo>
                  <a:pt x="6888" y="8930"/>
                  <a:pt x="6896" y="8930"/>
                  <a:pt x="6921" y="8930"/>
                </a:cubicBezTo>
              </a:path>
              <a:path w="918" h="1613">
                <a:moveTo>
                  <a:pt x="6424" y="9302"/>
                </a:moveTo>
                <a:cubicBezTo>
                  <a:pt x="6514" y="9194"/>
                  <a:pt x="6651" y="9176"/>
                  <a:pt x="6796" y="9153"/>
                </a:cubicBezTo>
                <a:cubicBezTo>
                  <a:pt x="6821" y="9153"/>
                  <a:pt x="6829" y="9153"/>
                  <a:pt x="6846" y="9153"/>
                </a:cubicBezTo>
                <a:cubicBezTo>
                  <a:pt x="6793" y="9344"/>
                  <a:pt x="6727" y="9533"/>
                  <a:pt x="6672" y="9723"/>
                </a:cubicBezTo>
                <a:cubicBezTo>
                  <a:pt x="6672" y="9751"/>
                  <a:pt x="6674" y="9757"/>
                  <a:pt x="6697" y="972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6880" y="2536920"/>
            <a:ext cx="1233360" cy="61920"/>
          </a:xfrm>
          <a:custGeom>
            <a:avLst/>
            <a:gdLst/>
            <a:ahLst/>
            <a:rect l="l" t="t" r="r" b="b"/>
            <a:pathLst>
              <a:path w="3424" h="174">
                <a:moveTo>
                  <a:pt x="17909" y="7218"/>
                </a:moveTo>
                <a:cubicBezTo>
                  <a:pt x="17909" y="7193"/>
                  <a:pt x="17909" y="7185"/>
                  <a:pt x="17934" y="7193"/>
                </a:cubicBezTo>
              </a:path>
              <a:path w="3424" h="174">
                <a:moveTo>
                  <a:pt x="17934" y="7169"/>
                </a:moveTo>
                <a:lnTo>
                  <a:pt x="17934" y="7169"/>
                </a:lnTo>
              </a:path>
              <a:path w="3424" h="174">
                <a:moveTo>
                  <a:pt x="20935" y="7119"/>
                </a:moveTo>
                <a:cubicBezTo>
                  <a:pt x="21084" y="7058"/>
                  <a:pt x="21175" y="7034"/>
                  <a:pt x="21332" y="70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6200" y="2616120"/>
            <a:ext cx="179640" cy="438120"/>
          </a:xfrm>
          <a:custGeom>
            <a:avLst/>
            <a:gdLst/>
            <a:ahLst/>
            <a:rect l="l" t="t" r="r" b="b"/>
            <a:pathLst>
              <a:path w="497" h="1216">
                <a:moveTo>
                  <a:pt x="10046" y="7317"/>
                </a:moveTo>
                <a:cubicBezTo>
                  <a:pt x="10205" y="7440"/>
                  <a:pt x="10281" y="7644"/>
                  <a:pt x="10393" y="7813"/>
                </a:cubicBezTo>
                <a:cubicBezTo>
                  <a:pt x="10448" y="7886"/>
                  <a:pt x="10473" y="7886"/>
                  <a:pt x="10468" y="7938"/>
                </a:cubicBezTo>
              </a:path>
              <a:path w="497" h="1216">
                <a:moveTo>
                  <a:pt x="10542" y="7268"/>
                </a:moveTo>
                <a:cubicBezTo>
                  <a:pt x="10532" y="7613"/>
                  <a:pt x="10544" y="7967"/>
                  <a:pt x="10517" y="8310"/>
                </a:cubicBezTo>
                <a:cubicBezTo>
                  <a:pt x="10511" y="8383"/>
                  <a:pt x="10492" y="8419"/>
                  <a:pt x="10492" y="84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10040" y="2643120"/>
            <a:ext cx="115920" cy="115920"/>
          </a:xfrm>
          <a:custGeom>
            <a:avLst/>
            <a:gdLst/>
            <a:ahLst/>
            <a:rect l="l" t="t" r="r" b="b"/>
            <a:pathLst>
              <a:path w="324" h="324">
                <a:moveTo>
                  <a:pt x="11162" y="7367"/>
                </a:moveTo>
                <a:cubicBezTo>
                  <a:pt x="11232" y="7358"/>
                  <a:pt x="11388" y="7306"/>
                  <a:pt x="11460" y="7342"/>
                </a:cubicBezTo>
                <a:cubicBezTo>
                  <a:pt x="11460" y="7350"/>
                  <a:pt x="11460" y="7359"/>
                  <a:pt x="11460" y="7367"/>
                </a:cubicBezTo>
              </a:path>
              <a:path w="324" h="324">
                <a:moveTo>
                  <a:pt x="11137" y="7665"/>
                </a:moveTo>
                <a:cubicBezTo>
                  <a:pt x="11246" y="7657"/>
                  <a:pt x="11350" y="7640"/>
                  <a:pt x="11460" y="76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9080" y="2509920"/>
            <a:ext cx="1054080" cy="588960"/>
          </a:xfrm>
          <a:custGeom>
            <a:avLst/>
            <a:gdLst/>
            <a:ahLst/>
            <a:rect l="l" t="t" r="r" b="b"/>
            <a:pathLst>
              <a:path w="2928" h="1638">
                <a:moveTo>
                  <a:pt x="12849" y="7119"/>
                </a:moveTo>
                <a:cubicBezTo>
                  <a:pt x="12797" y="7014"/>
                  <a:pt x="12697" y="7060"/>
                  <a:pt x="12601" y="7094"/>
                </a:cubicBezTo>
                <a:cubicBezTo>
                  <a:pt x="12495" y="7131"/>
                  <a:pt x="12472" y="7148"/>
                  <a:pt x="12402" y="7218"/>
                </a:cubicBezTo>
                <a:cubicBezTo>
                  <a:pt x="12506" y="7374"/>
                  <a:pt x="12708" y="7426"/>
                  <a:pt x="12824" y="7590"/>
                </a:cubicBezTo>
                <a:cubicBezTo>
                  <a:pt x="12908" y="7710"/>
                  <a:pt x="12908" y="7888"/>
                  <a:pt x="12725" y="7888"/>
                </a:cubicBezTo>
                <a:cubicBezTo>
                  <a:pt x="12515" y="7888"/>
                  <a:pt x="12514" y="7742"/>
                  <a:pt x="12576" y="7590"/>
                </a:cubicBezTo>
                <a:cubicBezTo>
                  <a:pt x="12634" y="7448"/>
                  <a:pt x="12789" y="7333"/>
                  <a:pt x="12824" y="7193"/>
                </a:cubicBezTo>
                <a:cubicBezTo>
                  <a:pt x="12824" y="7165"/>
                  <a:pt x="12821" y="7155"/>
                  <a:pt x="12799" y="7144"/>
                </a:cubicBezTo>
              </a:path>
              <a:path w="2928" h="1638">
                <a:moveTo>
                  <a:pt x="13469" y="7516"/>
                </a:moveTo>
                <a:cubicBezTo>
                  <a:pt x="13580" y="7516"/>
                  <a:pt x="14036" y="7582"/>
                  <a:pt x="13940" y="7466"/>
                </a:cubicBezTo>
              </a:path>
              <a:path w="2928" h="1638">
                <a:moveTo>
                  <a:pt x="13593" y="7193"/>
                </a:moveTo>
                <a:cubicBezTo>
                  <a:pt x="13593" y="7259"/>
                  <a:pt x="13593" y="7292"/>
                  <a:pt x="13593" y="7342"/>
                </a:cubicBezTo>
              </a:path>
              <a:path w="2928" h="1638">
                <a:moveTo>
                  <a:pt x="13643" y="7913"/>
                </a:moveTo>
                <a:cubicBezTo>
                  <a:pt x="13643" y="7998"/>
                  <a:pt x="13620" y="8009"/>
                  <a:pt x="13692" y="7913"/>
                </a:cubicBezTo>
              </a:path>
              <a:path w="2928" h="1638">
                <a:moveTo>
                  <a:pt x="14784" y="6970"/>
                </a:moveTo>
                <a:cubicBezTo>
                  <a:pt x="14704" y="6986"/>
                  <a:pt x="14615" y="7015"/>
                  <a:pt x="14536" y="7045"/>
                </a:cubicBezTo>
                <a:cubicBezTo>
                  <a:pt x="14441" y="7081"/>
                  <a:pt x="14479" y="7162"/>
                  <a:pt x="14486" y="7243"/>
                </a:cubicBezTo>
                <a:cubicBezTo>
                  <a:pt x="14486" y="7260"/>
                  <a:pt x="14486" y="7276"/>
                  <a:pt x="14486" y="7293"/>
                </a:cubicBezTo>
                <a:cubicBezTo>
                  <a:pt x="14616" y="7285"/>
                  <a:pt x="14810" y="7200"/>
                  <a:pt x="14932" y="7268"/>
                </a:cubicBezTo>
                <a:cubicBezTo>
                  <a:pt x="15083" y="7353"/>
                  <a:pt x="14929" y="7567"/>
                  <a:pt x="14833" y="7615"/>
                </a:cubicBezTo>
                <a:cubicBezTo>
                  <a:pt x="14751" y="7636"/>
                  <a:pt x="14735" y="7644"/>
                  <a:pt x="14684" y="7640"/>
                </a:cubicBezTo>
              </a:path>
              <a:path w="2928" h="1638">
                <a:moveTo>
                  <a:pt x="14412" y="7813"/>
                </a:moveTo>
                <a:cubicBezTo>
                  <a:pt x="14657" y="7742"/>
                  <a:pt x="14899" y="7720"/>
                  <a:pt x="15156" y="7714"/>
                </a:cubicBezTo>
                <a:cubicBezTo>
                  <a:pt x="15214" y="7714"/>
                  <a:pt x="15238" y="7698"/>
                  <a:pt x="15230" y="7739"/>
                </a:cubicBezTo>
              </a:path>
              <a:path w="2928" h="1638">
                <a:moveTo>
                  <a:pt x="14734" y="8037"/>
                </a:moveTo>
                <a:cubicBezTo>
                  <a:pt x="14877" y="8000"/>
                  <a:pt x="15009" y="7972"/>
                  <a:pt x="15156" y="7962"/>
                </a:cubicBezTo>
                <a:cubicBezTo>
                  <a:pt x="15164" y="7962"/>
                  <a:pt x="15172" y="7962"/>
                  <a:pt x="15180" y="7962"/>
                </a:cubicBezTo>
                <a:cubicBezTo>
                  <a:pt x="15158" y="8121"/>
                  <a:pt x="15092" y="8261"/>
                  <a:pt x="15032" y="8409"/>
                </a:cubicBezTo>
                <a:cubicBezTo>
                  <a:pt x="14996" y="8499"/>
                  <a:pt x="14979" y="8504"/>
                  <a:pt x="14982" y="8558"/>
                </a:cubicBezTo>
              </a:path>
              <a:path w="2928" h="1638">
                <a:moveTo>
                  <a:pt x="12328" y="8086"/>
                </a:moveTo>
                <a:cubicBezTo>
                  <a:pt x="12201" y="8086"/>
                  <a:pt x="12524" y="8050"/>
                  <a:pt x="12650" y="8037"/>
                </a:cubicBezTo>
                <a:cubicBezTo>
                  <a:pt x="12783" y="8023"/>
                  <a:pt x="12988" y="7867"/>
                  <a:pt x="13047" y="7987"/>
                </a:cubicBezTo>
                <a:cubicBezTo>
                  <a:pt x="13047" y="8004"/>
                  <a:pt x="13047" y="8020"/>
                  <a:pt x="13047" y="8037"/>
                </a:cubicBezTo>
              </a:path>
              <a:path w="2928" h="1638">
                <a:moveTo>
                  <a:pt x="12650" y="8210"/>
                </a:moveTo>
                <a:cubicBezTo>
                  <a:pt x="12650" y="8110"/>
                  <a:pt x="12673" y="8358"/>
                  <a:pt x="12675" y="8458"/>
                </a:cubicBezTo>
                <a:cubicBezTo>
                  <a:pt x="12675" y="8541"/>
                  <a:pt x="12675" y="8557"/>
                  <a:pt x="12675" y="860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9960" y="2517840"/>
            <a:ext cx="2448000" cy="608040"/>
          </a:xfrm>
          <a:custGeom>
            <a:avLst/>
            <a:gdLst/>
            <a:ahLst/>
            <a:rect l="l" t="t" r="r" b="b"/>
            <a:pathLst>
              <a:path w="6798" h="1688">
                <a:moveTo>
                  <a:pt x="19422" y="7094"/>
                </a:moveTo>
                <a:cubicBezTo>
                  <a:pt x="19497" y="7079"/>
                  <a:pt x="19564" y="7069"/>
                  <a:pt x="19645" y="7069"/>
                </a:cubicBezTo>
                <a:cubicBezTo>
                  <a:pt x="19687" y="7069"/>
                  <a:pt x="19695" y="7069"/>
                  <a:pt x="19720" y="7069"/>
                </a:cubicBezTo>
                <a:cubicBezTo>
                  <a:pt x="19698" y="7222"/>
                  <a:pt x="19619" y="7333"/>
                  <a:pt x="19546" y="7466"/>
                </a:cubicBezTo>
                <a:cubicBezTo>
                  <a:pt x="19526" y="7507"/>
                  <a:pt x="19517" y="7513"/>
                  <a:pt x="19521" y="7541"/>
                </a:cubicBezTo>
              </a:path>
              <a:path w="6798" h="1688">
                <a:moveTo>
                  <a:pt x="19124" y="7938"/>
                </a:moveTo>
                <a:cubicBezTo>
                  <a:pt x="19333" y="7889"/>
                  <a:pt x="19575" y="7821"/>
                  <a:pt x="19794" y="7863"/>
                </a:cubicBezTo>
                <a:cubicBezTo>
                  <a:pt x="19802" y="7871"/>
                  <a:pt x="19811" y="7880"/>
                  <a:pt x="19819" y="7888"/>
                </a:cubicBezTo>
              </a:path>
              <a:path w="6798" h="1688">
                <a:moveTo>
                  <a:pt x="19621" y="8086"/>
                </a:moveTo>
                <a:cubicBezTo>
                  <a:pt x="19532" y="8099"/>
                  <a:pt x="19450" y="8134"/>
                  <a:pt x="19372" y="8161"/>
                </a:cubicBezTo>
                <a:cubicBezTo>
                  <a:pt x="19295" y="8187"/>
                  <a:pt x="19323" y="8285"/>
                  <a:pt x="19323" y="8359"/>
                </a:cubicBezTo>
                <a:cubicBezTo>
                  <a:pt x="19323" y="8367"/>
                  <a:pt x="19323" y="8376"/>
                  <a:pt x="19323" y="8384"/>
                </a:cubicBezTo>
                <a:cubicBezTo>
                  <a:pt x="19410" y="8359"/>
                  <a:pt x="19527" y="8285"/>
                  <a:pt x="19621" y="8359"/>
                </a:cubicBezTo>
                <a:cubicBezTo>
                  <a:pt x="19800" y="8501"/>
                  <a:pt x="19505" y="8659"/>
                  <a:pt x="19397" y="8682"/>
                </a:cubicBezTo>
                <a:cubicBezTo>
                  <a:pt x="19296" y="8682"/>
                  <a:pt x="19265" y="8702"/>
                  <a:pt x="19248" y="8632"/>
                </a:cubicBezTo>
              </a:path>
              <a:path w="6798" h="1688">
                <a:moveTo>
                  <a:pt x="17983" y="7193"/>
                </a:moveTo>
                <a:cubicBezTo>
                  <a:pt x="18017" y="7144"/>
                  <a:pt x="17943" y="7169"/>
                  <a:pt x="17884" y="7169"/>
                </a:cubicBezTo>
                <a:cubicBezTo>
                  <a:pt x="17814" y="7169"/>
                  <a:pt x="17780" y="7198"/>
                  <a:pt x="17735" y="7243"/>
                </a:cubicBezTo>
                <a:cubicBezTo>
                  <a:pt x="17773" y="7319"/>
                  <a:pt x="17907" y="7353"/>
                  <a:pt x="17959" y="7441"/>
                </a:cubicBezTo>
                <a:cubicBezTo>
                  <a:pt x="18038" y="7574"/>
                  <a:pt x="17768" y="7621"/>
                  <a:pt x="17711" y="7615"/>
                </a:cubicBezTo>
                <a:cubicBezTo>
                  <a:pt x="17670" y="7595"/>
                  <a:pt x="17654" y="7597"/>
                  <a:pt x="17661" y="7565"/>
                </a:cubicBezTo>
                <a:cubicBezTo>
                  <a:pt x="17696" y="7426"/>
                  <a:pt x="17802" y="7366"/>
                  <a:pt x="17884" y="7243"/>
                </a:cubicBezTo>
                <a:cubicBezTo>
                  <a:pt x="17884" y="7208"/>
                  <a:pt x="17875" y="7195"/>
                  <a:pt x="17835" y="7193"/>
                </a:cubicBezTo>
              </a:path>
              <a:path w="6798" h="1688">
                <a:moveTo>
                  <a:pt x="17363" y="7913"/>
                </a:moveTo>
                <a:cubicBezTo>
                  <a:pt x="17496" y="7913"/>
                  <a:pt x="17625" y="7890"/>
                  <a:pt x="17760" y="7888"/>
                </a:cubicBezTo>
                <a:cubicBezTo>
                  <a:pt x="17850" y="7887"/>
                  <a:pt x="18096" y="7823"/>
                  <a:pt x="18058" y="7938"/>
                </a:cubicBezTo>
              </a:path>
              <a:path w="6798" h="1688">
                <a:moveTo>
                  <a:pt x="17711" y="8161"/>
                </a:moveTo>
                <a:cubicBezTo>
                  <a:pt x="17711" y="8089"/>
                  <a:pt x="17688" y="8424"/>
                  <a:pt x="17686" y="8434"/>
                </a:cubicBezTo>
                <a:cubicBezTo>
                  <a:pt x="17667" y="8508"/>
                  <a:pt x="17659" y="8515"/>
                  <a:pt x="17661" y="8558"/>
                </a:cubicBezTo>
              </a:path>
              <a:path w="6798" h="1688">
                <a:moveTo>
                  <a:pt x="18355" y="7714"/>
                </a:moveTo>
                <a:cubicBezTo>
                  <a:pt x="18472" y="7781"/>
                  <a:pt x="18577" y="7911"/>
                  <a:pt x="18678" y="8012"/>
                </a:cubicBezTo>
                <a:cubicBezTo>
                  <a:pt x="18708" y="8042"/>
                  <a:pt x="18703" y="8046"/>
                  <a:pt x="18703" y="8086"/>
                </a:cubicBezTo>
              </a:path>
              <a:path w="6798" h="1688">
                <a:moveTo>
                  <a:pt x="18752" y="7665"/>
                </a:moveTo>
                <a:cubicBezTo>
                  <a:pt x="18637" y="7789"/>
                  <a:pt x="18501" y="7923"/>
                  <a:pt x="18405" y="8062"/>
                </a:cubicBezTo>
                <a:cubicBezTo>
                  <a:pt x="18405" y="8070"/>
                  <a:pt x="18405" y="8078"/>
                  <a:pt x="18405" y="8086"/>
                </a:cubicBezTo>
              </a:path>
              <a:path w="6798" h="1688">
                <a:moveTo>
                  <a:pt x="20141" y="7888"/>
                </a:moveTo>
                <a:cubicBezTo>
                  <a:pt x="20209" y="7878"/>
                  <a:pt x="20271" y="7863"/>
                  <a:pt x="20340" y="7863"/>
                </a:cubicBezTo>
              </a:path>
              <a:path w="6798" h="1688">
                <a:moveTo>
                  <a:pt x="20166" y="8062"/>
                </a:moveTo>
                <a:cubicBezTo>
                  <a:pt x="20256" y="8062"/>
                  <a:pt x="20326" y="8054"/>
                  <a:pt x="20414" y="8037"/>
                </a:cubicBezTo>
              </a:path>
              <a:path w="6798" h="1688">
                <a:moveTo>
                  <a:pt x="20886" y="7169"/>
                </a:moveTo>
                <a:cubicBezTo>
                  <a:pt x="20862" y="7207"/>
                  <a:pt x="20863" y="7225"/>
                  <a:pt x="20836" y="7243"/>
                </a:cubicBezTo>
                <a:cubicBezTo>
                  <a:pt x="20953" y="7226"/>
                  <a:pt x="21043" y="7165"/>
                  <a:pt x="21109" y="7293"/>
                </a:cubicBezTo>
                <a:cubicBezTo>
                  <a:pt x="21175" y="7420"/>
                  <a:pt x="21034" y="7524"/>
                  <a:pt x="20910" y="7491"/>
                </a:cubicBezTo>
                <a:cubicBezTo>
                  <a:pt x="20811" y="7464"/>
                  <a:pt x="20819" y="7418"/>
                  <a:pt x="20811" y="7342"/>
                </a:cubicBezTo>
              </a:path>
              <a:path w="6798" h="1688">
                <a:moveTo>
                  <a:pt x="21456" y="7045"/>
                </a:moveTo>
                <a:cubicBezTo>
                  <a:pt x="21429" y="7139"/>
                  <a:pt x="21353" y="7262"/>
                  <a:pt x="21357" y="7367"/>
                </a:cubicBezTo>
                <a:cubicBezTo>
                  <a:pt x="21363" y="7515"/>
                  <a:pt x="21576" y="7467"/>
                  <a:pt x="21654" y="7441"/>
                </a:cubicBezTo>
                <a:cubicBezTo>
                  <a:pt x="21733" y="7415"/>
                  <a:pt x="21763" y="7404"/>
                  <a:pt x="21779" y="7342"/>
                </a:cubicBezTo>
                <a:cubicBezTo>
                  <a:pt x="21681" y="7322"/>
                  <a:pt x="21645" y="7323"/>
                  <a:pt x="21555" y="7392"/>
                </a:cubicBezTo>
                <a:cubicBezTo>
                  <a:pt x="21487" y="7445"/>
                  <a:pt x="21506" y="7488"/>
                  <a:pt x="21506" y="7565"/>
                </a:cubicBezTo>
              </a:path>
              <a:path w="6798" h="1688">
                <a:moveTo>
                  <a:pt x="20737" y="7714"/>
                </a:moveTo>
                <a:cubicBezTo>
                  <a:pt x="21001" y="7661"/>
                  <a:pt x="21262" y="7669"/>
                  <a:pt x="21530" y="7640"/>
                </a:cubicBezTo>
                <a:cubicBezTo>
                  <a:pt x="21666" y="7625"/>
                  <a:pt x="21811" y="7542"/>
                  <a:pt x="21779" y="7689"/>
                </a:cubicBezTo>
              </a:path>
              <a:path w="6798" h="1688">
                <a:moveTo>
                  <a:pt x="21307" y="7938"/>
                </a:moveTo>
                <a:cubicBezTo>
                  <a:pt x="21241" y="7938"/>
                  <a:pt x="21110" y="7915"/>
                  <a:pt x="21084" y="7962"/>
                </a:cubicBezTo>
                <a:cubicBezTo>
                  <a:pt x="21054" y="8018"/>
                  <a:pt x="21035" y="8078"/>
                  <a:pt x="21010" y="8136"/>
                </a:cubicBezTo>
                <a:cubicBezTo>
                  <a:pt x="21075" y="8136"/>
                  <a:pt x="21150" y="8122"/>
                  <a:pt x="21208" y="8161"/>
                </a:cubicBezTo>
                <a:cubicBezTo>
                  <a:pt x="21297" y="8220"/>
                  <a:pt x="21321" y="8354"/>
                  <a:pt x="21208" y="8409"/>
                </a:cubicBezTo>
                <a:cubicBezTo>
                  <a:pt x="21130" y="8447"/>
                  <a:pt x="21043" y="8434"/>
                  <a:pt x="20960" y="8434"/>
                </a:cubicBezTo>
              </a:path>
              <a:path w="6798" h="1688">
                <a:moveTo>
                  <a:pt x="22225" y="7491"/>
                </a:moveTo>
                <a:cubicBezTo>
                  <a:pt x="22283" y="7506"/>
                  <a:pt x="22326" y="7530"/>
                  <a:pt x="22399" y="7516"/>
                </a:cubicBezTo>
                <a:cubicBezTo>
                  <a:pt x="22468" y="7503"/>
                  <a:pt x="22481" y="7464"/>
                  <a:pt x="22498" y="7516"/>
                </a:cubicBezTo>
              </a:path>
              <a:path w="6798" h="1688">
                <a:moveTo>
                  <a:pt x="22225" y="7764"/>
                </a:moveTo>
                <a:cubicBezTo>
                  <a:pt x="22291" y="7764"/>
                  <a:pt x="22357" y="7764"/>
                  <a:pt x="22423" y="7764"/>
                </a:cubicBezTo>
              </a:path>
              <a:path w="6798" h="1688">
                <a:moveTo>
                  <a:pt x="22870" y="7317"/>
                </a:moveTo>
                <a:cubicBezTo>
                  <a:pt x="22870" y="7519"/>
                  <a:pt x="22856" y="7714"/>
                  <a:pt x="22820" y="7913"/>
                </a:cubicBezTo>
                <a:cubicBezTo>
                  <a:pt x="22802" y="7987"/>
                  <a:pt x="22794" y="7994"/>
                  <a:pt x="22796" y="8037"/>
                </a:cubicBezTo>
              </a:path>
              <a:path w="6798" h="1688">
                <a:moveTo>
                  <a:pt x="23292" y="7342"/>
                </a:moveTo>
                <a:cubicBezTo>
                  <a:pt x="23323" y="7391"/>
                  <a:pt x="23282" y="7620"/>
                  <a:pt x="23267" y="7714"/>
                </a:cubicBezTo>
                <a:cubicBezTo>
                  <a:pt x="23250" y="7816"/>
                  <a:pt x="23217" y="7909"/>
                  <a:pt x="23217" y="8012"/>
                </a:cubicBezTo>
              </a:path>
              <a:path w="6798" h="1688">
                <a:moveTo>
                  <a:pt x="23961" y="6995"/>
                </a:moveTo>
                <a:cubicBezTo>
                  <a:pt x="23945" y="7094"/>
                  <a:pt x="23904" y="7194"/>
                  <a:pt x="23887" y="7293"/>
                </a:cubicBezTo>
                <a:cubicBezTo>
                  <a:pt x="23887" y="7309"/>
                  <a:pt x="23887" y="7326"/>
                  <a:pt x="23887" y="7342"/>
                </a:cubicBezTo>
              </a:path>
              <a:path w="6798" h="1688">
                <a:moveTo>
                  <a:pt x="23614" y="7541"/>
                </a:moveTo>
                <a:cubicBezTo>
                  <a:pt x="23778" y="7506"/>
                  <a:pt x="23943" y="7474"/>
                  <a:pt x="24110" y="7466"/>
                </a:cubicBezTo>
                <a:cubicBezTo>
                  <a:pt x="24135" y="7466"/>
                  <a:pt x="24143" y="7466"/>
                  <a:pt x="24160" y="7466"/>
                </a:cubicBezTo>
              </a:path>
              <a:path w="6798" h="1688">
                <a:moveTo>
                  <a:pt x="23986" y="7689"/>
                </a:moveTo>
                <a:cubicBezTo>
                  <a:pt x="23851" y="7672"/>
                  <a:pt x="23785" y="7659"/>
                  <a:pt x="23738" y="7813"/>
                </a:cubicBezTo>
                <a:cubicBezTo>
                  <a:pt x="23738" y="7863"/>
                  <a:pt x="23738" y="7880"/>
                  <a:pt x="23738" y="7913"/>
                </a:cubicBezTo>
                <a:cubicBezTo>
                  <a:pt x="23833" y="7897"/>
                  <a:pt x="23910" y="7849"/>
                  <a:pt x="24011" y="7863"/>
                </a:cubicBezTo>
                <a:cubicBezTo>
                  <a:pt x="24036" y="7871"/>
                  <a:pt x="24060" y="7880"/>
                  <a:pt x="24085" y="7888"/>
                </a:cubicBezTo>
                <a:cubicBezTo>
                  <a:pt x="24067" y="8058"/>
                  <a:pt x="23998" y="8072"/>
                  <a:pt x="23837" y="8086"/>
                </a:cubicBezTo>
                <a:cubicBezTo>
                  <a:pt x="23780" y="8086"/>
                  <a:pt x="23755" y="8103"/>
                  <a:pt x="23763" y="80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2040" y="3384720"/>
            <a:ext cx="714240" cy="401400"/>
          </a:xfrm>
          <a:custGeom>
            <a:avLst/>
            <a:gdLst/>
            <a:ahLst/>
            <a:rect l="l" t="t" r="r" b="b"/>
            <a:pathLst>
              <a:path w="1985" h="1117">
                <a:moveTo>
                  <a:pt x="10864" y="9723"/>
                </a:moveTo>
                <a:cubicBezTo>
                  <a:pt x="10864" y="9682"/>
                  <a:pt x="10872" y="9666"/>
                  <a:pt x="10840" y="9674"/>
                </a:cubicBezTo>
                <a:cubicBezTo>
                  <a:pt x="10958" y="9654"/>
                  <a:pt x="11090" y="9861"/>
                  <a:pt x="11162" y="9971"/>
                </a:cubicBezTo>
                <a:cubicBezTo>
                  <a:pt x="11179" y="10004"/>
                  <a:pt x="11195" y="10038"/>
                  <a:pt x="11212" y="10071"/>
                </a:cubicBezTo>
              </a:path>
              <a:path w="1985" h="1117">
                <a:moveTo>
                  <a:pt x="11336" y="9599"/>
                </a:moveTo>
                <a:cubicBezTo>
                  <a:pt x="11284" y="9857"/>
                  <a:pt x="11242" y="10116"/>
                  <a:pt x="11162" y="10368"/>
                </a:cubicBezTo>
                <a:cubicBezTo>
                  <a:pt x="11114" y="10520"/>
                  <a:pt x="11081" y="10566"/>
                  <a:pt x="11162" y="10393"/>
                </a:cubicBezTo>
              </a:path>
              <a:path w="1985" h="1117">
                <a:moveTo>
                  <a:pt x="11658" y="9897"/>
                </a:moveTo>
                <a:cubicBezTo>
                  <a:pt x="11689" y="9850"/>
                  <a:pt x="11879" y="9833"/>
                  <a:pt x="11956" y="9823"/>
                </a:cubicBezTo>
                <a:cubicBezTo>
                  <a:pt x="12000" y="9823"/>
                  <a:pt x="12013" y="9820"/>
                  <a:pt x="12030" y="9847"/>
                </a:cubicBezTo>
              </a:path>
              <a:path w="1985" h="1117">
                <a:moveTo>
                  <a:pt x="11658" y="10120"/>
                </a:moveTo>
                <a:cubicBezTo>
                  <a:pt x="11785" y="10075"/>
                  <a:pt x="11923" y="10048"/>
                  <a:pt x="12055" y="10021"/>
                </a:cubicBezTo>
                <a:cubicBezTo>
                  <a:pt x="12063" y="10021"/>
                  <a:pt x="12072" y="10021"/>
                  <a:pt x="12080" y="10021"/>
                </a:cubicBezTo>
              </a:path>
              <a:path w="1985" h="1117">
                <a:moveTo>
                  <a:pt x="12452" y="9401"/>
                </a:moveTo>
                <a:cubicBezTo>
                  <a:pt x="12488" y="9637"/>
                  <a:pt x="12468" y="9858"/>
                  <a:pt x="12452" y="10096"/>
                </a:cubicBezTo>
                <a:cubicBezTo>
                  <a:pt x="12452" y="10154"/>
                  <a:pt x="12452" y="10195"/>
                  <a:pt x="12452" y="10145"/>
                </a:cubicBezTo>
              </a:path>
              <a:path w="1985" h="1117">
                <a:moveTo>
                  <a:pt x="12774" y="9401"/>
                </a:moveTo>
                <a:cubicBezTo>
                  <a:pt x="12833" y="9576"/>
                  <a:pt x="12805" y="9781"/>
                  <a:pt x="12799" y="9971"/>
                </a:cubicBezTo>
                <a:cubicBezTo>
                  <a:pt x="12796" y="10054"/>
                  <a:pt x="12775" y="10250"/>
                  <a:pt x="12799" y="10170"/>
                </a:cubicBezTo>
                <a:cubicBezTo>
                  <a:pt x="12807" y="10145"/>
                  <a:pt x="12816" y="10121"/>
                  <a:pt x="12824" y="1009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6200" y="3268800"/>
            <a:ext cx="206640" cy="428400"/>
          </a:xfrm>
          <a:custGeom>
            <a:avLst/>
            <a:gdLst/>
            <a:ahLst/>
            <a:rect l="l" t="t" r="r" b="b"/>
            <a:pathLst>
              <a:path w="572" h="1191">
                <a:moveTo>
                  <a:pt x="13494" y="9079"/>
                </a:moveTo>
                <a:cubicBezTo>
                  <a:pt x="13494" y="9219"/>
                  <a:pt x="13494" y="9360"/>
                  <a:pt x="13494" y="9500"/>
                </a:cubicBezTo>
              </a:path>
              <a:path w="572" h="1191">
                <a:moveTo>
                  <a:pt x="13295" y="9674"/>
                </a:moveTo>
                <a:cubicBezTo>
                  <a:pt x="13419" y="9644"/>
                  <a:pt x="13615" y="9540"/>
                  <a:pt x="13742" y="9550"/>
                </a:cubicBezTo>
                <a:cubicBezTo>
                  <a:pt x="13742" y="9558"/>
                  <a:pt x="13742" y="9567"/>
                  <a:pt x="13742" y="9575"/>
                </a:cubicBezTo>
              </a:path>
              <a:path w="572" h="1191">
                <a:moveTo>
                  <a:pt x="13643" y="9699"/>
                </a:moveTo>
                <a:cubicBezTo>
                  <a:pt x="13591" y="9707"/>
                  <a:pt x="13499" y="9718"/>
                  <a:pt x="13469" y="9773"/>
                </a:cubicBezTo>
                <a:cubicBezTo>
                  <a:pt x="13437" y="9831"/>
                  <a:pt x="13444" y="9929"/>
                  <a:pt x="13444" y="9996"/>
                </a:cubicBezTo>
                <a:cubicBezTo>
                  <a:pt x="13542" y="9964"/>
                  <a:pt x="13601" y="9906"/>
                  <a:pt x="13717" y="9922"/>
                </a:cubicBezTo>
                <a:cubicBezTo>
                  <a:pt x="13923" y="9950"/>
                  <a:pt x="13759" y="10187"/>
                  <a:pt x="13667" y="10244"/>
                </a:cubicBezTo>
                <a:cubicBezTo>
                  <a:pt x="13603" y="10283"/>
                  <a:pt x="13515" y="10269"/>
                  <a:pt x="13444" y="10269"/>
                </a:cubicBezTo>
              </a:path>
              <a:path w="572" h="1191">
                <a:moveTo>
                  <a:pt x="13643" y="9798"/>
                </a:moveTo>
                <a:cubicBezTo>
                  <a:pt x="13643" y="9773"/>
                  <a:pt x="13643" y="9765"/>
                  <a:pt x="13618" y="9773"/>
                </a:cubicBezTo>
                <a:cubicBezTo>
                  <a:pt x="13676" y="9729"/>
                  <a:pt x="13767" y="9713"/>
                  <a:pt x="13841" y="9699"/>
                </a:cubicBezTo>
                <a:cubicBezTo>
                  <a:pt x="13849" y="9699"/>
                  <a:pt x="13858" y="9699"/>
                  <a:pt x="13866" y="96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8720" y="4367160"/>
            <a:ext cx="7134120" cy="919080"/>
          </a:xfrm>
          <a:custGeom>
            <a:avLst/>
            <a:gdLst/>
            <a:ahLst/>
            <a:rect l="l" t="t" r="r" b="b"/>
            <a:pathLst>
              <a:path w="19820" h="2556">
                <a:moveTo>
                  <a:pt x="3051" y="13841"/>
                </a:moveTo>
                <a:lnTo>
                  <a:pt x="3051" y="13841"/>
                </a:lnTo>
              </a:path>
              <a:path w="19820" h="2556">
                <a:moveTo>
                  <a:pt x="10988" y="12353"/>
                </a:moveTo>
                <a:cubicBezTo>
                  <a:pt x="11048" y="12488"/>
                  <a:pt x="11108" y="12663"/>
                  <a:pt x="11286" y="12526"/>
                </a:cubicBezTo>
                <a:cubicBezTo>
                  <a:pt x="11303" y="12501"/>
                  <a:pt x="11319" y="12477"/>
                  <a:pt x="11336" y="12452"/>
                </a:cubicBezTo>
              </a:path>
              <a:path w="19820" h="2556">
                <a:moveTo>
                  <a:pt x="12105" y="12129"/>
                </a:moveTo>
                <a:cubicBezTo>
                  <a:pt x="12105" y="12180"/>
                  <a:pt x="12111" y="12214"/>
                  <a:pt x="12129" y="12254"/>
                </a:cubicBezTo>
              </a:path>
              <a:path w="19820" h="2556">
                <a:moveTo>
                  <a:pt x="12254" y="12799"/>
                </a:moveTo>
                <a:cubicBezTo>
                  <a:pt x="12270" y="12791"/>
                  <a:pt x="12287" y="12782"/>
                  <a:pt x="12303" y="12774"/>
                </a:cubicBezTo>
              </a:path>
              <a:path w="19820" h="2556">
                <a:moveTo>
                  <a:pt x="12303" y="12774"/>
                </a:moveTo>
                <a:lnTo>
                  <a:pt x="12303" y="12774"/>
                </a:lnTo>
              </a:path>
              <a:path w="19820" h="2556">
                <a:moveTo>
                  <a:pt x="13791" y="12502"/>
                </a:moveTo>
                <a:cubicBezTo>
                  <a:pt x="13974" y="12502"/>
                  <a:pt x="14040" y="12501"/>
                  <a:pt x="14163" y="12477"/>
                </a:cubicBezTo>
              </a:path>
              <a:path w="19820" h="2556">
                <a:moveTo>
                  <a:pt x="14660" y="12502"/>
                </a:moveTo>
                <a:cubicBezTo>
                  <a:pt x="14793" y="12478"/>
                  <a:pt x="14921" y="12459"/>
                  <a:pt x="15056" y="12452"/>
                </a:cubicBezTo>
              </a:path>
              <a:path w="19820" h="2556">
                <a:moveTo>
                  <a:pt x="14759" y="12675"/>
                </a:moveTo>
                <a:cubicBezTo>
                  <a:pt x="14948" y="12621"/>
                  <a:pt x="15022" y="12602"/>
                  <a:pt x="15156" y="12576"/>
                </a:cubicBezTo>
              </a:path>
              <a:path w="19820" h="2556">
                <a:moveTo>
                  <a:pt x="16148" y="12378"/>
                </a:moveTo>
                <a:cubicBezTo>
                  <a:pt x="16241" y="12544"/>
                  <a:pt x="16262" y="12622"/>
                  <a:pt x="16446" y="12551"/>
                </a:cubicBezTo>
              </a:path>
              <a:path w="19820" h="2556">
                <a:moveTo>
                  <a:pt x="16768" y="12477"/>
                </a:moveTo>
                <a:cubicBezTo>
                  <a:pt x="16909" y="12483"/>
                  <a:pt x="17049" y="12496"/>
                  <a:pt x="17190" y="12502"/>
                </a:cubicBezTo>
              </a:path>
              <a:path w="19820" h="2556">
                <a:moveTo>
                  <a:pt x="16867" y="12154"/>
                </a:moveTo>
                <a:cubicBezTo>
                  <a:pt x="16859" y="12154"/>
                  <a:pt x="16850" y="12154"/>
                  <a:pt x="16842" y="12154"/>
                </a:cubicBezTo>
              </a:path>
              <a:path w="19820" h="2556">
                <a:moveTo>
                  <a:pt x="16991" y="12675"/>
                </a:moveTo>
                <a:cubicBezTo>
                  <a:pt x="16999" y="12675"/>
                  <a:pt x="17008" y="12675"/>
                  <a:pt x="17016" y="12675"/>
                </a:cubicBezTo>
              </a:path>
              <a:path w="19820" h="2556">
                <a:moveTo>
                  <a:pt x="18579" y="12849"/>
                </a:moveTo>
                <a:cubicBezTo>
                  <a:pt x="18688" y="12844"/>
                  <a:pt x="18793" y="12833"/>
                  <a:pt x="18901" y="12824"/>
                </a:cubicBezTo>
              </a:path>
              <a:path w="19820" h="2556">
                <a:moveTo>
                  <a:pt x="18728" y="13022"/>
                </a:moveTo>
                <a:cubicBezTo>
                  <a:pt x="18786" y="13014"/>
                  <a:pt x="18843" y="13006"/>
                  <a:pt x="18901" y="12998"/>
                </a:cubicBezTo>
              </a:path>
              <a:path w="19820" h="2556">
                <a:moveTo>
                  <a:pt x="18901" y="12998"/>
                </a:moveTo>
                <a:lnTo>
                  <a:pt x="18901" y="12998"/>
                </a:lnTo>
              </a:path>
              <a:path w="19820" h="2556">
                <a:moveTo>
                  <a:pt x="21208" y="12973"/>
                </a:moveTo>
                <a:cubicBezTo>
                  <a:pt x="21134" y="13095"/>
                  <a:pt x="21082" y="13187"/>
                  <a:pt x="21034" y="13320"/>
                </a:cubicBezTo>
              </a:path>
              <a:path w="19820" h="2556">
                <a:moveTo>
                  <a:pt x="22399" y="14312"/>
                </a:moveTo>
                <a:cubicBezTo>
                  <a:pt x="22422" y="14438"/>
                  <a:pt x="22441" y="14557"/>
                  <a:pt x="22448" y="14684"/>
                </a:cubicBezTo>
              </a:path>
              <a:path w="19820" h="2556">
                <a:moveTo>
                  <a:pt x="22399" y="13221"/>
                </a:moveTo>
                <a:cubicBezTo>
                  <a:pt x="22522" y="13227"/>
                  <a:pt x="22626" y="13239"/>
                  <a:pt x="22746" y="13271"/>
                </a:cubicBezTo>
              </a:path>
              <a:path w="19820" h="2556">
                <a:moveTo>
                  <a:pt x="22547" y="13444"/>
                </a:moveTo>
                <a:cubicBezTo>
                  <a:pt x="22706" y="13417"/>
                  <a:pt x="22765" y="13406"/>
                  <a:pt x="22870" y="133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3120" y="4473720"/>
            <a:ext cx="1608120" cy="1670040"/>
          </a:xfrm>
          <a:custGeom>
            <a:avLst/>
            <a:gdLst/>
            <a:ahLst/>
            <a:rect l="l" t="t" r="r" b="b"/>
            <a:pathLst>
              <a:path w="4466" h="4640">
                <a:moveTo>
                  <a:pt x="4093" y="13618"/>
                </a:moveTo>
                <a:cubicBezTo>
                  <a:pt x="4314" y="13607"/>
                  <a:pt x="4544" y="13581"/>
                  <a:pt x="4762" y="13543"/>
                </a:cubicBezTo>
                <a:cubicBezTo>
                  <a:pt x="5086" y="13486"/>
                  <a:pt x="5404" y="13434"/>
                  <a:pt x="5730" y="13395"/>
                </a:cubicBezTo>
                <a:cubicBezTo>
                  <a:pt x="5895" y="13374"/>
                  <a:pt x="5928" y="13366"/>
                  <a:pt x="6028" y="13370"/>
                </a:cubicBezTo>
              </a:path>
              <a:path w="4466" h="4640">
                <a:moveTo>
                  <a:pt x="4514" y="14238"/>
                </a:moveTo>
                <a:cubicBezTo>
                  <a:pt x="4566" y="14186"/>
                  <a:pt x="4585" y="14169"/>
                  <a:pt x="4638" y="14163"/>
                </a:cubicBezTo>
                <a:cubicBezTo>
                  <a:pt x="4844" y="14340"/>
                  <a:pt x="4799" y="14557"/>
                  <a:pt x="4614" y="14784"/>
                </a:cubicBezTo>
                <a:cubicBezTo>
                  <a:pt x="4473" y="14957"/>
                  <a:pt x="4339" y="15019"/>
                  <a:pt x="4167" y="14982"/>
                </a:cubicBezTo>
                <a:cubicBezTo>
                  <a:pt x="4344" y="14779"/>
                  <a:pt x="4511" y="14608"/>
                  <a:pt x="4812" y="14709"/>
                </a:cubicBezTo>
                <a:cubicBezTo>
                  <a:pt x="4829" y="14726"/>
                  <a:pt x="4845" y="14742"/>
                  <a:pt x="4862" y="14759"/>
                </a:cubicBezTo>
              </a:path>
              <a:path w="4466" h="4640">
                <a:moveTo>
                  <a:pt x="5085" y="13965"/>
                </a:moveTo>
                <a:cubicBezTo>
                  <a:pt x="5209" y="13877"/>
                  <a:pt x="5253" y="13866"/>
                  <a:pt x="5383" y="13915"/>
                </a:cubicBezTo>
                <a:cubicBezTo>
                  <a:pt x="5393" y="14058"/>
                  <a:pt x="5338" y="14180"/>
                  <a:pt x="5159" y="14188"/>
                </a:cubicBezTo>
                <a:cubicBezTo>
                  <a:pt x="5151" y="14180"/>
                  <a:pt x="5143" y="14171"/>
                  <a:pt x="5135" y="14163"/>
                </a:cubicBezTo>
                <a:cubicBezTo>
                  <a:pt x="5265" y="14145"/>
                  <a:pt x="5353" y="14124"/>
                  <a:pt x="5482" y="14139"/>
                </a:cubicBezTo>
              </a:path>
              <a:path w="4466" h="4640">
                <a:moveTo>
                  <a:pt x="5135" y="14337"/>
                </a:moveTo>
                <a:cubicBezTo>
                  <a:pt x="5342" y="14268"/>
                  <a:pt x="5517" y="14212"/>
                  <a:pt x="5730" y="14188"/>
                </a:cubicBezTo>
              </a:path>
              <a:path w="4466" h="4640">
                <a:moveTo>
                  <a:pt x="5358" y="14585"/>
                </a:moveTo>
                <a:cubicBezTo>
                  <a:pt x="5419" y="14569"/>
                  <a:pt x="5781" y="14445"/>
                  <a:pt x="5581" y="14660"/>
                </a:cubicBezTo>
                <a:cubicBezTo>
                  <a:pt x="5500" y="14720"/>
                  <a:pt x="5487" y="14735"/>
                  <a:pt x="5432" y="14759"/>
                </a:cubicBezTo>
                <a:cubicBezTo>
                  <a:pt x="5501" y="14752"/>
                  <a:pt x="5796" y="14677"/>
                  <a:pt x="5730" y="14858"/>
                </a:cubicBezTo>
                <a:cubicBezTo>
                  <a:pt x="5663" y="15043"/>
                  <a:pt x="5481" y="14981"/>
                  <a:pt x="5358" y="14957"/>
                </a:cubicBezTo>
              </a:path>
              <a:path w="4466" h="4640">
                <a:moveTo>
                  <a:pt x="7020" y="13146"/>
                </a:moveTo>
                <a:cubicBezTo>
                  <a:pt x="7358" y="13054"/>
                  <a:pt x="7694" y="12968"/>
                  <a:pt x="8037" y="12898"/>
                </a:cubicBezTo>
                <a:cubicBezTo>
                  <a:pt x="8078" y="12890"/>
                  <a:pt x="8120" y="12882"/>
                  <a:pt x="8161" y="12874"/>
                </a:cubicBezTo>
              </a:path>
              <a:path w="4466" h="4640">
                <a:moveTo>
                  <a:pt x="7466" y="13419"/>
                </a:moveTo>
                <a:cubicBezTo>
                  <a:pt x="7648" y="13334"/>
                  <a:pt x="7822" y="13253"/>
                  <a:pt x="7913" y="13519"/>
                </a:cubicBezTo>
                <a:cubicBezTo>
                  <a:pt x="7993" y="13753"/>
                  <a:pt x="7730" y="13942"/>
                  <a:pt x="7541" y="13990"/>
                </a:cubicBezTo>
                <a:cubicBezTo>
                  <a:pt x="7435" y="13990"/>
                  <a:pt x="7406" y="14003"/>
                  <a:pt x="7367" y="13940"/>
                </a:cubicBezTo>
                <a:cubicBezTo>
                  <a:pt x="7497" y="13860"/>
                  <a:pt x="7690" y="13727"/>
                  <a:pt x="7838" y="13866"/>
                </a:cubicBezTo>
                <a:cubicBezTo>
                  <a:pt x="7838" y="13882"/>
                  <a:pt x="7838" y="13899"/>
                  <a:pt x="7838" y="13915"/>
                </a:cubicBezTo>
              </a:path>
              <a:path w="4466" h="4640">
                <a:moveTo>
                  <a:pt x="8037" y="13246"/>
                </a:moveTo>
                <a:cubicBezTo>
                  <a:pt x="8148" y="13179"/>
                  <a:pt x="8254" y="13168"/>
                  <a:pt x="8235" y="13345"/>
                </a:cubicBezTo>
                <a:cubicBezTo>
                  <a:pt x="8222" y="13467"/>
                  <a:pt x="8128" y="13438"/>
                  <a:pt x="8037" y="13444"/>
                </a:cubicBezTo>
                <a:cubicBezTo>
                  <a:pt x="8067" y="13397"/>
                  <a:pt x="8237" y="13405"/>
                  <a:pt x="8310" y="13419"/>
                </a:cubicBezTo>
                <a:cubicBezTo>
                  <a:pt x="8326" y="13427"/>
                  <a:pt x="8343" y="13436"/>
                  <a:pt x="8359" y="13444"/>
                </a:cubicBezTo>
              </a:path>
              <a:path w="4466" h="4640">
                <a:moveTo>
                  <a:pt x="8136" y="13593"/>
                </a:moveTo>
                <a:cubicBezTo>
                  <a:pt x="8269" y="13571"/>
                  <a:pt x="8401" y="13548"/>
                  <a:pt x="8533" y="13519"/>
                </a:cubicBezTo>
              </a:path>
              <a:path w="4466" h="4640">
                <a:moveTo>
                  <a:pt x="8186" y="13915"/>
                </a:moveTo>
                <a:cubicBezTo>
                  <a:pt x="8237" y="13913"/>
                  <a:pt x="8443" y="13909"/>
                  <a:pt x="8458" y="13915"/>
                </a:cubicBezTo>
                <a:cubicBezTo>
                  <a:pt x="8409" y="13981"/>
                  <a:pt x="8381" y="14028"/>
                  <a:pt x="8310" y="14064"/>
                </a:cubicBezTo>
                <a:cubicBezTo>
                  <a:pt x="8418" y="14080"/>
                  <a:pt x="8488" y="14094"/>
                  <a:pt x="8558" y="14163"/>
                </a:cubicBezTo>
                <a:cubicBezTo>
                  <a:pt x="8396" y="14325"/>
                  <a:pt x="8281" y="14307"/>
                  <a:pt x="8062" y="14263"/>
                </a:cubicBezTo>
              </a:path>
              <a:path w="4466" h="4640">
                <a:moveTo>
                  <a:pt x="5011" y="12427"/>
                </a:moveTo>
                <a:cubicBezTo>
                  <a:pt x="5097" y="12892"/>
                  <a:pt x="5150" y="13340"/>
                  <a:pt x="5135" y="13816"/>
                </a:cubicBezTo>
                <a:cubicBezTo>
                  <a:pt x="5127" y="14066"/>
                  <a:pt x="5037" y="14413"/>
                  <a:pt x="5085" y="14660"/>
                </a:cubicBezTo>
                <a:cubicBezTo>
                  <a:pt x="5093" y="14668"/>
                  <a:pt x="5102" y="14676"/>
                  <a:pt x="5110" y="14684"/>
                </a:cubicBezTo>
              </a:path>
              <a:path w="4466" h="4640">
                <a:moveTo>
                  <a:pt x="5060" y="16073"/>
                </a:moveTo>
                <a:cubicBezTo>
                  <a:pt x="5052" y="16288"/>
                  <a:pt x="5025" y="16463"/>
                  <a:pt x="4961" y="16669"/>
                </a:cubicBezTo>
                <a:cubicBezTo>
                  <a:pt x="4961" y="16542"/>
                  <a:pt x="5060" y="16340"/>
                  <a:pt x="5135" y="16247"/>
                </a:cubicBezTo>
                <a:cubicBezTo>
                  <a:pt x="5304" y="16036"/>
                  <a:pt x="5438" y="16153"/>
                  <a:pt x="5482" y="16371"/>
                </a:cubicBezTo>
                <a:cubicBezTo>
                  <a:pt x="5482" y="16412"/>
                  <a:pt x="5482" y="16454"/>
                  <a:pt x="5482" y="16495"/>
                </a:cubicBezTo>
                <a:cubicBezTo>
                  <a:pt x="5474" y="16495"/>
                  <a:pt x="5465" y="16495"/>
                  <a:pt x="5457" y="16495"/>
                </a:cubicBezTo>
                <a:cubicBezTo>
                  <a:pt x="5470" y="16331"/>
                  <a:pt x="5473" y="15922"/>
                  <a:pt x="5755" y="16049"/>
                </a:cubicBezTo>
                <a:cubicBezTo>
                  <a:pt x="5904" y="16116"/>
                  <a:pt x="5903" y="16331"/>
                  <a:pt x="5854" y="16446"/>
                </a:cubicBezTo>
              </a:path>
              <a:path w="4466" h="4640">
                <a:moveTo>
                  <a:pt x="6350" y="16073"/>
                </a:moveTo>
                <a:cubicBezTo>
                  <a:pt x="6479" y="16073"/>
                  <a:pt x="6596" y="16052"/>
                  <a:pt x="6722" y="16024"/>
                </a:cubicBezTo>
              </a:path>
              <a:path w="4466" h="4640">
                <a:moveTo>
                  <a:pt x="6350" y="16222"/>
                </a:moveTo>
                <a:cubicBezTo>
                  <a:pt x="6510" y="16177"/>
                  <a:pt x="6703" y="16145"/>
                  <a:pt x="6846" y="16073"/>
                </a:cubicBezTo>
              </a:path>
              <a:path w="4466" h="4640">
                <a:moveTo>
                  <a:pt x="7764" y="15949"/>
                </a:moveTo>
                <a:cubicBezTo>
                  <a:pt x="7706" y="15847"/>
                  <a:pt x="7623" y="15701"/>
                  <a:pt x="7491" y="15825"/>
                </a:cubicBezTo>
                <a:cubicBezTo>
                  <a:pt x="7420" y="15943"/>
                  <a:pt x="7396" y="15978"/>
                  <a:pt x="7417" y="16073"/>
                </a:cubicBezTo>
                <a:cubicBezTo>
                  <a:pt x="7598" y="16140"/>
                  <a:pt x="7627" y="16026"/>
                  <a:pt x="7714" y="15875"/>
                </a:cubicBezTo>
                <a:cubicBezTo>
                  <a:pt x="7722" y="15867"/>
                  <a:pt x="7731" y="15858"/>
                  <a:pt x="7739" y="15850"/>
                </a:cubicBezTo>
                <a:cubicBezTo>
                  <a:pt x="7760" y="16036"/>
                  <a:pt x="7792" y="16183"/>
                  <a:pt x="7764" y="16371"/>
                </a:cubicBezTo>
                <a:cubicBezTo>
                  <a:pt x="7741" y="16461"/>
                  <a:pt x="7742" y="16494"/>
                  <a:pt x="7665" y="16470"/>
                </a:cubicBezTo>
              </a:path>
              <a:path w="4466" h="4640">
                <a:moveTo>
                  <a:pt x="4688" y="15925"/>
                </a:moveTo>
                <a:cubicBezTo>
                  <a:pt x="4707" y="16152"/>
                  <a:pt x="4727" y="16383"/>
                  <a:pt x="4688" y="16619"/>
                </a:cubicBezTo>
                <a:cubicBezTo>
                  <a:pt x="4664" y="16766"/>
                  <a:pt x="4621" y="16921"/>
                  <a:pt x="4589" y="17066"/>
                </a:cubicBezTo>
                <a:cubicBezTo>
                  <a:pt x="4919" y="16983"/>
                  <a:pt x="5239" y="16928"/>
                  <a:pt x="5581" y="16917"/>
                </a:cubicBezTo>
                <a:cubicBezTo>
                  <a:pt x="6171" y="16898"/>
                  <a:pt x="6754" y="16941"/>
                  <a:pt x="7342" y="16966"/>
                </a:cubicBezTo>
                <a:cubicBezTo>
                  <a:pt x="7471" y="16971"/>
                  <a:pt x="7554" y="16998"/>
                  <a:pt x="7665" y="16966"/>
                </a:cubicBezTo>
                <a:cubicBezTo>
                  <a:pt x="7790" y="16930"/>
                  <a:pt x="7910" y="16896"/>
                  <a:pt x="8037" y="16867"/>
                </a:cubicBezTo>
                <a:cubicBezTo>
                  <a:pt x="8094" y="16848"/>
                  <a:pt x="8101" y="16839"/>
                  <a:pt x="8136" y="16842"/>
                </a:cubicBezTo>
                <a:cubicBezTo>
                  <a:pt x="8112" y="16721"/>
                  <a:pt x="8088" y="16607"/>
                  <a:pt x="8086" y="16470"/>
                </a:cubicBezTo>
                <a:cubicBezTo>
                  <a:pt x="8082" y="16247"/>
                  <a:pt x="8023" y="16042"/>
                  <a:pt x="8012" y="15825"/>
                </a:cubicBezTo>
                <a:cubicBezTo>
                  <a:pt x="8008" y="15752"/>
                  <a:pt x="8009" y="15714"/>
                  <a:pt x="7987" y="15677"/>
                </a:cubicBezTo>
                <a:cubicBezTo>
                  <a:pt x="7944" y="15602"/>
                  <a:pt x="7844" y="15527"/>
                  <a:pt x="7764" y="15503"/>
                </a:cubicBezTo>
                <a:cubicBezTo>
                  <a:pt x="7649" y="15469"/>
                  <a:pt x="7515" y="15466"/>
                  <a:pt x="7392" y="15478"/>
                </a:cubicBezTo>
                <a:cubicBezTo>
                  <a:pt x="7204" y="15497"/>
                  <a:pt x="7006" y="15517"/>
                  <a:pt x="6821" y="15553"/>
                </a:cubicBezTo>
                <a:cubicBezTo>
                  <a:pt x="6680" y="15581"/>
                  <a:pt x="6544" y="15617"/>
                  <a:pt x="6400" y="15627"/>
                </a:cubicBezTo>
                <a:cubicBezTo>
                  <a:pt x="5949" y="15658"/>
                  <a:pt x="5448" y="15552"/>
                  <a:pt x="5011" y="15652"/>
                </a:cubicBezTo>
                <a:cubicBezTo>
                  <a:pt x="4971" y="15661"/>
                  <a:pt x="4898" y="15658"/>
                  <a:pt x="4862" y="15677"/>
                </a:cubicBezTo>
                <a:cubicBezTo>
                  <a:pt x="4849" y="15684"/>
                  <a:pt x="4820" y="15724"/>
                  <a:pt x="4812" y="15751"/>
                </a:cubicBezTo>
                <a:cubicBezTo>
                  <a:pt x="4812" y="15809"/>
                  <a:pt x="4812" y="15834"/>
                  <a:pt x="4812" y="158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2120" y="4340160"/>
            <a:ext cx="1447920" cy="419040"/>
          </a:xfrm>
          <a:custGeom>
            <a:avLst/>
            <a:gdLst/>
            <a:ahLst/>
            <a:rect l="l" t="t" r="r" b="b"/>
            <a:pathLst>
              <a:path w="4020" h="1167">
                <a:moveTo>
                  <a:pt x="10517" y="12378"/>
                </a:moveTo>
                <a:cubicBezTo>
                  <a:pt x="10685" y="12357"/>
                  <a:pt x="10942" y="12319"/>
                  <a:pt x="10964" y="12576"/>
                </a:cubicBezTo>
                <a:cubicBezTo>
                  <a:pt x="10990" y="12881"/>
                  <a:pt x="10553" y="12906"/>
                  <a:pt x="10368" y="12898"/>
                </a:cubicBezTo>
                <a:cubicBezTo>
                  <a:pt x="10551" y="12742"/>
                  <a:pt x="10643" y="12742"/>
                  <a:pt x="10864" y="12799"/>
                </a:cubicBezTo>
                <a:cubicBezTo>
                  <a:pt x="10872" y="12799"/>
                  <a:pt x="10881" y="12799"/>
                  <a:pt x="10889" y="12799"/>
                </a:cubicBezTo>
              </a:path>
              <a:path w="4020" h="1167">
                <a:moveTo>
                  <a:pt x="11336" y="12254"/>
                </a:moveTo>
                <a:cubicBezTo>
                  <a:pt x="11336" y="12393"/>
                  <a:pt x="11281" y="12775"/>
                  <a:pt x="11385" y="12774"/>
                </a:cubicBezTo>
              </a:path>
              <a:path w="4020" h="1167">
                <a:moveTo>
                  <a:pt x="11931" y="12526"/>
                </a:moveTo>
                <a:cubicBezTo>
                  <a:pt x="12091" y="12526"/>
                  <a:pt x="12299" y="12469"/>
                  <a:pt x="12452" y="12502"/>
                </a:cubicBezTo>
                <a:cubicBezTo>
                  <a:pt x="12452" y="12526"/>
                  <a:pt x="12452" y="12534"/>
                  <a:pt x="12477" y="12526"/>
                </a:cubicBezTo>
              </a:path>
              <a:path w="4020" h="1167">
                <a:moveTo>
                  <a:pt x="12898" y="12402"/>
                </a:moveTo>
                <a:cubicBezTo>
                  <a:pt x="13048" y="12349"/>
                  <a:pt x="13238" y="12312"/>
                  <a:pt x="13345" y="12477"/>
                </a:cubicBezTo>
                <a:cubicBezTo>
                  <a:pt x="13504" y="12722"/>
                  <a:pt x="13270" y="12986"/>
                  <a:pt x="13047" y="13047"/>
                </a:cubicBezTo>
                <a:cubicBezTo>
                  <a:pt x="12918" y="13047"/>
                  <a:pt x="12880" y="13064"/>
                  <a:pt x="12849" y="12973"/>
                </a:cubicBezTo>
                <a:cubicBezTo>
                  <a:pt x="13055" y="12883"/>
                  <a:pt x="13173" y="12864"/>
                  <a:pt x="13395" y="12923"/>
                </a:cubicBezTo>
              </a:path>
              <a:path w="4020" h="1167">
                <a:moveTo>
                  <a:pt x="13667" y="12105"/>
                </a:moveTo>
                <a:cubicBezTo>
                  <a:pt x="13730" y="12021"/>
                  <a:pt x="13916" y="12019"/>
                  <a:pt x="13990" y="12129"/>
                </a:cubicBezTo>
                <a:cubicBezTo>
                  <a:pt x="14112" y="12310"/>
                  <a:pt x="13875" y="12404"/>
                  <a:pt x="13742" y="12353"/>
                </a:cubicBezTo>
                <a:cubicBezTo>
                  <a:pt x="13700" y="12311"/>
                  <a:pt x="13675" y="12303"/>
                  <a:pt x="13717" y="12278"/>
                </a:cubicBezTo>
                <a:cubicBezTo>
                  <a:pt x="13845" y="12307"/>
                  <a:pt x="13959" y="12322"/>
                  <a:pt x="14089" y="12328"/>
                </a:cubicBezTo>
              </a:path>
              <a:path w="4020" h="1167">
                <a:moveTo>
                  <a:pt x="13940" y="12824"/>
                </a:moveTo>
                <a:cubicBezTo>
                  <a:pt x="13990" y="12820"/>
                  <a:pt x="14336" y="12748"/>
                  <a:pt x="14337" y="12824"/>
                </a:cubicBezTo>
                <a:cubicBezTo>
                  <a:pt x="14338" y="12890"/>
                  <a:pt x="14165" y="12945"/>
                  <a:pt x="14114" y="12973"/>
                </a:cubicBezTo>
                <a:cubicBezTo>
                  <a:pt x="14272" y="12989"/>
                  <a:pt x="14339" y="12994"/>
                  <a:pt x="14362" y="13122"/>
                </a:cubicBezTo>
                <a:cubicBezTo>
                  <a:pt x="14203" y="13228"/>
                  <a:pt x="14209" y="13222"/>
                  <a:pt x="14039" y="131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6080" y="4419720"/>
            <a:ext cx="384120" cy="482400"/>
          </a:xfrm>
          <a:custGeom>
            <a:avLst/>
            <a:gdLst/>
            <a:ahLst/>
            <a:rect l="l" t="t" r="r" b="b"/>
            <a:pathLst>
              <a:path w="1068" h="1341">
                <a:moveTo>
                  <a:pt x="15726" y="12303"/>
                </a:moveTo>
                <a:cubicBezTo>
                  <a:pt x="15869" y="12378"/>
                  <a:pt x="16218" y="12556"/>
                  <a:pt x="16024" y="12774"/>
                </a:cubicBezTo>
                <a:cubicBezTo>
                  <a:pt x="15903" y="12910"/>
                  <a:pt x="15758" y="12843"/>
                  <a:pt x="15627" y="12799"/>
                </a:cubicBezTo>
                <a:cubicBezTo>
                  <a:pt x="15753" y="12673"/>
                  <a:pt x="15928" y="12698"/>
                  <a:pt x="16123" y="12725"/>
                </a:cubicBezTo>
              </a:path>
              <a:path w="1068" h="1341">
                <a:moveTo>
                  <a:pt x="16495" y="12278"/>
                </a:moveTo>
                <a:cubicBezTo>
                  <a:pt x="16495" y="12387"/>
                  <a:pt x="16438" y="12662"/>
                  <a:pt x="16520" y="12750"/>
                </a:cubicBezTo>
                <a:cubicBezTo>
                  <a:pt x="16537" y="12750"/>
                  <a:pt x="16553" y="12750"/>
                  <a:pt x="16570" y="12750"/>
                </a:cubicBezTo>
              </a:path>
              <a:path w="1068" h="1341">
                <a:moveTo>
                  <a:pt x="16123" y="13097"/>
                </a:moveTo>
                <a:cubicBezTo>
                  <a:pt x="16103" y="13018"/>
                  <a:pt x="16373" y="13025"/>
                  <a:pt x="16446" y="13022"/>
                </a:cubicBezTo>
                <a:cubicBezTo>
                  <a:pt x="16595" y="13022"/>
                  <a:pt x="16611" y="13022"/>
                  <a:pt x="16694" y="13022"/>
                </a:cubicBezTo>
              </a:path>
              <a:path w="1068" h="1341">
                <a:moveTo>
                  <a:pt x="16297" y="13221"/>
                </a:moveTo>
                <a:cubicBezTo>
                  <a:pt x="16297" y="13347"/>
                  <a:pt x="16316" y="13468"/>
                  <a:pt x="16321" y="13593"/>
                </a:cubicBezTo>
                <a:cubicBezTo>
                  <a:pt x="16321" y="13601"/>
                  <a:pt x="16321" y="13610"/>
                  <a:pt x="16321" y="136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57960" y="4348080"/>
            <a:ext cx="241200" cy="482760"/>
          </a:xfrm>
          <a:custGeom>
            <a:avLst/>
            <a:gdLst/>
            <a:ahLst/>
            <a:rect l="l" t="t" r="r" b="b"/>
            <a:pathLst>
              <a:path w="671" h="1340">
                <a:moveTo>
                  <a:pt x="17909" y="12080"/>
                </a:moveTo>
                <a:cubicBezTo>
                  <a:pt x="17774" y="12090"/>
                  <a:pt x="17752" y="12108"/>
                  <a:pt x="17686" y="12229"/>
                </a:cubicBezTo>
                <a:cubicBezTo>
                  <a:pt x="17792" y="12317"/>
                  <a:pt x="17889" y="12380"/>
                  <a:pt x="18008" y="12452"/>
                </a:cubicBezTo>
                <a:cubicBezTo>
                  <a:pt x="17940" y="12520"/>
                  <a:pt x="17706" y="12635"/>
                  <a:pt x="17735" y="12427"/>
                </a:cubicBezTo>
                <a:cubicBezTo>
                  <a:pt x="17756" y="12278"/>
                  <a:pt x="17905" y="12271"/>
                  <a:pt x="17934" y="12154"/>
                </a:cubicBezTo>
              </a:path>
              <a:path w="671" h="1340">
                <a:moveTo>
                  <a:pt x="17661" y="12725"/>
                </a:moveTo>
                <a:cubicBezTo>
                  <a:pt x="17887" y="12725"/>
                  <a:pt x="18110" y="12715"/>
                  <a:pt x="18331" y="12750"/>
                </a:cubicBezTo>
              </a:path>
              <a:path w="671" h="1340">
                <a:moveTo>
                  <a:pt x="17686" y="13022"/>
                </a:moveTo>
                <a:cubicBezTo>
                  <a:pt x="17751" y="13022"/>
                  <a:pt x="18144" y="13025"/>
                  <a:pt x="18132" y="13047"/>
                </a:cubicBezTo>
                <a:cubicBezTo>
                  <a:pt x="18083" y="13136"/>
                  <a:pt x="17995" y="13154"/>
                  <a:pt x="17909" y="13171"/>
                </a:cubicBezTo>
                <a:cubicBezTo>
                  <a:pt x="18055" y="13186"/>
                  <a:pt x="18127" y="13210"/>
                  <a:pt x="18207" y="13320"/>
                </a:cubicBezTo>
                <a:cubicBezTo>
                  <a:pt x="18021" y="13419"/>
                  <a:pt x="17980" y="13401"/>
                  <a:pt x="17760" y="133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00920" y="4037040"/>
            <a:ext cx="635040" cy="838080"/>
          </a:xfrm>
          <a:custGeom>
            <a:avLst/>
            <a:gdLst/>
            <a:ahLst/>
            <a:rect l="l" t="t" r="r" b="b"/>
            <a:pathLst>
              <a:path w="1762" h="2332">
                <a:moveTo>
                  <a:pt x="19794" y="12278"/>
                </a:moveTo>
                <a:cubicBezTo>
                  <a:pt x="19914" y="12313"/>
                  <a:pt x="20257" y="12393"/>
                  <a:pt x="20117" y="12601"/>
                </a:cubicBezTo>
                <a:cubicBezTo>
                  <a:pt x="20046" y="12706"/>
                  <a:pt x="19831" y="12774"/>
                  <a:pt x="19769" y="12650"/>
                </a:cubicBezTo>
                <a:cubicBezTo>
                  <a:pt x="19892" y="12618"/>
                  <a:pt x="19973" y="12628"/>
                  <a:pt x="20092" y="12675"/>
                </a:cubicBezTo>
              </a:path>
              <a:path w="1762" h="2332">
                <a:moveTo>
                  <a:pt x="20216" y="12303"/>
                </a:moveTo>
                <a:cubicBezTo>
                  <a:pt x="20257" y="12466"/>
                  <a:pt x="20241" y="12512"/>
                  <a:pt x="20414" y="12526"/>
                </a:cubicBezTo>
              </a:path>
              <a:path w="1762" h="2332">
                <a:moveTo>
                  <a:pt x="20513" y="12229"/>
                </a:moveTo>
                <a:cubicBezTo>
                  <a:pt x="20513" y="12398"/>
                  <a:pt x="20506" y="12560"/>
                  <a:pt x="20489" y="12725"/>
                </a:cubicBezTo>
                <a:cubicBezTo>
                  <a:pt x="20489" y="12741"/>
                  <a:pt x="20489" y="12758"/>
                  <a:pt x="20489" y="12774"/>
                </a:cubicBezTo>
              </a:path>
              <a:path w="1762" h="2332">
                <a:moveTo>
                  <a:pt x="19695" y="12898"/>
                </a:moveTo>
                <a:cubicBezTo>
                  <a:pt x="19976" y="12898"/>
                  <a:pt x="20257" y="12898"/>
                  <a:pt x="20538" y="12898"/>
                </a:cubicBezTo>
              </a:path>
              <a:path w="1762" h="2332">
                <a:moveTo>
                  <a:pt x="20191" y="13072"/>
                </a:moveTo>
                <a:cubicBezTo>
                  <a:pt x="20191" y="13223"/>
                  <a:pt x="20173" y="13369"/>
                  <a:pt x="20166" y="13519"/>
                </a:cubicBezTo>
                <a:cubicBezTo>
                  <a:pt x="20166" y="13543"/>
                  <a:pt x="20166" y="13551"/>
                  <a:pt x="20166" y="13519"/>
                </a:cubicBezTo>
              </a:path>
              <a:path w="1762" h="2332">
                <a:moveTo>
                  <a:pt x="20886" y="12998"/>
                </a:moveTo>
                <a:cubicBezTo>
                  <a:pt x="21003" y="13037"/>
                  <a:pt x="21120" y="13163"/>
                  <a:pt x="21208" y="13271"/>
                </a:cubicBezTo>
                <a:cubicBezTo>
                  <a:pt x="21208" y="13295"/>
                  <a:pt x="21208" y="13303"/>
                  <a:pt x="21208" y="13271"/>
                </a:cubicBezTo>
              </a:path>
              <a:path w="1762" h="2332">
                <a:moveTo>
                  <a:pt x="19447" y="11807"/>
                </a:moveTo>
                <a:cubicBezTo>
                  <a:pt x="19598" y="11958"/>
                  <a:pt x="19716" y="12103"/>
                  <a:pt x="19893" y="12229"/>
                </a:cubicBezTo>
                <a:cubicBezTo>
                  <a:pt x="19935" y="12259"/>
                  <a:pt x="20316" y="12436"/>
                  <a:pt x="20315" y="12526"/>
                </a:cubicBezTo>
                <a:cubicBezTo>
                  <a:pt x="20307" y="12526"/>
                  <a:pt x="20298" y="12526"/>
                  <a:pt x="20290" y="12526"/>
                </a:cubicBezTo>
              </a:path>
              <a:path w="1762" h="2332">
                <a:moveTo>
                  <a:pt x="19869" y="11237"/>
                </a:moveTo>
                <a:cubicBezTo>
                  <a:pt x="19932" y="11226"/>
                  <a:pt x="20133" y="11152"/>
                  <a:pt x="20166" y="11237"/>
                </a:cubicBezTo>
                <a:cubicBezTo>
                  <a:pt x="20205" y="11338"/>
                  <a:pt x="20020" y="11425"/>
                  <a:pt x="19968" y="11460"/>
                </a:cubicBezTo>
                <a:cubicBezTo>
                  <a:pt x="20040" y="11474"/>
                  <a:pt x="20273" y="11556"/>
                  <a:pt x="20141" y="11683"/>
                </a:cubicBezTo>
                <a:cubicBezTo>
                  <a:pt x="20012" y="11735"/>
                  <a:pt x="19965" y="11753"/>
                  <a:pt x="19869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77080" y="4483080"/>
            <a:ext cx="250920" cy="554040"/>
          </a:xfrm>
          <a:custGeom>
            <a:avLst/>
            <a:gdLst/>
            <a:ahLst/>
            <a:rect l="l" t="t" r="r" b="b"/>
            <a:pathLst>
              <a:path w="695" h="1539">
                <a:moveTo>
                  <a:pt x="21630" y="12502"/>
                </a:moveTo>
                <a:cubicBezTo>
                  <a:pt x="21732" y="12485"/>
                  <a:pt x="21845" y="12427"/>
                  <a:pt x="21952" y="12452"/>
                </a:cubicBezTo>
                <a:cubicBezTo>
                  <a:pt x="22010" y="12466"/>
                  <a:pt x="21794" y="12618"/>
                  <a:pt x="21779" y="12626"/>
                </a:cubicBezTo>
                <a:cubicBezTo>
                  <a:pt x="21674" y="12626"/>
                  <a:pt x="21922" y="12682"/>
                  <a:pt x="22002" y="12750"/>
                </a:cubicBezTo>
                <a:cubicBezTo>
                  <a:pt x="21889" y="12887"/>
                  <a:pt x="21830" y="12894"/>
                  <a:pt x="21654" y="12874"/>
                </a:cubicBezTo>
              </a:path>
              <a:path w="695" h="1539">
                <a:moveTo>
                  <a:pt x="21605" y="13047"/>
                </a:moveTo>
                <a:cubicBezTo>
                  <a:pt x="21822" y="13029"/>
                  <a:pt x="22032" y="13022"/>
                  <a:pt x="22250" y="13022"/>
                </a:cubicBezTo>
              </a:path>
              <a:path w="695" h="1539">
                <a:moveTo>
                  <a:pt x="22151" y="13271"/>
                </a:moveTo>
                <a:cubicBezTo>
                  <a:pt x="22028" y="13271"/>
                  <a:pt x="21950" y="13328"/>
                  <a:pt x="21853" y="13395"/>
                </a:cubicBezTo>
                <a:cubicBezTo>
                  <a:pt x="21845" y="13403"/>
                  <a:pt x="21836" y="13411"/>
                  <a:pt x="21828" y="13419"/>
                </a:cubicBezTo>
                <a:cubicBezTo>
                  <a:pt x="21958" y="13523"/>
                  <a:pt x="22093" y="13575"/>
                  <a:pt x="22175" y="13717"/>
                </a:cubicBezTo>
                <a:cubicBezTo>
                  <a:pt x="22123" y="13740"/>
                  <a:pt x="21764" y="13878"/>
                  <a:pt x="21878" y="13643"/>
                </a:cubicBezTo>
                <a:cubicBezTo>
                  <a:pt x="21923" y="13551"/>
                  <a:pt x="22029" y="13491"/>
                  <a:pt x="22076" y="13419"/>
                </a:cubicBezTo>
              </a:path>
              <a:path w="695" h="1539">
                <a:moveTo>
                  <a:pt x="21779" y="13370"/>
                </a:moveTo>
                <a:cubicBezTo>
                  <a:pt x="21919" y="13576"/>
                  <a:pt x="22084" y="13755"/>
                  <a:pt x="22250" y="13940"/>
                </a:cubicBezTo>
                <a:cubicBezTo>
                  <a:pt x="22266" y="13957"/>
                  <a:pt x="22283" y="13973"/>
                  <a:pt x="22299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67840" y="4616280"/>
            <a:ext cx="554040" cy="500400"/>
          </a:xfrm>
          <a:custGeom>
            <a:avLst/>
            <a:gdLst/>
            <a:ahLst/>
            <a:rect l="l" t="t" r="r" b="b"/>
            <a:pathLst>
              <a:path w="1539" h="1390">
                <a:moveTo>
                  <a:pt x="23688" y="12948"/>
                </a:moveTo>
                <a:cubicBezTo>
                  <a:pt x="23639" y="12784"/>
                  <a:pt x="23467" y="12809"/>
                  <a:pt x="23316" y="12898"/>
                </a:cubicBezTo>
                <a:cubicBezTo>
                  <a:pt x="23291" y="12923"/>
                  <a:pt x="23267" y="12948"/>
                  <a:pt x="23242" y="12973"/>
                </a:cubicBezTo>
                <a:cubicBezTo>
                  <a:pt x="23434" y="13093"/>
                  <a:pt x="23461" y="13018"/>
                  <a:pt x="23614" y="12898"/>
                </a:cubicBezTo>
                <a:cubicBezTo>
                  <a:pt x="23631" y="12890"/>
                  <a:pt x="23647" y="12882"/>
                  <a:pt x="23664" y="12874"/>
                </a:cubicBezTo>
                <a:cubicBezTo>
                  <a:pt x="23707" y="13051"/>
                  <a:pt x="23713" y="13213"/>
                  <a:pt x="23713" y="13395"/>
                </a:cubicBezTo>
              </a:path>
              <a:path w="1539" h="1390">
                <a:moveTo>
                  <a:pt x="23242" y="13494"/>
                </a:moveTo>
                <a:cubicBezTo>
                  <a:pt x="23442" y="13487"/>
                  <a:pt x="23646" y="13449"/>
                  <a:pt x="23837" y="13494"/>
                </a:cubicBezTo>
              </a:path>
              <a:path w="1539" h="1390">
                <a:moveTo>
                  <a:pt x="23465" y="13767"/>
                </a:moveTo>
                <a:cubicBezTo>
                  <a:pt x="23465" y="13912"/>
                  <a:pt x="23459" y="14046"/>
                  <a:pt x="23440" y="14188"/>
                </a:cubicBezTo>
                <a:cubicBezTo>
                  <a:pt x="23440" y="14221"/>
                  <a:pt x="23440" y="14221"/>
                  <a:pt x="23440" y="14163"/>
                </a:cubicBezTo>
              </a:path>
              <a:path w="1539" h="1390">
                <a:moveTo>
                  <a:pt x="24085" y="13519"/>
                </a:moveTo>
                <a:cubicBezTo>
                  <a:pt x="24158" y="13501"/>
                  <a:pt x="24209" y="13494"/>
                  <a:pt x="24284" y="13494"/>
                </a:cubicBezTo>
              </a:path>
              <a:path w="1539" h="1390">
                <a:moveTo>
                  <a:pt x="24705" y="13320"/>
                </a:moveTo>
                <a:cubicBezTo>
                  <a:pt x="24665" y="13239"/>
                  <a:pt x="24525" y="13252"/>
                  <a:pt x="24457" y="13320"/>
                </a:cubicBezTo>
                <a:cubicBezTo>
                  <a:pt x="24321" y="13456"/>
                  <a:pt x="24460" y="13589"/>
                  <a:pt x="24606" y="13543"/>
                </a:cubicBezTo>
                <a:cubicBezTo>
                  <a:pt x="24708" y="13511"/>
                  <a:pt x="24741" y="13460"/>
                  <a:pt x="24780" y="13370"/>
                </a:cubicBezTo>
                <a:cubicBezTo>
                  <a:pt x="24780" y="13529"/>
                  <a:pt x="24765" y="13685"/>
                  <a:pt x="24730" y="13841"/>
                </a:cubicBezTo>
                <a:cubicBezTo>
                  <a:pt x="24710" y="13901"/>
                  <a:pt x="24711" y="13915"/>
                  <a:pt x="24681" y="139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78880" y="4956120"/>
            <a:ext cx="73080" cy="17640"/>
          </a:xfrm>
          <a:custGeom>
            <a:avLst/>
            <a:gdLst/>
            <a:ahLst/>
            <a:rect l="l" t="t" r="r" b="b"/>
            <a:pathLst>
              <a:path w="200" h="50">
                <a:moveTo>
                  <a:pt x="24110" y="13816"/>
                </a:moveTo>
                <a:cubicBezTo>
                  <a:pt x="24233" y="13816"/>
                  <a:pt x="24264" y="13834"/>
                  <a:pt x="24309" y="137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1200" y="2081160"/>
            <a:ext cx="4500720" cy="106560"/>
          </a:xfrm>
          <a:custGeom>
            <a:avLst/>
            <a:gdLst/>
            <a:ahLst/>
            <a:rect l="l" t="t" r="r" b="b"/>
            <a:pathLst>
              <a:path w="12502" h="299">
                <a:moveTo>
                  <a:pt x="7169" y="6077"/>
                </a:moveTo>
                <a:cubicBezTo>
                  <a:pt x="7188" y="6068"/>
                  <a:pt x="7241" y="5992"/>
                  <a:pt x="7317" y="5978"/>
                </a:cubicBezTo>
                <a:cubicBezTo>
                  <a:pt x="7430" y="5957"/>
                  <a:pt x="7503" y="5999"/>
                  <a:pt x="7615" y="6003"/>
                </a:cubicBezTo>
                <a:cubicBezTo>
                  <a:pt x="7825" y="6011"/>
                  <a:pt x="8028" y="5986"/>
                  <a:pt x="8235" y="5978"/>
                </a:cubicBezTo>
                <a:cubicBezTo>
                  <a:pt x="8372" y="5972"/>
                  <a:pt x="8498" y="5967"/>
                  <a:pt x="8632" y="5953"/>
                </a:cubicBezTo>
                <a:cubicBezTo>
                  <a:pt x="8714" y="5944"/>
                  <a:pt x="8800" y="5932"/>
                  <a:pt x="8880" y="5928"/>
                </a:cubicBezTo>
                <a:cubicBezTo>
                  <a:pt x="9072" y="5917"/>
                  <a:pt x="9260" y="5906"/>
                  <a:pt x="9451" y="5904"/>
                </a:cubicBezTo>
                <a:cubicBezTo>
                  <a:pt x="10768" y="5889"/>
                  <a:pt x="12087" y="5977"/>
                  <a:pt x="13395" y="5928"/>
                </a:cubicBezTo>
                <a:cubicBezTo>
                  <a:pt x="13791" y="5913"/>
                  <a:pt x="14192" y="5909"/>
                  <a:pt x="14585" y="5904"/>
                </a:cubicBezTo>
                <a:cubicBezTo>
                  <a:pt x="14861" y="5900"/>
                  <a:pt x="15131" y="5866"/>
                  <a:pt x="15404" y="5854"/>
                </a:cubicBezTo>
                <a:cubicBezTo>
                  <a:pt x="15695" y="5841"/>
                  <a:pt x="15986" y="5832"/>
                  <a:pt x="16272" y="5829"/>
                </a:cubicBezTo>
                <a:cubicBezTo>
                  <a:pt x="16496" y="5826"/>
                  <a:pt x="16724" y="5812"/>
                  <a:pt x="16942" y="5804"/>
                </a:cubicBezTo>
                <a:cubicBezTo>
                  <a:pt x="17134" y="5797"/>
                  <a:pt x="17324" y="5786"/>
                  <a:pt x="17512" y="5779"/>
                </a:cubicBezTo>
                <a:cubicBezTo>
                  <a:pt x="17922" y="5765"/>
                  <a:pt x="18340" y="5799"/>
                  <a:pt x="18728" y="5804"/>
                </a:cubicBezTo>
                <a:cubicBezTo>
                  <a:pt x="18855" y="5805"/>
                  <a:pt x="18979" y="5824"/>
                  <a:pt x="19100" y="5829"/>
                </a:cubicBezTo>
                <a:cubicBezTo>
                  <a:pt x="19166" y="5832"/>
                  <a:pt x="19269" y="5850"/>
                  <a:pt x="19298" y="5854"/>
                </a:cubicBezTo>
                <a:cubicBezTo>
                  <a:pt x="19339" y="5860"/>
                  <a:pt x="19469" y="5879"/>
                  <a:pt x="19472" y="5879"/>
                </a:cubicBezTo>
                <a:cubicBezTo>
                  <a:pt x="19538" y="5883"/>
                  <a:pt x="19604" y="5877"/>
                  <a:pt x="19670" y="58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2920" y="3178080"/>
            <a:ext cx="1455480" cy="770040"/>
          </a:xfrm>
          <a:custGeom>
            <a:avLst/>
            <a:gdLst/>
            <a:ahLst/>
            <a:rect l="l" t="t" r="r" b="b"/>
            <a:pathLst>
              <a:path w="4044" h="2135">
                <a:moveTo>
                  <a:pt x="10914" y="10964"/>
                </a:moveTo>
                <a:cubicBezTo>
                  <a:pt x="11129" y="10860"/>
                  <a:pt x="11339" y="10792"/>
                  <a:pt x="11609" y="10765"/>
                </a:cubicBezTo>
                <a:cubicBezTo>
                  <a:pt x="12319" y="10695"/>
                  <a:pt x="13030" y="10626"/>
                  <a:pt x="13742" y="10592"/>
                </a:cubicBezTo>
                <a:cubicBezTo>
                  <a:pt x="13846" y="10587"/>
                  <a:pt x="14025" y="10573"/>
                  <a:pt x="14089" y="10567"/>
                </a:cubicBezTo>
                <a:cubicBezTo>
                  <a:pt x="14147" y="10567"/>
                  <a:pt x="14155" y="10567"/>
                  <a:pt x="14188" y="10567"/>
                </a:cubicBezTo>
                <a:cubicBezTo>
                  <a:pt x="14181" y="10441"/>
                  <a:pt x="14165" y="10322"/>
                  <a:pt x="14163" y="10195"/>
                </a:cubicBezTo>
                <a:cubicBezTo>
                  <a:pt x="14159" y="9983"/>
                  <a:pt x="14094" y="9784"/>
                  <a:pt x="14089" y="9575"/>
                </a:cubicBezTo>
                <a:cubicBezTo>
                  <a:pt x="14085" y="9421"/>
                  <a:pt x="14076" y="9302"/>
                  <a:pt x="14039" y="9153"/>
                </a:cubicBezTo>
                <a:cubicBezTo>
                  <a:pt x="14014" y="9052"/>
                  <a:pt x="13983" y="8955"/>
                  <a:pt x="13965" y="8855"/>
                </a:cubicBezTo>
                <a:cubicBezTo>
                  <a:pt x="13965" y="8847"/>
                  <a:pt x="13965" y="8838"/>
                  <a:pt x="13965" y="8830"/>
                </a:cubicBezTo>
                <a:cubicBezTo>
                  <a:pt x="13871" y="8869"/>
                  <a:pt x="13772" y="8902"/>
                  <a:pt x="13667" y="8930"/>
                </a:cubicBezTo>
                <a:cubicBezTo>
                  <a:pt x="13526" y="8968"/>
                  <a:pt x="13343" y="8993"/>
                  <a:pt x="13196" y="9004"/>
                </a:cubicBezTo>
                <a:cubicBezTo>
                  <a:pt x="12953" y="9022"/>
                  <a:pt x="12720" y="9017"/>
                  <a:pt x="12477" y="9054"/>
                </a:cubicBezTo>
                <a:cubicBezTo>
                  <a:pt x="12235" y="9091"/>
                  <a:pt x="12000" y="9103"/>
                  <a:pt x="11757" y="9128"/>
                </a:cubicBezTo>
                <a:cubicBezTo>
                  <a:pt x="11391" y="9165"/>
                  <a:pt x="11025" y="9204"/>
                  <a:pt x="10666" y="9277"/>
                </a:cubicBezTo>
                <a:cubicBezTo>
                  <a:pt x="10575" y="9296"/>
                  <a:pt x="10482" y="9309"/>
                  <a:pt x="10393" y="9327"/>
                </a:cubicBezTo>
                <a:cubicBezTo>
                  <a:pt x="10328" y="9340"/>
                  <a:pt x="10244" y="9364"/>
                  <a:pt x="10170" y="9376"/>
                </a:cubicBezTo>
                <a:cubicBezTo>
                  <a:pt x="10162" y="9376"/>
                  <a:pt x="10153" y="9376"/>
                  <a:pt x="10145" y="9376"/>
                </a:cubicBezTo>
                <a:cubicBezTo>
                  <a:pt x="10199" y="9545"/>
                  <a:pt x="10271" y="9724"/>
                  <a:pt x="10319" y="9897"/>
                </a:cubicBezTo>
                <a:cubicBezTo>
                  <a:pt x="10376" y="10103"/>
                  <a:pt x="10404" y="10330"/>
                  <a:pt x="10418" y="10542"/>
                </a:cubicBezTo>
                <a:cubicBezTo>
                  <a:pt x="10423" y="10614"/>
                  <a:pt x="10395" y="10687"/>
                  <a:pt x="10393" y="10740"/>
                </a:cubicBezTo>
                <a:cubicBezTo>
                  <a:pt x="10391" y="10790"/>
                  <a:pt x="10396" y="10840"/>
                  <a:pt x="10393" y="10889"/>
                </a:cubicBezTo>
                <a:cubicBezTo>
                  <a:pt x="10642" y="10849"/>
                  <a:pt x="10891" y="10792"/>
                  <a:pt x="11137" y="107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use division of fractions to solve 1-step eq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divide a negative by a nega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divide a positive by a nega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you divide a negative by a posi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3720" y="45291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3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28800" y="449568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638600" y="44751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75240" y="438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638680" y="4648320"/>
                <a:ext cx="1447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463920" y="2374920"/>
            <a:ext cx="9360" cy="277920"/>
          </a:xfrm>
          <a:custGeom>
            <a:avLst/>
            <a:gdLst/>
            <a:ahLst/>
            <a:rect l="l" t="t" r="r" b="b"/>
            <a:pathLst>
              <a:path w="26" h="770">
                <a:moveTo>
                  <a:pt x="9624" y="6598"/>
                </a:moveTo>
                <a:lnTo>
                  <a:pt x="9624" y="6598"/>
                </a:lnTo>
              </a:path>
              <a:path w="26" h="770">
                <a:moveTo>
                  <a:pt x="9624" y="7342"/>
                </a:moveTo>
                <a:cubicBezTo>
                  <a:pt x="9632" y="7350"/>
                  <a:pt x="9641" y="7359"/>
                  <a:pt x="9649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76680" y="2527200"/>
            <a:ext cx="260280" cy="9720"/>
          </a:xfrm>
          <a:custGeom>
            <a:avLst/>
            <a:gdLst/>
            <a:ahLst/>
            <a:rect l="l" t="t" r="r" b="b"/>
            <a:pathLst>
              <a:path w="721" h="26">
                <a:moveTo>
                  <a:pt x="7714" y="7020"/>
                </a:moveTo>
                <a:cubicBezTo>
                  <a:pt x="7949" y="7020"/>
                  <a:pt x="8210" y="6989"/>
                  <a:pt x="8434" y="70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3720" y="2509920"/>
            <a:ext cx="608040" cy="27000"/>
          </a:xfrm>
          <a:custGeom>
            <a:avLst/>
            <a:gdLst/>
            <a:ahLst/>
            <a:rect l="l" t="t" r="r" b="b"/>
            <a:pathLst>
              <a:path w="1687" h="76">
                <a:moveTo>
                  <a:pt x="9178" y="7020"/>
                </a:moveTo>
                <a:cubicBezTo>
                  <a:pt x="9378" y="7036"/>
                  <a:pt x="9577" y="7010"/>
                  <a:pt x="9773" y="7020"/>
                </a:cubicBezTo>
                <a:cubicBezTo>
                  <a:pt x="9790" y="7028"/>
                  <a:pt x="9806" y="7037"/>
                  <a:pt x="9823" y="7045"/>
                </a:cubicBezTo>
              </a:path>
              <a:path w="1687" h="76">
                <a:moveTo>
                  <a:pt x="10294" y="6995"/>
                </a:moveTo>
                <a:cubicBezTo>
                  <a:pt x="10469" y="6975"/>
                  <a:pt x="10638" y="6970"/>
                  <a:pt x="10815" y="6970"/>
                </a:cubicBezTo>
                <a:cubicBezTo>
                  <a:pt x="10831" y="6970"/>
                  <a:pt x="10848" y="6970"/>
                  <a:pt x="10864" y="69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7800" y="2463840"/>
            <a:ext cx="223560" cy="90360"/>
          </a:xfrm>
          <a:custGeom>
            <a:avLst/>
            <a:gdLst/>
            <a:ahLst/>
            <a:rect l="l" t="t" r="r" b="b"/>
            <a:pathLst>
              <a:path w="621" h="249">
                <a:moveTo>
                  <a:pt x="12105" y="6846"/>
                </a:moveTo>
                <a:cubicBezTo>
                  <a:pt x="12245" y="6846"/>
                  <a:pt x="12590" y="6819"/>
                  <a:pt x="12626" y="6871"/>
                </a:cubicBezTo>
              </a:path>
              <a:path w="621" h="249">
                <a:moveTo>
                  <a:pt x="12129" y="7094"/>
                </a:moveTo>
                <a:cubicBezTo>
                  <a:pt x="12328" y="7094"/>
                  <a:pt x="12526" y="7094"/>
                  <a:pt x="12725" y="70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5120" y="2419200"/>
            <a:ext cx="285840" cy="206640"/>
          </a:xfrm>
          <a:custGeom>
            <a:avLst/>
            <a:gdLst/>
            <a:ahLst/>
            <a:rect l="l" t="t" r="r" b="b"/>
            <a:pathLst>
              <a:path w="795" h="572">
                <a:moveTo>
                  <a:pt x="13866" y="6722"/>
                </a:moveTo>
                <a:cubicBezTo>
                  <a:pt x="13929" y="6864"/>
                  <a:pt x="13936" y="7033"/>
                  <a:pt x="13940" y="7193"/>
                </a:cubicBezTo>
                <a:cubicBezTo>
                  <a:pt x="13940" y="7251"/>
                  <a:pt x="13940" y="7260"/>
                  <a:pt x="13940" y="7293"/>
                </a:cubicBezTo>
              </a:path>
              <a:path w="795" h="572">
                <a:moveTo>
                  <a:pt x="13543" y="7045"/>
                </a:moveTo>
                <a:cubicBezTo>
                  <a:pt x="13769" y="7045"/>
                  <a:pt x="13989" y="7034"/>
                  <a:pt x="14213" y="7020"/>
                </a:cubicBezTo>
                <a:cubicBezTo>
                  <a:pt x="14290" y="7015"/>
                  <a:pt x="14321" y="6998"/>
                  <a:pt x="14337" y="70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8040" y="3348000"/>
            <a:ext cx="260280" cy="223920"/>
          </a:xfrm>
          <a:custGeom>
            <a:avLst/>
            <a:gdLst/>
            <a:ahLst/>
            <a:rect l="l" t="t" r="r" b="b"/>
            <a:pathLst>
              <a:path w="721" h="621">
                <a:moveTo>
                  <a:pt x="7764" y="9302"/>
                </a:moveTo>
                <a:cubicBezTo>
                  <a:pt x="7764" y="9477"/>
                  <a:pt x="7803" y="9648"/>
                  <a:pt x="7789" y="9823"/>
                </a:cubicBezTo>
                <a:cubicBezTo>
                  <a:pt x="7781" y="9856"/>
                  <a:pt x="7772" y="9889"/>
                  <a:pt x="7764" y="9922"/>
                </a:cubicBezTo>
              </a:path>
              <a:path w="721" h="621">
                <a:moveTo>
                  <a:pt x="7441" y="9649"/>
                </a:moveTo>
                <a:cubicBezTo>
                  <a:pt x="7642" y="9627"/>
                  <a:pt x="7834" y="9603"/>
                  <a:pt x="8037" y="9599"/>
                </a:cubicBezTo>
                <a:cubicBezTo>
                  <a:pt x="8111" y="9599"/>
                  <a:pt x="8120" y="9599"/>
                  <a:pt x="8161" y="95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5080" y="3438360"/>
            <a:ext cx="652680" cy="27000"/>
          </a:xfrm>
          <a:custGeom>
            <a:avLst/>
            <a:gdLst/>
            <a:ahLst/>
            <a:rect l="l" t="t" r="r" b="b"/>
            <a:pathLst>
              <a:path w="1812" h="75">
                <a:moveTo>
                  <a:pt x="8905" y="9575"/>
                </a:moveTo>
                <a:cubicBezTo>
                  <a:pt x="9104" y="9567"/>
                  <a:pt x="9300" y="9550"/>
                  <a:pt x="9500" y="9550"/>
                </a:cubicBezTo>
                <a:cubicBezTo>
                  <a:pt x="9508" y="9550"/>
                  <a:pt x="9517" y="9550"/>
                  <a:pt x="9525" y="9550"/>
                </a:cubicBezTo>
              </a:path>
              <a:path w="1812" h="75">
                <a:moveTo>
                  <a:pt x="10021" y="9599"/>
                </a:moveTo>
                <a:cubicBezTo>
                  <a:pt x="10175" y="9657"/>
                  <a:pt x="10393" y="9624"/>
                  <a:pt x="10567" y="9624"/>
                </a:cubicBezTo>
                <a:cubicBezTo>
                  <a:pt x="10658" y="9624"/>
                  <a:pt x="10666" y="9624"/>
                  <a:pt x="10716" y="96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3527280"/>
            <a:ext cx="160560" cy="9720"/>
          </a:xfrm>
          <a:custGeom>
            <a:avLst/>
            <a:gdLst/>
            <a:ahLst/>
            <a:rect l="l" t="t" r="r" b="b"/>
            <a:pathLst>
              <a:path w="447" h="26">
                <a:moveTo>
                  <a:pt x="11733" y="9798"/>
                </a:moveTo>
                <a:cubicBezTo>
                  <a:pt x="11887" y="9810"/>
                  <a:pt x="12024" y="9798"/>
                  <a:pt x="12179" y="97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9200" y="3510000"/>
            <a:ext cx="258840" cy="7920"/>
          </a:xfrm>
          <a:custGeom>
            <a:avLst/>
            <a:gdLst/>
            <a:ahLst/>
            <a:rect l="l" t="t" r="r" b="b"/>
            <a:pathLst>
              <a:path w="720" h="26">
                <a:moveTo>
                  <a:pt x="13221" y="9773"/>
                </a:moveTo>
                <a:cubicBezTo>
                  <a:pt x="13365" y="9719"/>
                  <a:pt x="13605" y="9735"/>
                  <a:pt x="13767" y="9748"/>
                </a:cubicBezTo>
                <a:cubicBezTo>
                  <a:pt x="13874" y="9766"/>
                  <a:pt x="13882" y="9774"/>
                  <a:pt x="13940" y="97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6080" y="3340080"/>
            <a:ext cx="4813200" cy="1276200"/>
          </a:xfrm>
          <a:custGeom>
            <a:avLst/>
            <a:gdLst/>
            <a:ahLst/>
            <a:rect l="l" t="t" r="r" b="b"/>
            <a:pathLst>
              <a:path w="13371" h="3548">
                <a:moveTo>
                  <a:pt x="9128" y="9277"/>
                </a:moveTo>
                <a:lnTo>
                  <a:pt x="9128" y="9277"/>
                </a:lnTo>
              </a:path>
              <a:path w="13371" h="3548">
                <a:moveTo>
                  <a:pt x="9227" y="9947"/>
                </a:moveTo>
                <a:cubicBezTo>
                  <a:pt x="9235" y="9947"/>
                  <a:pt x="9244" y="9947"/>
                  <a:pt x="9252" y="9947"/>
                </a:cubicBezTo>
              </a:path>
              <a:path w="13371" h="3548">
                <a:moveTo>
                  <a:pt x="11757" y="9426"/>
                </a:moveTo>
                <a:cubicBezTo>
                  <a:pt x="11894" y="9441"/>
                  <a:pt x="12044" y="9435"/>
                  <a:pt x="12179" y="9475"/>
                </a:cubicBezTo>
                <a:cubicBezTo>
                  <a:pt x="12187" y="9483"/>
                  <a:pt x="12196" y="9492"/>
                  <a:pt x="12204" y="9500"/>
                </a:cubicBezTo>
              </a:path>
              <a:path w="13371" h="3548">
                <a:moveTo>
                  <a:pt x="21258" y="12378"/>
                </a:moveTo>
                <a:cubicBezTo>
                  <a:pt x="21349" y="12357"/>
                  <a:pt x="21438" y="12344"/>
                  <a:pt x="21530" y="12328"/>
                </a:cubicBezTo>
              </a:path>
              <a:path w="13371" h="3548">
                <a:moveTo>
                  <a:pt x="22448" y="12303"/>
                </a:moveTo>
                <a:lnTo>
                  <a:pt x="22448" y="12303"/>
                </a:lnTo>
              </a:path>
              <a:path w="13371" h="3548">
                <a:moveTo>
                  <a:pt x="22498" y="12799"/>
                </a:moveTo>
                <a:cubicBezTo>
                  <a:pt x="22498" y="12807"/>
                  <a:pt x="22498" y="12816"/>
                  <a:pt x="22498" y="12824"/>
                </a:cubicBezTo>
              </a:path>
              <a:path w="13371" h="3548">
                <a:moveTo>
                  <a:pt x="13891" y="9798"/>
                </a:moveTo>
                <a:cubicBezTo>
                  <a:pt x="13891" y="9790"/>
                  <a:pt x="13891" y="9781"/>
                  <a:pt x="13891" y="97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98960" y="4232160"/>
            <a:ext cx="214200" cy="81000"/>
          </a:xfrm>
          <a:custGeom>
            <a:avLst/>
            <a:gdLst/>
            <a:ahLst/>
            <a:rect l="l" t="t" r="r" b="b"/>
            <a:pathLst>
              <a:path w="597" h="225">
                <a:moveTo>
                  <a:pt x="11385" y="11757"/>
                </a:moveTo>
                <a:cubicBezTo>
                  <a:pt x="11584" y="11757"/>
                  <a:pt x="11782" y="11757"/>
                  <a:pt x="11981" y="11757"/>
                </a:cubicBezTo>
              </a:path>
              <a:path w="597" h="225">
                <a:moveTo>
                  <a:pt x="11559" y="11981"/>
                </a:moveTo>
                <a:cubicBezTo>
                  <a:pt x="11675" y="11981"/>
                  <a:pt x="11790" y="11981"/>
                  <a:pt x="11906" y="119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5040" y="4116240"/>
            <a:ext cx="1081080" cy="223920"/>
          </a:xfrm>
          <a:custGeom>
            <a:avLst/>
            <a:gdLst/>
            <a:ahLst/>
            <a:rect l="l" t="t" r="r" b="b"/>
            <a:pathLst>
              <a:path w="3002" h="621">
                <a:moveTo>
                  <a:pt x="7516" y="11782"/>
                </a:moveTo>
                <a:cubicBezTo>
                  <a:pt x="7649" y="11863"/>
                  <a:pt x="7813" y="11801"/>
                  <a:pt x="7962" y="11807"/>
                </a:cubicBezTo>
                <a:cubicBezTo>
                  <a:pt x="8087" y="11812"/>
                  <a:pt x="8187" y="11880"/>
                  <a:pt x="8310" y="11857"/>
                </a:cubicBezTo>
                <a:cubicBezTo>
                  <a:pt x="8326" y="11849"/>
                  <a:pt x="8343" y="11840"/>
                  <a:pt x="8359" y="11832"/>
                </a:cubicBezTo>
              </a:path>
              <a:path w="3002" h="621">
                <a:moveTo>
                  <a:pt x="8905" y="11757"/>
                </a:moveTo>
                <a:cubicBezTo>
                  <a:pt x="9080" y="11748"/>
                  <a:pt x="9250" y="11733"/>
                  <a:pt x="9426" y="11733"/>
                </a:cubicBezTo>
                <a:cubicBezTo>
                  <a:pt x="9434" y="11733"/>
                  <a:pt x="9443" y="11733"/>
                  <a:pt x="9451" y="11733"/>
                </a:cubicBezTo>
              </a:path>
              <a:path w="3002" h="621">
                <a:moveTo>
                  <a:pt x="10120" y="11435"/>
                </a:moveTo>
                <a:cubicBezTo>
                  <a:pt x="10194" y="11626"/>
                  <a:pt x="10195" y="11778"/>
                  <a:pt x="10195" y="11981"/>
                </a:cubicBezTo>
                <a:cubicBezTo>
                  <a:pt x="10195" y="12022"/>
                  <a:pt x="10195" y="12030"/>
                  <a:pt x="10195" y="12055"/>
                </a:cubicBezTo>
              </a:path>
              <a:path w="3002" h="621">
                <a:moveTo>
                  <a:pt x="9847" y="11782"/>
                </a:moveTo>
                <a:cubicBezTo>
                  <a:pt x="10069" y="11739"/>
                  <a:pt x="10266" y="11708"/>
                  <a:pt x="10492" y="11708"/>
                </a:cubicBezTo>
                <a:cubicBezTo>
                  <a:pt x="10500" y="11708"/>
                  <a:pt x="10509" y="11708"/>
                  <a:pt x="10517" y="117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97280" y="4259160"/>
            <a:ext cx="241560" cy="19080"/>
          </a:xfrm>
          <a:custGeom>
            <a:avLst/>
            <a:gdLst/>
            <a:ahLst/>
            <a:rect l="l" t="t" r="r" b="b"/>
            <a:pathLst>
              <a:path w="671" h="50">
                <a:moveTo>
                  <a:pt x="13047" y="11832"/>
                </a:moveTo>
                <a:cubicBezTo>
                  <a:pt x="13177" y="11858"/>
                  <a:pt x="13305" y="11857"/>
                  <a:pt x="13444" y="11857"/>
                </a:cubicBezTo>
                <a:cubicBezTo>
                  <a:pt x="13480" y="11857"/>
                  <a:pt x="13698" y="11827"/>
                  <a:pt x="13717" y="118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95800" y="4081320"/>
            <a:ext cx="3670200" cy="1884600"/>
          </a:xfrm>
          <a:custGeom>
            <a:avLst/>
            <a:gdLst/>
            <a:ahLst/>
            <a:rect l="l" t="t" r="r" b="b"/>
            <a:pathLst>
              <a:path w="10196" h="5235">
                <a:moveTo>
                  <a:pt x="9153" y="11336"/>
                </a:moveTo>
                <a:cubicBezTo>
                  <a:pt x="9161" y="11344"/>
                  <a:pt x="9170" y="11353"/>
                  <a:pt x="9178" y="11361"/>
                </a:cubicBezTo>
              </a:path>
              <a:path w="10196" h="5235">
                <a:moveTo>
                  <a:pt x="9178" y="12055"/>
                </a:moveTo>
                <a:cubicBezTo>
                  <a:pt x="9178" y="12063"/>
                  <a:pt x="9178" y="12072"/>
                  <a:pt x="9178" y="12080"/>
                </a:cubicBezTo>
              </a:path>
              <a:path w="10196" h="5235">
                <a:moveTo>
                  <a:pt x="19075" y="16371"/>
                </a:moveTo>
                <a:cubicBezTo>
                  <a:pt x="19156" y="16355"/>
                  <a:pt x="19239" y="16335"/>
                  <a:pt x="19323" y="16321"/>
                </a:cubicBezTo>
                <a:cubicBezTo>
                  <a:pt x="19331" y="16321"/>
                  <a:pt x="19340" y="16321"/>
                  <a:pt x="19348" y="16321"/>
                </a:cubicBezTo>
              </a:path>
              <a:path w="10196" h="5235">
                <a:moveTo>
                  <a:pt x="19224" y="16098"/>
                </a:moveTo>
                <a:lnTo>
                  <a:pt x="19224" y="16098"/>
                </a:lnTo>
              </a:path>
              <a:path w="10196" h="5235">
                <a:moveTo>
                  <a:pt x="19323" y="16570"/>
                </a:moveTo>
                <a:cubicBezTo>
                  <a:pt x="19315" y="16570"/>
                  <a:pt x="19306" y="16570"/>
                  <a:pt x="19298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8160" y="1517760"/>
            <a:ext cx="6045120" cy="268200"/>
          </a:xfrm>
          <a:custGeom>
            <a:avLst/>
            <a:gdLst/>
            <a:ahLst/>
            <a:rect l="l" t="t" r="r" b="b"/>
            <a:pathLst>
              <a:path w="16794" h="745">
                <a:moveTo>
                  <a:pt x="5854" y="4614"/>
                </a:moveTo>
                <a:cubicBezTo>
                  <a:pt x="5858" y="4706"/>
                  <a:pt x="5850" y="4875"/>
                  <a:pt x="5879" y="4787"/>
                </a:cubicBezTo>
              </a:path>
              <a:path w="16794" h="745">
                <a:moveTo>
                  <a:pt x="5904" y="4217"/>
                </a:moveTo>
                <a:lnTo>
                  <a:pt x="5904" y="4217"/>
                </a:lnTo>
                <a:lnTo>
                  <a:pt x="5904" y="4217"/>
                </a:lnTo>
                <a:lnTo>
                  <a:pt x="5904" y="4217"/>
                </a:lnTo>
              </a:path>
              <a:path w="16794" h="745">
                <a:moveTo>
                  <a:pt x="5904" y="4217"/>
                </a:moveTo>
                <a:lnTo>
                  <a:pt x="5904" y="4217"/>
                </a:lnTo>
              </a:path>
              <a:path w="16794" h="745">
                <a:moveTo>
                  <a:pt x="8062" y="4465"/>
                </a:moveTo>
                <a:cubicBezTo>
                  <a:pt x="8165" y="4455"/>
                  <a:pt x="8384" y="4415"/>
                  <a:pt x="8384" y="4514"/>
                </a:cubicBezTo>
              </a:path>
              <a:path w="16794" h="745">
                <a:moveTo>
                  <a:pt x="14387" y="4415"/>
                </a:moveTo>
                <a:cubicBezTo>
                  <a:pt x="14635" y="4440"/>
                  <a:pt x="14717" y="4448"/>
                  <a:pt x="14883" y="4440"/>
                </a:cubicBezTo>
              </a:path>
              <a:path w="16794" h="745">
                <a:moveTo>
                  <a:pt x="17512" y="4514"/>
                </a:moveTo>
                <a:cubicBezTo>
                  <a:pt x="17743" y="4540"/>
                  <a:pt x="17825" y="4548"/>
                  <a:pt x="17983" y="4539"/>
                </a:cubicBezTo>
              </a:path>
              <a:path w="16794" h="745">
                <a:moveTo>
                  <a:pt x="19546" y="4787"/>
                </a:moveTo>
                <a:cubicBezTo>
                  <a:pt x="19527" y="4898"/>
                  <a:pt x="19546" y="4920"/>
                  <a:pt x="19496" y="4961"/>
                </a:cubicBezTo>
              </a:path>
              <a:path w="16794" h="745">
                <a:moveTo>
                  <a:pt x="19496" y="4961"/>
                </a:moveTo>
                <a:lnTo>
                  <a:pt x="19496" y="4961"/>
                </a:lnTo>
              </a:path>
              <a:path w="16794" h="745">
                <a:moveTo>
                  <a:pt x="19571" y="4316"/>
                </a:moveTo>
                <a:cubicBezTo>
                  <a:pt x="19579" y="4316"/>
                  <a:pt x="19588" y="4316"/>
                  <a:pt x="19596" y="4316"/>
                </a:cubicBezTo>
              </a:path>
              <a:path w="16794" h="745">
                <a:moveTo>
                  <a:pt x="22275" y="4638"/>
                </a:moveTo>
                <a:cubicBezTo>
                  <a:pt x="22464" y="4686"/>
                  <a:pt x="22520" y="4701"/>
                  <a:pt x="22647" y="4713"/>
                </a:cubicBezTo>
              </a:path>
              <a:path w="16794" h="745">
                <a:moveTo>
                  <a:pt x="22647" y="4713"/>
                </a:moveTo>
                <a:lnTo>
                  <a:pt x="22647" y="471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4960" y="1465200"/>
            <a:ext cx="1073160" cy="258840"/>
          </a:xfrm>
          <a:custGeom>
            <a:avLst/>
            <a:gdLst/>
            <a:ahLst/>
            <a:rect l="l" t="t" r="r" b="b"/>
            <a:pathLst>
              <a:path w="2978" h="720">
                <a:moveTo>
                  <a:pt x="1885" y="4192"/>
                </a:moveTo>
                <a:cubicBezTo>
                  <a:pt x="1885" y="4167"/>
                  <a:pt x="1885" y="4159"/>
                  <a:pt x="1910" y="4167"/>
                </a:cubicBezTo>
                <a:cubicBezTo>
                  <a:pt x="1855" y="4059"/>
                  <a:pt x="1766" y="4017"/>
                  <a:pt x="1637" y="4093"/>
                </a:cubicBezTo>
                <a:cubicBezTo>
                  <a:pt x="1545" y="4185"/>
                  <a:pt x="1516" y="4209"/>
                  <a:pt x="1488" y="4291"/>
                </a:cubicBezTo>
                <a:cubicBezTo>
                  <a:pt x="1619" y="4385"/>
                  <a:pt x="1816" y="4370"/>
                  <a:pt x="1935" y="4465"/>
                </a:cubicBezTo>
                <a:cubicBezTo>
                  <a:pt x="2154" y="4640"/>
                  <a:pt x="1781" y="4777"/>
                  <a:pt x="1662" y="4762"/>
                </a:cubicBezTo>
                <a:cubicBezTo>
                  <a:pt x="1538" y="4721"/>
                  <a:pt x="1496" y="4729"/>
                  <a:pt x="1488" y="4638"/>
                </a:cubicBezTo>
              </a:path>
              <a:path w="2978" h="720">
                <a:moveTo>
                  <a:pt x="2629" y="4564"/>
                </a:moveTo>
                <a:cubicBezTo>
                  <a:pt x="2614" y="4430"/>
                  <a:pt x="2572" y="4358"/>
                  <a:pt x="2480" y="4266"/>
                </a:cubicBezTo>
                <a:cubicBezTo>
                  <a:pt x="2345" y="4323"/>
                  <a:pt x="2218" y="4508"/>
                  <a:pt x="2307" y="4688"/>
                </a:cubicBezTo>
                <a:cubicBezTo>
                  <a:pt x="2332" y="4705"/>
                  <a:pt x="2356" y="4721"/>
                  <a:pt x="2381" y="4738"/>
                </a:cubicBezTo>
                <a:cubicBezTo>
                  <a:pt x="2456" y="4650"/>
                  <a:pt x="2517" y="4563"/>
                  <a:pt x="2580" y="4465"/>
                </a:cubicBezTo>
                <a:cubicBezTo>
                  <a:pt x="2593" y="4562"/>
                  <a:pt x="2620" y="4771"/>
                  <a:pt x="2753" y="4787"/>
                </a:cubicBezTo>
                <a:cubicBezTo>
                  <a:pt x="2897" y="4716"/>
                  <a:pt x="2945" y="4653"/>
                  <a:pt x="2927" y="4490"/>
                </a:cubicBezTo>
              </a:path>
              <a:path w="2978" h="720">
                <a:moveTo>
                  <a:pt x="2952" y="4589"/>
                </a:moveTo>
                <a:cubicBezTo>
                  <a:pt x="2952" y="4688"/>
                  <a:pt x="2952" y="4704"/>
                  <a:pt x="2952" y="4762"/>
                </a:cubicBezTo>
                <a:cubicBezTo>
                  <a:pt x="2952" y="4549"/>
                  <a:pt x="2960" y="4460"/>
                  <a:pt x="3076" y="4291"/>
                </a:cubicBezTo>
                <a:cubicBezTo>
                  <a:pt x="3319" y="4395"/>
                  <a:pt x="3356" y="4481"/>
                  <a:pt x="3423" y="4738"/>
                </a:cubicBezTo>
                <a:cubicBezTo>
                  <a:pt x="3397" y="4580"/>
                  <a:pt x="3409" y="4430"/>
                  <a:pt x="3547" y="4316"/>
                </a:cubicBezTo>
                <a:cubicBezTo>
                  <a:pt x="3735" y="4161"/>
                  <a:pt x="3761" y="4609"/>
                  <a:pt x="3770" y="4688"/>
                </a:cubicBezTo>
                <a:cubicBezTo>
                  <a:pt x="3770" y="4705"/>
                  <a:pt x="3770" y="4721"/>
                  <a:pt x="3770" y="4738"/>
                </a:cubicBezTo>
              </a:path>
              <a:path w="2978" h="720">
                <a:moveTo>
                  <a:pt x="4093" y="4490"/>
                </a:moveTo>
                <a:cubicBezTo>
                  <a:pt x="4160" y="4512"/>
                  <a:pt x="4221" y="4539"/>
                  <a:pt x="4291" y="4539"/>
                </a:cubicBezTo>
                <a:cubicBezTo>
                  <a:pt x="4291" y="4449"/>
                  <a:pt x="4278" y="4338"/>
                  <a:pt x="4142" y="4390"/>
                </a:cubicBezTo>
                <a:cubicBezTo>
                  <a:pt x="3936" y="4469"/>
                  <a:pt x="3999" y="4723"/>
                  <a:pt x="4217" y="4713"/>
                </a:cubicBezTo>
                <a:cubicBezTo>
                  <a:pt x="4300" y="4696"/>
                  <a:pt x="4382" y="4680"/>
                  <a:pt x="4465" y="46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1544760"/>
            <a:ext cx="15228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5333" y="4291"/>
                </a:moveTo>
                <a:cubicBezTo>
                  <a:pt x="5256" y="4330"/>
                  <a:pt x="5241" y="4329"/>
                  <a:pt x="5209" y="4366"/>
                </a:cubicBezTo>
                <a:cubicBezTo>
                  <a:pt x="5399" y="4489"/>
                  <a:pt x="5553" y="4523"/>
                  <a:pt x="5606" y="4738"/>
                </a:cubicBezTo>
                <a:cubicBezTo>
                  <a:pt x="5385" y="4817"/>
                  <a:pt x="5201" y="4909"/>
                  <a:pt x="5234" y="46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24080" y="1598760"/>
            <a:ext cx="401760" cy="339480"/>
          </a:xfrm>
          <a:custGeom>
            <a:avLst/>
            <a:gdLst/>
            <a:ahLst/>
            <a:rect l="l" t="t" r="r" b="b"/>
            <a:pathLst>
              <a:path w="1118" h="944">
                <a:moveTo>
                  <a:pt x="6573" y="4539"/>
                </a:moveTo>
                <a:cubicBezTo>
                  <a:pt x="6531" y="4542"/>
                  <a:pt x="6005" y="4713"/>
                  <a:pt x="6226" y="4837"/>
                </a:cubicBezTo>
                <a:cubicBezTo>
                  <a:pt x="6401" y="4935"/>
                  <a:pt x="6515" y="4627"/>
                  <a:pt x="6573" y="4539"/>
                </a:cubicBezTo>
                <a:cubicBezTo>
                  <a:pt x="6581" y="4523"/>
                  <a:pt x="6590" y="4506"/>
                  <a:pt x="6598" y="4490"/>
                </a:cubicBezTo>
                <a:cubicBezTo>
                  <a:pt x="6598" y="4716"/>
                  <a:pt x="6669" y="4988"/>
                  <a:pt x="6623" y="5209"/>
                </a:cubicBezTo>
                <a:cubicBezTo>
                  <a:pt x="6550" y="5554"/>
                  <a:pt x="6291" y="5312"/>
                  <a:pt x="6176" y="5184"/>
                </a:cubicBezTo>
              </a:path>
              <a:path w="1118" h="944">
                <a:moveTo>
                  <a:pt x="6945" y="4539"/>
                </a:moveTo>
                <a:cubicBezTo>
                  <a:pt x="6970" y="4662"/>
                  <a:pt x="6978" y="4703"/>
                  <a:pt x="6970" y="4787"/>
                </a:cubicBezTo>
                <a:cubicBezTo>
                  <a:pt x="6970" y="4831"/>
                  <a:pt x="6997" y="4529"/>
                  <a:pt x="7020" y="4490"/>
                </a:cubicBezTo>
                <a:cubicBezTo>
                  <a:pt x="7045" y="4473"/>
                  <a:pt x="7069" y="4457"/>
                  <a:pt x="7094" y="4440"/>
                </a:cubicBezTo>
                <a:cubicBezTo>
                  <a:pt x="7232" y="4521"/>
                  <a:pt x="7312" y="4633"/>
                  <a:pt x="7293" y="4812"/>
                </a:cubicBezTo>
                <a:cubicBezTo>
                  <a:pt x="7285" y="4829"/>
                  <a:pt x="7276" y="4845"/>
                  <a:pt x="7268" y="48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4040" y="1347840"/>
            <a:ext cx="785880" cy="546120"/>
          </a:xfrm>
          <a:custGeom>
            <a:avLst/>
            <a:gdLst/>
            <a:ahLst/>
            <a:rect l="l" t="t" r="r" b="b"/>
            <a:pathLst>
              <a:path w="2184" h="1514">
                <a:moveTo>
                  <a:pt x="8037" y="4688"/>
                </a:moveTo>
                <a:cubicBezTo>
                  <a:pt x="8169" y="4688"/>
                  <a:pt x="8302" y="4688"/>
                  <a:pt x="8434" y="4688"/>
                </a:cubicBezTo>
              </a:path>
              <a:path w="2184" h="1514">
                <a:moveTo>
                  <a:pt x="9500" y="4242"/>
                </a:moveTo>
                <a:cubicBezTo>
                  <a:pt x="9500" y="4391"/>
                  <a:pt x="9522" y="4538"/>
                  <a:pt x="9525" y="4688"/>
                </a:cubicBezTo>
                <a:cubicBezTo>
                  <a:pt x="9525" y="4762"/>
                  <a:pt x="9525" y="4771"/>
                  <a:pt x="9525" y="4812"/>
                </a:cubicBezTo>
              </a:path>
              <a:path w="2184" h="1514">
                <a:moveTo>
                  <a:pt x="9103" y="4465"/>
                </a:moveTo>
                <a:cubicBezTo>
                  <a:pt x="9264" y="4465"/>
                  <a:pt x="9415" y="4469"/>
                  <a:pt x="9575" y="4490"/>
                </a:cubicBezTo>
                <a:cubicBezTo>
                  <a:pt x="9652" y="4500"/>
                  <a:pt x="9683" y="4514"/>
                  <a:pt x="9748" y="4514"/>
                </a:cubicBezTo>
              </a:path>
              <a:path w="2184" h="1514">
                <a:moveTo>
                  <a:pt x="8880" y="4738"/>
                </a:moveTo>
                <a:cubicBezTo>
                  <a:pt x="8929" y="4853"/>
                  <a:pt x="8979" y="5049"/>
                  <a:pt x="9079" y="5135"/>
                </a:cubicBezTo>
                <a:cubicBezTo>
                  <a:pt x="9321" y="5342"/>
                  <a:pt x="9738" y="5255"/>
                  <a:pt x="9971" y="5085"/>
                </a:cubicBezTo>
                <a:cubicBezTo>
                  <a:pt x="10259" y="4875"/>
                  <a:pt x="10322" y="4416"/>
                  <a:pt x="10096" y="4142"/>
                </a:cubicBezTo>
                <a:cubicBezTo>
                  <a:pt x="9852" y="3846"/>
                  <a:pt x="9262" y="3626"/>
                  <a:pt x="8905" y="3820"/>
                </a:cubicBezTo>
                <a:cubicBezTo>
                  <a:pt x="8152" y="4229"/>
                  <a:pt x="8767" y="4785"/>
                  <a:pt x="9128" y="50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6200" y="1438200"/>
            <a:ext cx="1625760" cy="320760"/>
          </a:xfrm>
          <a:custGeom>
            <a:avLst/>
            <a:gdLst/>
            <a:ahLst/>
            <a:rect l="l" t="t" r="r" b="b"/>
            <a:pathLst>
              <a:path w="4516" h="894">
                <a:moveTo>
                  <a:pt x="13742" y="4539"/>
                </a:moveTo>
                <a:cubicBezTo>
                  <a:pt x="13719" y="4450"/>
                  <a:pt x="13661" y="4341"/>
                  <a:pt x="13543" y="4341"/>
                </a:cubicBezTo>
                <a:cubicBezTo>
                  <a:pt x="13315" y="4341"/>
                  <a:pt x="13323" y="4544"/>
                  <a:pt x="13295" y="4688"/>
                </a:cubicBezTo>
                <a:cubicBezTo>
                  <a:pt x="13565" y="4857"/>
                  <a:pt x="13654" y="4768"/>
                  <a:pt x="13767" y="4465"/>
                </a:cubicBezTo>
                <a:cubicBezTo>
                  <a:pt x="13830" y="4296"/>
                  <a:pt x="13803" y="4208"/>
                  <a:pt x="13767" y="4043"/>
                </a:cubicBezTo>
                <a:cubicBezTo>
                  <a:pt x="13767" y="4254"/>
                  <a:pt x="13760" y="4480"/>
                  <a:pt x="13791" y="4688"/>
                </a:cubicBezTo>
                <a:cubicBezTo>
                  <a:pt x="13799" y="4705"/>
                  <a:pt x="13808" y="4721"/>
                  <a:pt x="13816" y="4738"/>
                </a:cubicBezTo>
              </a:path>
              <a:path w="4516" h="894">
                <a:moveTo>
                  <a:pt x="14064" y="4415"/>
                </a:moveTo>
                <a:cubicBezTo>
                  <a:pt x="14064" y="4531"/>
                  <a:pt x="14064" y="4646"/>
                  <a:pt x="14064" y="4762"/>
                </a:cubicBezTo>
              </a:path>
              <a:path w="4516" h="894">
                <a:moveTo>
                  <a:pt x="14114" y="4142"/>
                </a:moveTo>
                <a:cubicBezTo>
                  <a:pt x="14266" y="4105"/>
                  <a:pt x="14436" y="4232"/>
                  <a:pt x="14610" y="4217"/>
                </a:cubicBezTo>
                <a:cubicBezTo>
                  <a:pt x="14717" y="4174"/>
                  <a:pt x="14752" y="4175"/>
                  <a:pt x="14759" y="4093"/>
                </a:cubicBezTo>
                <a:cubicBezTo>
                  <a:pt x="14588" y="3950"/>
                  <a:pt x="14537" y="4016"/>
                  <a:pt x="14511" y="4266"/>
                </a:cubicBezTo>
                <a:cubicBezTo>
                  <a:pt x="14494" y="4435"/>
                  <a:pt x="14525" y="4596"/>
                  <a:pt x="14536" y="4762"/>
                </a:cubicBezTo>
              </a:path>
              <a:path w="4516" h="894">
                <a:moveTo>
                  <a:pt x="15354" y="4167"/>
                </a:moveTo>
                <a:cubicBezTo>
                  <a:pt x="15206" y="4134"/>
                  <a:pt x="15134" y="4233"/>
                  <a:pt x="15106" y="4390"/>
                </a:cubicBezTo>
                <a:cubicBezTo>
                  <a:pt x="15081" y="4533"/>
                  <a:pt x="15156" y="4647"/>
                  <a:pt x="15156" y="4787"/>
                </a:cubicBezTo>
              </a:path>
              <a:path w="4516" h="894">
                <a:moveTo>
                  <a:pt x="14908" y="4465"/>
                </a:moveTo>
                <a:cubicBezTo>
                  <a:pt x="15085" y="4502"/>
                  <a:pt x="15222" y="4514"/>
                  <a:pt x="15404" y="4514"/>
                </a:cubicBezTo>
              </a:path>
              <a:path w="4516" h="894">
                <a:moveTo>
                  <a:pt x="15503" y="4539"/>
                </a:moveTo>
                <a:cubicBezTo>
                  <a:pt x="15610" y="4533"/>
                  <a:pt x="15661" y="4540"/>
                  <a:pt x="15751" y="4490"/>
                </a:cubicBezTo>
                <a:cubicBezTo>
                  <a:pt x="15637" y="4441"/>
                  <a:pt x="15501" y="4507"/>
                  <a:pt x="15553" y="4663"/>
                </a:cubicBezTo>
                <a:cubicBezTo>
                  <a:pt x="15626" y="4882"/>
                  <a:pt x="15793" y="4714"/>
                  <a:pt x="15925" y="4762"/>
                </a:cubicBezTo>
                <a:cubicBezTo>
                  <a:pt x="15960" y="4775"/>
                  <a:pt x="15916" y="4845"/>
                  <a:pt x="15900" y="4812"/>
                </a:cubicBezTo>
                <a:cubicBezTo>
                  <a:pt x="15949" y="4585"/>
                  <a:pt x="16069" y="4533"/>
                  <a:pt x="16272" y="4440"/>
                </a:cubicBezTo>
              </a:path>
              <a:path w="4516" h="894">
                <a:moveTo>
                  <a:pt x="16594" y="4638"/>
                </a:moveTo>
                <a:cubicBezTo>
                  <a:pt x="16683" y="4609"/>
                  <a:pt x="16721" y="4592"/>
                  <a:pt x="16768" y="4539"/>
                </a:cubicBezTo>
                <a:cubicBezTo>
                  <a:pt x="16679" y="4421"/>
                  <a:pt x="16539" y="4565"/>
                  <a:pt x="16520" y="4688"/>
                </a:cubicBezTo>
                <a:cubicBezTo>
                  <a:pt x="16486" y="4903"/>
                  <a:pt x="16738" y="4800"/>
                  <a:pt x="16818" y="4787"/>
                </a:cubicBezTo>
              </a:path>
              <a:path w="4516" h="894">
                <a:moveTo>
                  <a:pt x="16917" y="4688"/>
                </a:moveTo>
                <a:cubicBezTo>
                  <a:pt x="16829" y="4847"/>
                  <a:pt x="16851" y="4776"/>
                  <a:pt x="16892" y="4762"/>
                </a:cubicBezTo>
                <a:cubicBezTo>
                  <a:pt x="16971" y="4591"/>
                  <a:pt x="17012" y="4524"/>
                  <a:pt x="17165" y="4415"/>
                </a:cubicBezTo>
                <a:cubicBezTo>
                  <a:pt x="17286" y="4553"/>
                  <a:pt x="17272" y="4679"/>
                  <a:pt x="17239" y="4862"/>
                </a:cubicBezTo>
              </a:path>
              <a:path w="4516" h="894">
                <a:moveTo>
                  <a:pt x="17686" y="4093"/>
                </a:moveTo>
                <a:cubicBezTo>
                  <a:pt x="17713" y="4308"/>
                  <a:pt x="17703" y="4498"/>
                  <a:pt x="17711" y="4713"/>
                </a:cubicBezTo>
                <a:cubicBezTo>
                  <a:pt x="17717" y="4868"/>
                  <a:pt x="17707" y="4873"/>
                  <a:pt x="17810" y="48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31000" y="1571760"/>
            <a:ext cx="884160" cy="322200"/>
          </a:xfrm>
          <a:custGeom>
            <a:avLst/>
            <a:gdLst/>
            <a:ahLst/>
            <a:rect l="l" t="t" r="r" b="b"/>
            <a:pathLst>
              <a:path w="2456" h="894">
                <a:moveTo>
                  <a:pt x="19273" y="4465"/>
                </a:moveTo>
                <a:cubicBezTo>
                  <a:pt x="19156" y="4472"/>
                  <a:pt x="19153" y="4453"/>
                  <a:pt x="19075" y="4514"/>
                </a:cubicBezTo>
                <a:cubicBezTo>
                  <a:pt x="19161" y="4620"/>
                  <a:pt x="19251" y="4716"/>
                  <a:pt x="19348" y="4812"/>
                </a:cubicBezTo>
                <a:cubicBezTo>
                  <a:pt x="19163" y="4997"/>
                  <a:pt x="19111" y="4931"/>
                  <a:pt x="18976" y="4738"/>
                </a:cubicBezTo>
              </a:path>
              <a:path w="2456" h="894">
                <a:moveTo>
                  <a:pt x="20042" y="4514"/>
                </a:moveTo>
                <a:cubicBezTo>
                  <a:pt x="19844" y="4554"/>
                  <a:pt x="19847" y="4552"/>
                  <a:pt x="19769" y="4738"/>
                </a:cubicBezTo>
                <a:cubicBezTo>
                  <a:pt x="19967" y="4856"/>
                  <a:pt x="20039" y="4821"/>
                  <a:pt x="20141" y="4614"/>
                </a:cubicBezTo>
                <a:cubicBezTo>
                  <a:pt x="20207" y="4721"/>
                  <a:pt x="20153" y="5000"/>
                  <a:pt x="20092" y="5110"/>
                </a:cubicBezTo>
                <a:cubicBezTo>
                  <a:pt x="19894" y="5471"/>
                  <a:pt x="19689" y="5167"/>
                  <a:pt x="19645" y="4961"/>
                </a:cubicBezTo>
              </a:path>
              <a:path w="2456" h="894">
                <a:moveTo>
                  <a:pt x="20662" y="4366"/>
                </a:moveTo>
                <a:cubicBezTo>
                  <a:pt x="20641" y="4492"/>
                  <a:pt x="20621" y="4615"/>
                  <a:pt x="20588" y="4738"/>
                </a:cubicBezTo>
                <a:cubicBezTo>
                  <a:pt x="20606" y="4614"/>
                  <a:pt x="20690" y="4503"/>
                  <a:pt x="20786" y="4415"/>
                </a:cubicBezTo>
                <a:cubicBezTo>
                  <a:pt x="20803" y="4407"/>
                  <a:pt x="20819" y="4398"/>
                  <a:pt x="20836" y="4390"/>
                </a:cubicBezTo>
                <a:cubicBezTo>
                  <a:pt x="20924" y="4559"/>
                  <a:pt x="20982" y="4680"/>
                  <a:pt x="20861" y="4837"/>
                </a:cubicBezTo>
              </a:path>
              <a:path w="2456" h="894">
                <a:moveTo>
                  <a:pt x="21382" y="4415"/>
                </a:moveTo>
                <a:cubicBezTo>
                  <a:pt x="21315" y="4437"/>
                  <a:pt x="21297" y="4442"/>
                  <a:pt x="21258" y="4465"/>
                </a:cubicBezTo>
                <a:cubicBezTo>
                  <a:pt x="21291" y="4563"/>
                  <a:pt x="21507" y="4695"/>
                  <a:pt x="21406" y="4812"/>
                </a:cubicBezTo>
                <a:cubicBezTo>
                  <a:pt x="21300" y="4935"/>
                  <a:pt x="21030" y="4886"/>
                  <a:pt x="21208" y="46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35920" y="1608120"/>
            <a:ext cx="162000" cy="17640"/>
          </a:xfrm>
          <a:custGeom>
            <a:avLst/>
            <a:gdLst/>
            <a:ahLst/>
            <a:rect l="l" t="t" r="r" b="b"/>
            <a:pathLst>
              <a:path w="448" h="50">
                <a:moveTo>
                  <a:pt x="22324" y="4465"/>
                </a:moveTo>
                <a:cubicBezTo>
                  <a:pt x="22476" y="4472"/>
                  <a:pt x="22620" y="4498"/>
                  <a:pt x="22771" y="451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83760" y="1446120"/>
            <a:ext cx="642600" cy="482760"/>
          </a:xfrm>
          <a:custGeom>
            <a:avLst/>
            <a:gdLst/>
            <a:ahLst/>
            <a:rect l="l" t="t" r="r" b="b"/>
            <a:pathLst>
              <a:path w="1787" h="1341">
                <a:moveTo>
                  <a:pt x="23763" y="4713"/>
                </a:moveTo>
                <a:cubicBezTo>
                  <a:pt x="23956" y="4713"/>
                  <a:pt x="24142" y="4709"/>
                  <a:pt x="24333" y="4738"/>
                </a:cubicBezTo>
                <a:cubicBezTo>
                  <a:pt x="24366" y="4746"/>
                  <a:pt x="24400" y="4754"/>
                  <a:pt x="24433" y="4762"/>
                </a:cubicBezTo>
              </a:path>
              <a:path w="1787" h="1341">
                <a:moveTo>
                  <a:pt x="23688" y="4936"/>
                </a:moveTo>
                <a:cubicBezTo>
                  <a:pt x="23862" y="5125"/>
                  <a:pt x="24128" y="5271"/>
                  <a:pt x="24383" y="5333"/>
                </a:cubicBezTo>
                <a:cubicBezTo>
                  <a:pt x="24716" y="5414"/>
                  <a:pt x="24987" y="5340"/>
                  <a:pt x="25202" y="5085"/>
                </a:cubicBezTo>
                <a:cubicBezTo>
                  <a:pt x="25403" y="4846"/>
                  <a:pt x="25393" y="4655"/>
                  <a:pt x="25152" y="4465"/>
                </a:cubicBezTo>
                <a:cubicBezTo>
                  <a:pt x="24871" y="4244"/>
                  <a:pt x="24470" y="4041"/>
                  <a:pt x="24110" y="4018"/>
                </a:cubicBezTo>
                <a:cubicBezTo>
                  <a:pt x="23683" y="3991"/>
                  <a:pt x="23454" y="4416"/>
                  <a:pt x="23639" y="4787"/>
                </a:cubicBezTo>
                <a:cubicBezTo>
                  <a:pt x="23697" y="4845"/>
                  <a:pt x="23754" y="4903"/>
                  <a:pt x="23812" y="49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2786040"/>
            <a:ext cx="6483240" cy="2965320"/>
          </a:xfrm>
          <a:custGeom>
            <a:avLst/>
            <a:gdLst/>
            <a:ahLst/>
            <a:rect l="l" t="t" r="r" b="b"/>
            <a:pathLst>
              <a:path w="18010" h="8236">
                <a:moveTo>
                  <a:pt x="23812" y="7739"/>
                </a:moveTo>
                <a:cubicBezTo>
                  <a:pt x="23869" y="7767"/>
                  <a:pt x="23893" y="7778"/>
                  <a:pt x="23937" y="7789"/>
                </a:cubicBezTo>
              </a:path>
              <a:path w="18010" h="8236">
                <a:moveTo>
                  <a:pt x="5928" y="15974"/>
                </a:moveTo>
                <a:cubicBezTo>
                  <a:pt x="6112" y="15903"/>
                  <a:pt x="6303" y="15857"/>
                  <a:pt x="6499" y="15825"/>
                </a:cubicBezTo>
                <a:cubicBezTo>
                  <a:pt x="6534" y="15825"/>
                  <a:pt x="6547" y="15834"/>
                  <a:pt x="6548" y="158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47880" y="4500720"/>
            <a:ext cx="1438200" cy="1544400"/>
          </a:xfrm>
          <a:custGeom>
            <a:avLst/>
            <a:gdLst/>
            <a:ahLst/>
            <a:rect l="l" t="t" r="r" b="b"/>
            <a:pathLst>
              <a:path w="3994" h="4292">
                <a:moveTo>
                  <a:pt x="5135" y="15180"/>
                </a:moveTo>
                <a:cubicBezTo>
                  <a:pt x="5251" y="15197"/>
                  <a:pt x="5328" y="15162"/>
                  <a:pt x="5457" y="15131"/>
                </a:cubicBezTo>
                <a:cubicBezTo>
                  <a:pt x="5677" y="15078"/>
                  <a:pt x="5906" y="15028"/>
                  <a:pt x="6127" y="14982"/>
                </a:cubicBezTo>
                <a:cubicBezTo>
                  <a:pt x="6314" y="14943"/>
                  <a:pt x="6489" y="14907"/>
                  <a:pt x="6672" y="14858"/>
                </a:cubicBezTo>
                <a:cubicBezTo>
                  <a:pt x="6783" y="14828"/>
                  <a:pt x="6907" y="14799"/>
                  <a:pt x="7020" y="14784"/>
                </a:cubicBezTo>
                <a:cubicBezTo>
                  <a:pt x="7083" y="14775"/>
                  <a:pt x="7154" y="14784"/>
                  <a:pt x="7218" y="14784"/>
                </a:cubicBezTo>
              </a:path>
              <a:path w="3994" h="4292">
                <a:moveTo>
                  <a:pt x="5358" y="15875"/>
                </a:moveTo>
                <a:cubicBezTo>
                  <a:pt x="5442" y="15861"/>
                  <a:pt x="5520" y="15831"/>
                  <a:pt x="5606" y="15825"/>
                </a:cubicBezTo>
                <a:cubicBezTo>
                  <a:pt x="5631" y="15825"/>
                  <a:pt x="5639" y="15825"/>
                  <a:pt x="5655" y="15825"/>
                </a:cubicBezTo>
              </a:path>
              <a:path w="3994" h="4292">
                <a:moveTo>
                  <a:pt x="6102" y="15106"/>
                </a:moveTo>
                <a:cubicBezTo>
                  <a:pt x="6119" y="15243"/>
                  <a:pt x="6148" y="15388"/>
                  <a:pt x="6127" y="15528"/>
                </a:cubicBezTo>
                <a:cubicBezTo>
                  <a:pt x="6111" y="15634"/>
                  <a:pt x="6108" y="15577"/>
                  <a:pt x="6127" y="15652"/>
                </a:cubicBezTo>
              </a:path>
              <a:path w="3994" h="4292">
                <a:moveTo>
                  <a:pt x="6400" y="16173"/>
                </a:moveTo>
                <a:cubicBezTo>
                  <a:pt x="6376" y="16076"/>
                  <a:pt x="6348" y="16049"/>
                  <a:pt x="6251" y="16073"/>
                </a:cubicBezTo>
                <a:cubicBezTo>
                  <a:pt x="6098" y="16111"/>
                  <a:pt x="5970" y="16246"/>
                  <a:pt x="6028" y="16421"/>
                </a:cubicBezTo>
                <a:cubicBezTo>
                  <a:pt x="6044" y="16437"/>
                  <a:pt x="6061" y="16454"/>
                  <a:pt x="6077" y="16470"/>
                </a:cubicBezTo>
                <a:cubicBezTo>
                  <a:pt x="6228" y="16423"/>
                  <a:pt x="6334" y="16385"/>
                  <a:pt x="6400" y="16222"/>
                </a:cubicBezTo>
                <a:cubicBezTo>
                  <a:pt x="6400" y="16197"/>
                  <a:pt x="6400" y="16189"/>
                  <a:pt x="6400" y="16222"/>
                </a:cubicBezTo>
                <a:cubicBezTo>
                  <a:pt x="6400" y="16404"/>
                  <a:pt x="6422" y="16564"/>
                  <a:pt x="6449" y="16743"/>
                </a:cubicBezTo>
                <a:cubicBezTo>
                  <a:pt x="6450" y="16751"/>
                  <a:pt x="6449" y="16835"/>
                  <a:pt x="6449" y="16768"/>
                </a:cubicBezTo>
              </a:path>
              <a:path w="3994" h="4292">
                <a:moveTo>
                  <a:pt x="8012" y="14635"/>
                </a:moveTo>
                <a:cubicBezTo>
                  <a:pt x="8122" y="14635"/>
                  <a:pt x="8250" y="14619"/>
                  <a:pt x="8359" y="14610"/>
                </a:cubicBezTo>
                <a:cubicBezTo>
                  <a:pt x="8608" y="14589"/>
                  <a:pt x="8854" y="14546"/>
                  <a:pt x="9103" y="14536"/>
                </a:cubicBezTo>
                <a:cubicBezTo>
                  <a:pt x="9111" y="14536"/>
                  <a:pt x="9120" y="14536"/>
                  <a:pt x="9128" y="14536"/>
                </a:cubicBezTo>
              </a:path>
              <a:path w="3994" h="4292">
                <a:moveTo>
                  <a:pt x="7888" y="15180"/>
                </a:moveTo>
                <a:cubicBezTo>
                  <a:pt x="7956" y="15180"/>
                  <a:pt x="8017" y="15160"/>
                  <a:pt x="8086" y="15156"/>
                </a:cubicBezTo>
                <a:cubicBezTo>
                  <a:pt x="8094" y="15156"/>
                  <a:pt x="8103" y="15156"/>
                  <a:pt x="8111" y="15156"/>
                </a:cubicBezTo>
              </a:path>
              <a:path w="3994" h="4292">
                <a:moveTo>
                  <a:pt x="8607" y="14734"/>
                </a:moveTo>
                <a:cubicBezTo>
                  <a:pt x="8607" y="14641"/>
                  <a:pt x="8630" y="14864"/>
                  <a:pt x="8632" y="14957"/>
                </a:cubicBezTo>
                <a:cubicBezTo>
                  <a:pt x="8632" y="15081"/>
                  <a:pt x="8632" y="15106"/>
                  <a:pt x="8632" y="15180"/>
                </a:cubicBezTo>
              </a:path>
              <a:path w="3994" h="4292">
                <a:moveTo>
                  <a:pt x="8359" y="15429"/>
                </a:moveTo>
                <a:cubicBezTo>
                  <a:pt x="8462" y="15409"/>
                  <a:pt x="8760" y="15295"/>
                  <a:pt x="8855" y="15329"/>
                </a:cubicBezTo>
                <a:cubicBezTo>
                  <a:pt x="8855" y="15346"/>
                  <a:pt x="8855" y="15362"/>
                  <a:pt x="8855" y="15379"/>
                </a:cubicBezTo>
              </a:path>
              <a:path w="3994" h="4292">
                <a:moveTo>
                  <a:pt x="8855" y="15701"/>
                </a:moveTo>
                <a:cubicBezTo>
                  <a:pt x="8795" y="15652"/>
                  <a:pt x="8719" y="15576"/>
                  <a:pt x="8632" y="15602"/>
                </a:cubicBezTo>
                <a:cubicBezTo>
                  <a:pt x="8446" y="15657"/>
                  <a:pt x="8424" y="15789"/>
                  <a:pt x="8434" y="15949"/>
                </a:cubicBezTo>
                <a:cubicBezTo>
                  <a:pt x="8543" y="15927"/>
                  <a:pt x="8642" y="15876"/>
                  <a:pt x="8706" y="15776"/>
                </a:cubicBezTo>
                <a:cubicBezTo>
                  <a:pt x="8706" y="15768"/>
                  <a:pt x="8706" y="15759"/>
                  <a:pt x="8706" y="15751"/>
                </a:cubicBezTo>
                <a:cubicBezTo>
                  <a:pt x="8764" y="15770"/>
                  <a:pt x="8775" y="16005"/>
                  <a:pt x="8781" y="16073"/>
                </a:cubicBezTo>
                <a:cubicBezTo>
                  <a:pt x="8781" y="16148"/>
                  <a:pt x="8781" y="16156"/>
                  <a:pt x="8781" y="16197"/>
                </a:cubicBezTo>
              </a:path>
              <a:path w="3994" h="4292">
                <a:moveTo>
                  <a:pt x="6474" y="12526"/>
                </a:moveTo>
                <a:cubicBezTo>
                  <a:pt x="6469" y="12529"/>
                  <a:pt x="6414" y="12534"/>
                  <a:pt x="6375" y="12626"/>
                </a:cubicBezTo>
                <a:cubicBezTo>
                  <a:pt x="6290" y="12830"/>
                  <a:pt x="6279" y="13026"/>
                  <a:pt x="6276" y="13246"/>
                </a:cubicBezTo>
                <a:cubicBezTo>
                  <a:pt x="6273" y="13488"/>
                  <a:pt x="6239" y="13725"/>
                  <a:pt x="6226" y="13965"/>
                </a:cubicBezTo>
                <a:cubicBezTo>
                  <a:pt x="6211" y="14236"/>
                  <a:pt x="6195" y="14516"/>
                  <a:pt x="6152" y="14784"/>
                </a:cubicBezTo>
                <a:cubicBezTo>
                  <a:pt x="6122" y="14972"/>
                  <a:pt x="6094" y="15143"/>
                  <a:pt x="6052" y="15329"/>
                </a:cubicBezTo>
                <a:cubicBezTo>
                  <a:pt x="6011" y="15511"/>
                  <a:pt x="5969" y="15692"/>
                  <a:pt x="5928" y="15875"/>
                </a:cubicBezTo>
                <a:cubicBezTo>
                  <a:pt x="5903" y="15989"/>
                  <a:pt x="5888" y="16107"/>
                  <a:pt x="5879" y="16222"/>
                </a:cubicBezTo>
                <a:cubicBezTo>
                  <a:pt x="5873" y="16292"/>
                  <a:pt x="5857" y="16324"/>
                  <a:pt x="5854" y="16396"/>
                </a:cubicBezTo>
                <a:cubicBezTo>
                  <a:pt x="5853" y="16421"/>
                  <a:pt x="5854" y="16445"/>
                  <a:pt x="5854" y="16470"/>
                </a:cubicBezTo>
                <a:cubicBezTo>
                  <a:pt x="5861" y="16403"/>
                  <a:pt x="5874" y="16388"/>
                  <a:pt x="5879" y="16321"/>
                </a:cubicBezTo>
                <a:cubicBezTo>
                  <a:pt x="5892" y="16151"/>
                  <a:pt x="5922" y="15993"/>
                  <a:pt x="5953" y="15825"/>
                </a:cubicBezTo>
                <a:cubicBezTo>
                  <a:pt x="5992" y="15609"/>
                  <a:pt x="6036" y="15394"/>
                  <a:pt x="6077" y="15180"/>
                </a:cubicBezTo>
                <a:cubicBezTo>
                  <a:pt x="6123" y="14940"/>
                  <a:pt x="6134" y="14728"/>
                  <a:pt x="6152" y="14486"/>
                </a:cubicBezTo>
                <a:cubicBezTo>
                  <a:pt x="6170" y="14246"/>
                  <a:pt x="6213" y="14007"/>
                  <a:pt x="6226" y="13767"/>
                </a:cubicBezTo>
                <a:cubicBezTo>
                  <a:pt x="6238" y="13552"/>
                  <a:pt x="6244" y="13336"/>
                  <a:pt x="6276" y="13122"/>
                </a:cubicBezTo>
                <a:cubicBezTo>
                  <a:pt x="6293" y="13010"/>
                  <a:pt x="6286" y="12880"/>
                  <a:pt x="6325" y="12774"/>
                </a:cubicBezTo>
                <a:cubicBezTo>
                  <a:pt x="6325" y="12750"/>
                  <a:pt x="6325" y="12742"/>
                  <a:pt x="6350" y="127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72680" y="3768840"/>
            <a:ext cx="465120" cy="776160"/>
          </a:xfrm>
          <a:custGeom>
            <a:avLst/>
            <a:gdLst/>
            <a:ahLst/>
            <a:rect l="l" t="t" r="r" b="b"/>
            <a:pathLst>
              <a:path w="1291" h="2159">
                <a:moveTo>
                  <a:pt x="24284" y="11137"/>
                </a:moveTo>
                <a:cubicBezTo>
                  <a:pt x="24326" y="11259"/>
                  <a:pt x="24358" y="11357"/>
                  <a:pt x="24358" y="11485"/>
                </a:cubicBezTo>
                <a:cubicBezTo>
                  <a:pt x="24358" y="11477"/>
                  <a:pt x="24358" y="11468"/>
                  <a:pt x="24358" y="11460"/>
                </a:cubicBezTo>
              </a:path>
              <a:path w="1291" h="2159">
                <a:moveTo>
                  <a:pt x="24482" y="11038"/>
                </a:moveTo>
                <a:cubicBezTo>
                  <a:pt x="24561" y="11014"/>
                  <a:pt x="24685" y="10973"/>
                  <a:pt x="24681" y="11112"/>
                </a:cubicBezTo>
                <a:cubicBezTo>
                  <a:pt x="24678" y="11228"/>
                  <a:pt x="24602" y="11305"/>
                  <a:pt x="24581" y="11410"/>
                </a:cubicBezTo>
                <a:cubicBezTo>
                  <a:pt x="24670" y="11436"/>
                  <a:pt x="24717" y="11390"/>
                  <a:pt x="24805" y="11361"/>
                </a:cubicBezTo>
              </a:path>
              <a:path w="1291" h="2159">
                <a:moveTo>
                  <a:pt x="24209" y="11782"/>
                </a:moveTo>
                <a:cubicBezTo>
                  <a:pt x="24178" y="11687"/>
                  <a:pt x="24142" y="11582"/>
                  <a:pt x="24110" y="11485"/>
                </a:cubicBezTo>
                <a:cubicBezTo>
                  <a:pt x="24094" y="11438"/>
                  <a:pt x="23977" y="11218"/>
                  <a:pt x="24011" y="11162"/>
                </a:cubicBezTo>
                <a:cubicBezTo>
                  <a:pt x="24078" y="11052"/>
                  <a:pt x="24449" y="10948"/>
                  <a:pt x="24557" y="10914"/>
                </a:cubicBezTo>
                <a:cubicBezTo>
                  <a:pt x="24687" y="10873"/>
                  <a:pt x="24962" y="10758"/>
                  <a:pt x="24978" y="10840"/>
                </a:cubicBezTo>
              </a:path>
              <a:path w="1291" h="2159">
                <a:moveTo>
                  <a:pt x="24036" y="11261"/>
                </a:moveTo>
                <a:cubicBezTo>
                  <a:pt x="23998" y="11267"/>
                  <a:pt x="23866" y="11289"/>
                  <a:pt x="23837" y="11311"/>
                </a:cubicBezTo>
                <a:cubicBezTo>
                  <a:pt x="23815" y="11328"/>
                  <a:pt x="23837" y="11476"/>
                  <a:pt x="23837" y="11509"/>
                </a:cubicBezTo>
                <a:cubicBezTo>
                  <a:pt x="23895" y="11500"/>
                  <a:pt x="24013" y="11426"/>
                  <a:pt x="24061" y="11485"/>
                </a:cubicBezTo>
                <a:cubicBezTo>
                  <a:pt x="24180" y="11630"/>
                  <a:pt x="23996" y="11713"/>
                  <a:pt x="23887" y="11733"/>
                </a:cubicBezTo>
                <a:cubicBezTo>
                  <a:pt x="23812" y="11733"/>
                  <a:pt x="23787" y="11733"/>
                  <a:pt x="23812" y="11658"/>
                </a:cubicBezTo>
              </a:path>
              <a:path w="1291" h="2159">
                <a:moveTo>
                  <a:pt x="24383" y="10492"/>
                </a:moveTo>
                <a:cubicBezTo>
                  <a:pt x="24464" y="10479"/>
                  <a:pt x="24606" y="10458"/>
                  <a:pt x="24606" y="10592"/>
                </a:cubicBezTo>
                <a:cubicBezTo>
                  <a:pt x="24606" y="10726"/>
                  <a:pt x="24490" y="10791"/>
                  <a:pt x="24383" y="10815"/>
                </a:cubicBezTo>
                <a:cubicBezTo>
                  <a:pt x="24419" y="10743"/>
                  <a:pt x="24501" y="10732"/>
                  <a:pt x="24581" y="10765"/>
                </a:cubicBezTo>
                <a:cubicBezTo>
                  <a:pt x="24604" y="10788"/>
                  <a:pt x="24608" y="10796"/>
                  <a:pt x="24631" y="10790"/>
                </a:cubicBezTo>
              </a:path>
              <a:path w="1291" h="2159">
                <a:moveTo>
                  <a:pt x="24433" y="11881"/>
                </a:moveTo>
                <a:cubicBezTo>
                  <a:pt x="24433" y="11873"/>
                  <a:pt x="24433" y="11865"/>
                  <a:pt x="24433" y="11857"/>
                </a:cubicBezTo>
                <a:cubicBezTo>
                  <a:pt x="24467" y="11880"/>
                  <a:pt x="24498" y="11968"/>
                  <a:pt x="24507" y="12030"/>
                </a:cubicBezTo>
                <a:cubicBezTo>
                  <a:pt x="24507" y="12038"/>
                  <a:pt x="24507" y="12047"/>
                  <a:pt x="24507" y="12055"/>
                </a:cubicBezTo>
              </a:path>
              <a:path w="1291" h="2159">
                <a:moveTo>
                  <a:pt x="24705" y="11733"/>
                </a:moveTo>
                <a:cubicBezTo>
                  <a:pt x="24694" y="11844"/>
                  <a:pt x="24673" y="11905"/>
                  <a:pt x="24730" y="12005"/>
                </a:cubicBezTo>
                <a:cubicBezTo>
                  <a:pt x="24788" y="11976"/>
                  <a:pt x="24907" y="11873"/>
                  <a:pt x="24854" y="11782"/>
                </a:cubicBezTo>
                <a:cubicBezTo>
                  <a:pt x="24798" y="11753"/>
                  <a:pt x="24774" y="11748"/>
                  <a:pt x="24730" y="11782"/>
                </a:cubicBezTo>
              </a:path>
              <a:path w="1291" h="2159">
                <a:moveTo>
                  <a:pt x="24433" y="12278"/>
                </a:moveTo>
                <a:cubicBezTo>
                  <a:pt x="24550" y="12211"/>
                  <a:pt x="24713" y="12105"/>
                  <a:pt x="24854" y="12105"/>
                </a:cubicBezTo>
                <a:cubicBezTo>
                  <a:pt x="24871" y="12113"/>
                  <a:pt x="24887" y="12121"/>
                  <a:pt x="24904" y="12129"/>
                </a:cubicBezTo>
              </a:path>
              <a:path w="1291" h="2159">
                <a:moveTo>
                  <a:pt x="24829" y="12303"/>
                </a:moveTo>
                <a:cubicBezTo>
                  <a:pt x="24916" y="12303"/>
                  <a:pt x="24992" y="12303"/>
                  <a:pt x="25028" y="12402"/>
                </a:cubicBezTo>
                <a:cubicBezTo>
                  <a:pt x="25066" y="12507"/>
                  <a:pt x="24962" y="12646"/>
                  <a:pt x="24854" y="12626"/>
                </a:cubicBezTo>
                <a:cubicBezTo>
                  <a:pt x="24846" y="12618"/>
                  <a:pt x="24837" y="12609"/>
                  <a:pt x="24829" y="12601"/>
                </a:cubicBezTo>
                <a:cubicBezTo>
                  <a:pt x="24774" y="12524"/>
                  <a:pt x="24884" y="12512"/>
                  <a:pt x="24954" y="12502"/>
                </a:cubicBezTo>
                <a:cubicBezTo>
                  <a:pt x="25027" y="12491"/>
                  <a:pt x="25051" y="12510"/>
                  <a:pt x="25102" y="125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5040" y="4268880"/>
            <a:ext cx="1017720" cy="473040"/>
          </a:xfrm>
          <a:custGeom>
            <a:avLst/>
            <a:gdLst/>
            <a:ahLst/>
            <a:rect l="l" t="t" r="r" b="b"/>
            <a:pathLst>
              <a:path w="2829" h="1315">
                <a:moveTo>
                  <a:pt x="20861" y="12229"/>
                </a:moveTo>
                <a:cubicBezTo>
                  <a:pt x="20920" y="12416"/>
                  <a:pt x="20935" y="12535"/>
                  <a:pt x="20910" y="12725"/>
                </a:cubicBezTo>
                <a:cubicBezTo>
                  <a:pt x="20910" y="12733"/>
                  <a:pt x="20910" y="12742"/>
                  <a:pt x="20910" y="12750"/>
                </a:cubicBezTo>
              </a:path>
              <a:path w="2829" h="1315">
                <a:moveTo>
                  <a:pt x="20513" y="12229"/>
                </a:moveTo>
                <a:cubicBezTo>
                  <a:pt x="20626" y="12101"/>
                  <a:pt x="20781" y="12036"/>
                  <a:pt x="20960" y="12105"/>
                </a:cubicBezTo>
                <a:cubicBezTo>
                  <a:pt x="21083" y="12152"/>
                  <a:pt x="21139" y="12346"/>
                  <a:pt x="21010" y="12427"/>
                </a:cubicBezTo>
                <a:cubicBezTo>
                  <a:pt x="20971" y="12452"/>
                  <a:pt x="20860" y="12469"/>
                  <a:pt x="20811" y="12477"/>
                </a:cubicBezTo>
              </a:path>
              <a:path w="2829" h="1315">
                <a:moveTo>
                  <a:pt x="21258" y="12179"/>
                </a:moveTo>
                <a:cubicBezTo>
                  <a:pt x="21339" y="12157"/>
                  <a:pt x="21391" y="12132"/>
                  <a:pt x="21456" y="12154"/>
                </a:cubicBezTo>
              </a:path>
              <a:path w="2829" h="1315">
                <a:moveTo>
                  <a:pt x="21803" y="12005"/>
                </a:moveTo>
                <a:cubicBezTo>
                  <a:pt x="21838" y="11921"/>
                  <a:pt x="21890" y="11916"/>
                  <a:pt x="21977" y="11906"/>
                </a:cubicBezTo>
                <a:cubicBezTo>
                  <a:pt x="21998" y="12040"/>
                  <a:pt x="21973" y="12055"/>
                  <a:pt x="21903" y="12154"/>
                </a:cubicBezTo>
                <a:cubicBezTo>
                  <a:pt x="21838" y="12122"/>
                  <a:pt x="22001" y="12111"/>
                  <a:pt x="22027" y="12154"/>
                </a:cubicBezTo>
                <a:cubicBezTo>
                  <a:pt x="22095" y="12268"/>
                  <a:pt x="22052" y="12378"/>
                  <a:pt x="21927" y="12402"/>
                </a:cubicBezTo>
                <a:cubicBezTo>
                  <a:pt x="21869" y="12402"/>
                  <a:pt x="21861" y="12402"/>
                  <a:pt x="21828" y="12402"/>
                </a:cubicBezTo>
              </a:path>
              <a:path w="2829" h="1315">
                <a:moveTo>
                  <a:pt x="21704" y="12601"/>
                </a:moveTo>
                <a:cubicBezTo>
                  <a:pt x="21839" y="12584"/>
                  <a:pt x="21964" y="12576"/>
                  <a:pt x="22101" y="12576"/>
                </a:cubicBezTo>
                <a:cubicBezTo>
                  <a:pt x="22134" y="12576"/>
                  <a:pt x="22167" y="12576"/>
                  <a:pt x="22200" y="12576"/>
                </a:cubicBezTo>
              </a:path>
              <a:path w="2829" h="1315">
                <a:moveTo>
                  <a:pt x="21927" y="12725"/>
                </a:moveTo>
                <a:cubicBezTo>
                  <a:pt x="21942" y="12844"/>
                  <a:pt x="21952" y="12951"/>
                  <a:pt x="21952" y="13072"/>
                </a:cubicBezTo>
                <a:cubicBezTo>
                  <a:pt x="21952" y="13133"/>
                  <a:pt x="22014" y="13022"/>
                  <a:pt x="22051" y="12973"/>
                </a:cubicBezTo>
              </a:path>
              <a:path w="2829" h="1315">
                <a:moveTo>
                  <a:pt x="22423" y="12576"/>
                </a:moveTo>
                <a:cubicBezTo>
                  <a:pt x="22477" y="12555"/>
                  <a:pt x="22569" y="12556"/>
                  <a:pt x="22647" y="12551"/>
                </a:cubicBezTo>
                <a:cubicBezTo>
                  <a:pt x="22671" y="12551"/>
                  <a:pt x="22680" y="12551"/>
                  <a:pt x="22696" y="12551"/>
                </a:cubicBezTo>
              </a:path>
              <a:path w="2829" h="1315">
                <a:moveTo>
                  <a:pt x="23093" y="11906"/>
                </a:moveTo>
                <a:cubicBezTo>
                  <a:pt x="23021" y="11906"/>
                  <a:pt x="22964" y="11925"/>
                  <a:pt x="22895" y="11931"/>
                </a:cubicBezTo>
                <a:cubicBezTo>
                  <a:pt x="22833" y="11937"/>
                  <a:pt x="22848" y="12080"/>
                  <a:pt x="22845" y="12129"/>
                </a:cubicBezTo>
                <a:cubicBezTo>
                  <a:pt x="22915" y="12129"/>
                  <a:pt x="22970" y="12077"/>
                  <a:pt x="23044" y="12105"/>
                </a:cubicBezTo>
                <a:cubicBezTo>
                  <a:pt x="23146" y="12143"/>
                  <a:pt x="23188" y="12273"/>
                  <a:pt x="23068" y="12328"/>
                </a:cubicBezTo>
                <a:cubicBezTo>
                  <a:pt x="23017" y="12351"/>
                  <a:pt x="22960" y="12327"/>
                  <a:pt x="22944" y="12303"/>
                </a:cubicBezTo>
              </a:path>
              <a:path w="2829" h="1315">
                <a:moveTo>
                  <a:pt x="22920" y="12502"/>
                </a:moveTo>
                <a:cubicBezTo>
                  <a:pt x="23047" y="12502"/>
                  <a:pt x="23166" y="12483"/>
                  <a:pt x="23292" y="12477"/>
                </a:cubicBezTo>
                <a:cubicBezTo>
                  <a:pt x="23316" y="12477"/>
                  <a:pt x="23325" y="12477"/>
                  <a:pt x="23341" y="12477"/>
                </a:cubicBezTo>
              </a:path>
              <a:path w="2829" h="1315">
                <a:moveTo>
                  <a:pt x="22969" y="12725"/>
                </a:moveTo>
                <a:cubicBezTo>
                  <a:pt x="22941" y="12817"/>
                  <a:pt x="22924" y="12855"/>
                  <a:pt x="23044" y="12874"/>
                </a:cubicBezTo>
                <a:cubicBezTo>
                  <a:pt x="23113" y="12885"/>
                  <a:pt x="23157" y="12872"/>
                  <a:pt x="23217" y="12849"/>
                </a:cubicBezTo>
              </a:path>
              <a:path w="2829" h="1315">
                <a:moveTo>
                  <a:pt x="23192" y="12700"/>
                </a:moveTo>
                <a:cubicBezTo>
                  <a:pt x="23171" y="12787"/>
                  <a:pt x="23146" y="12873"/>
                  <a:pt x="23143" y="12973"/>
                </a:cubicBezTo>
                <a:cubicBezTo>
                  <a:pt x="23141" y="13039"/>
                  <a:pt x="23143" y="13105"/>
                  <a:pt x="23143" y="13171"/>
                </a:cubicBezTo>
              </a:path>
              <a:path w="2829" h="1315">
                <a:moveTo>
                  <a:pt x="21506" y="11857"/>
                </a:moveTo>
                <a:cubicBezTo>
                  <a:pt x="21589" y="11857"/>
                  <a:pt x="21671" y="11857"/>
                  <a:pt x="21754" y="118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6720" y="4653000"/>
            <a:ext cx="2965320" cy="1554120"/>
          </a:xfrm>
          <a:custGeom>
            <a:avLst/>
            <a:gdLst/>
            <a:ahLst/>
            <a:rect l="l" t="t" r="r" b="b"/>
            <a:pathLst>
              <a:path w="8236" h="4317">
                <a:moveTo>
                  <a:pt x="15602" y="15429"/>
                </a:moveTo>
                <a:cubicBezTo>
                  <a:pt x="15657" y="15423"/>
                  <a:pt x="15727" y="15427"/>
                  <a:pt x="15776" y="15404"/>
                </a:cubicBezTo>
                <a:cubicBezTo>
                  <a:pt x="15851" y="15369"/>
                  <a:pt x="15938" y="15370"/>
                  <a:pt x="16024" y="15354"/>
                </a:cubicBezTo>
                <a:cubicBezTo>
                  <a:pt x="16164" y="15328"/>
                  <a:pt x="16303" y="15308"/>
                  <a:pt x="16446" y="15304"/>
                </a:cubicBezTo>
                <a:cubicBezTo>
                  <a:pt x="16567" y="15301"/>
                  <a:pt x="16674" y="15267"/>
                  <a:pt x="16793" y="15255"/>
                </a:cubicBezTo>
                <a:cubicBezTo>
                  <a:pt x="16880" y="15246"/>
                  <a:pt x="16958" y="15252"/>
                  <a:pt x="17041" y="15230"/>
                </a:cubicBezTo>
                <a:cubicBezTo>
                  <a:pt x="17084" y="15219"/>
                  <a:pt x="17120" y="15211"/>
                  <a:pt x="17165" y="15205"/>
                </a:cubicBezTo>
                <a:cubicBezTo>
                  <a:pt x="17190" y="15205"/>
                  <a:pt x="17198" y="15205"/>
                  <a:pt x="17165" y="15205"/>
                </a:cubicBezTo>
              </a:path>
              <a:path w="8236" h="4317">
                <a:moveTo>
                  <a:pt x="16024" y="15602"/>
                </a:moveTo>
                <a:cubicBezTo>
                  <a:pt x="15954" y="15625"/>
                  <a:pt x="15976" y="15805"/>
                  <a:pt x="15974" y="15875"/>
                </a:cubicBezTo>
                <a:cubicBezTo>
                  <a:pt x="15972" y="15959"/>
                  <a:pt x="15949" y="16017"/>
                  <a:pt x="15949" y="16098"/>
                </a:cubicBezTo>
                <a:cubicBezTo>
                  <a:pt x="15949" y="16141"/>
                  <a:pt x="15955" y="16132"/>
                  <a:pt x="15974" y="16049"/>
                </a:cubicBezTo>
              </a:path>
              <a:path w="8236" h="4317">
                <a:moveTo>
                  <a:pt x="16446" y="15429"/>
                </a:moveTo>
                <a:cubicBezTo>
                  <a:pt x="16446" y="15503"/>
                  <a:pt x="16446" y="15578"/>
                  <a:pt x="16446" y="15652"/>
                </a:cubicBezTo>
              </a:path>
              <a:path w="8236" h="4317">
                <a:moveTo>
                  <a:pt x="16321" y="15850"/>
                </a:moveTo>
                <a:cubicBezTo>
                  <a:pt x="16417" y="15839"/>
                  <a:pt x="16500" y="15798"/>
                  <a:pt x="16594" y="15776"/>
                </a:cubicBezTo>
                <a:cubicBezTo>
                  <a:pt x="16619" y="15776"/>
                  <a:pt x="16627" y="15776"/>
                  <a:pt x="16644" y="15776"/>
                </a:cubicBezTo>
              </a:path>
              <a:path w="8236" h="4317">
                <a:moveTo>
                  <a:pt x="16396" y="16024"/>
                </a:moveTo>
                <a:cubicBezTo>
                  <a:pt x="16371" y="16073"/>
                  <a:pt x="16362" y="16090"/>
                  <a:pt x="16346" y="16123"/>
                </a:cubicBezTo>
                <a:cubicBezTo>
                  <a:pt x="16365" y="16120"/>
                  <a:pt x="16484" y="16111"/>
                  <a:pt x="16495" y="16098"/>
                </a:cubicBezTo>
                <a:cubicBezTo>
                  <a:pt x="16495" y="16090"/>
                  <a:pt x="16495" y="16081"/>
                  <a:pt x="16495" y="16073"/>
                </a:cubicBezTo>
              </a:path>
              <a:path w="8236" h="4317">
                <a:moveTo>
                  <a:pt x="16495" y="15949"/>
                </a:moveTo>
                <a:cubicBezTo>
                  <a:pt x="16495" y="15963"/>
                  <a:pt x="16503" y="16245"/>
                  <a:pt x="16520" y="16222"/>
                </a:cubicBezTo>
                <a:cubicBezTo>
                  <a:pt x="16520" y="16214"/>
                  <a:pt x="16520" y="16205"/>
                  <a:pt x="16520" y="16197"/>
                </a:cubicBezTo>
              </a:path>
              <a:path w="8236" h="4317">
                <a:moveTo>
                  <a:pt x="18579" y="14585"/>
                </a:moveTo>
                <a:cubicBezTo>
                  <a:pt x="18712" y="14563"/>
                  <a:pt x="18844" y="14515"/>
                  <a:pt x="18976" y="14486"/>
                </a:cubicBezTo>
                <a:cubicBezTo>
                  <a:pt x="19185" y="14441"/>
                  <a:pt x="19389" y="14463"/>
                  <a:pt x="19596" y="14436"/>
                </a:cubicBezTo>
                <a:cubicBezTo>
                  <a:pt x="19658" y="14428"/>
                  <a:pt x="19705" y="14412"/>
                  <a:pt x="19769" y="14412"/>
                </a:cubicBezTo>
              </a:path>
              <a:path w="8236" h="4317">
                <a:moveTo>
                  <a:pt x="19025" y="14709"/>
                </a:moveTo>
                <a:cubicBezTo>
                  <a:pt x="18970" y="14745"/>
                  <a:pt x="18935" y="14926"/>
                  <a:pt x="18926" y="15007"/>
                </a:cubicBezTo>
                <a:cubicBezTo>
                  <a:pt x="18916" y="15104"/>
                  <a:pt x="18901" y="15206"/>
                  <a:pt x="18901" y="15304"/>
                </a:cubicBezTo>
              </a:path>
              <a:path w="8236" h="4317">
                <a:moveTo>
                  <a:pt x="19348" y="14610"/>
                </a:moveTo>
                <a:cubicBezTo>
                  <a:pt x="19357" y="14666"/>
                  <a:pt x="19403" y="14776"/>
                  <a:pt x="19372" y="14833"/>
                </a:cubicBezTo>
                <a:cubicBezTo>
                  <a:pt x="19364" y="14833"/>
                  <a:pt x="19356" y="14833"/>
                  <a:pt x="19348" y="14833"/>
                </a:cubicBezTo>
              </a:path>
              <a:path w="8236" h="4317">
                <a:moveTo>
                  <a:pt x="19199" y="15056"/>
                </a:moveTo>
                <a:cubicBezTo>
                  <a:pt x="19288" y="15042"/>
                  <a:pt x="19393" y="15002"/>
                  <a:pt x="19472" y="14957"/>
                </a:cubicBezTo>
                <a:cubicBezTo>
                  <a:pt x="19510" y="14936"/>
                  <a:pt x="19506" y="14911"/>
                  <a:pt x="19521" y="14957"/>
                </a:cubicBezTo>
              </a:path>
              <a:path w="8236" h="4317">
                <a:moveTo>
                  <a:pt x="19273" y="15156"/>
                </a:moveTo>
                <a:cubicBezTo>
                  <a:pt x="19245" y="15192"/>
                  <a:pt x="19244" y="15208"/>
                  <a:pt x="19224" y="15255"/>
                </a:cubicBezTo>
                <a:cubicBezTo>
                  <a:pt x="19318" y="15255"/>
                  <a:pt x="19383" y="15235"/>
                  <a:pt x="19472" y="15205"/>
                </a:cubicBezTo>
              </a:path>
              <a:path w="8236" h="4317">
                <a:moveTo>
                  <a:pt x="19472" y="15056"/>
                </a:moveTo>
                <a:cubicBezTo>
                  <a:pt x="19434" y="15169"/>
                  <a:pt x="19387" y="15276"/>
                  <a:pt x="19372" y="15404"/>
                </a:cubicBezTo>
                <a:cubicBezTo>
                  <a:pt x="19372" y="15470"/>
                  <a:pt x="19372" y="15487"/>
                  <a:pt x="19372" y="15528"/>
                </a:cubicBezTo>
              </a:path>
              <a:path w="8236" h="4317">
                <a:moveTo>
                  <a:pt x="16346" y="12923"/>
                </a:moveTo>
                <a:cubicBezTo>
                  <a:pt x="16367" y="12994"/>
                  <a:pt x="16391" y="13088"/>
                  <a:pt x="16396" y="13171"/>
                </a:cubicBezTo>
                <a:cubicBezTo>
                  <a:pt x="16407" y="13344"/>
                  <a:pt x="16417" y="13520"/>
                  <a:pt x="16421" y="13692"/>
                </a:cubicBezTo>
                <a:cubicBezTo>
                  <a:pt x="16424" y="13846"/>
                  <a:pt x="16411" y="13989"/>
                  <a:pt x="16396" y="14139"/>
                </a:cubicBezTo>
                <a:cubicBezTo>
                  <a:pt x="16364" y="14463"/>
                  <a:pt x="16355" y="14859"/>
                  <a:pt x="16371" y="15180"/>
                </a:cubicBezTo>
                <a:cubicBezTo>
                  <a:pt x="16378" y="15329"/>
                  <a:pt x="16377" y="15503"/>
                  <a:pt x="16396" y="15652"/>
                </a:cubicBezTo>
                <a:cubicBezTo>
                  <a:pt x="16408" y="15749"/>
                  <a:pt x="16405" y="15853"/>
                  <a:pt x="16421" y="15949"/>
                </a:cubicBezTo>
                <a:cubicBezTo>
                  <a:pt x="16430" y="16006"/>
                  <a:pt x="16444" y="16037"/>
                  <a:pt x="16446" y="16098"/>
                </a:cubicBezTo>
                <a:cubicBezTo>
                  <a:pt x="16448" y="16157"/>
                  <a:pt x="16427" y="16228"/>
                  <a:pt x="16470" y="16272"/>
                </a:cubicBezTo>
                <a:cubicBezTo>
                  <a:pt x="16470" y="16255"/>
                  <a:pt x="16470" y="16239"/>
                  <a:pt x="16470" y="16222"/>
                </a:cubicBezTo>
              </a:path>
              <a:path w="8236" h="4317">
                <a:moveTo>
                  <a:pt x="17413" y="16222"/>
                </a:moveTo>
                <a:cubicBezTo>
                  <a:pt x="17413" y="16396"/>
                  <a:pt x="17399" y="16586"/>
                  <a:pt x="17438" y="16743"/>
                </a:cubicBezTo>
                <a:cubicBezTo>
                  <a:pt x="17448" y="16785"/>
                  <a:pt x="17385" y="16768"/>
                  <a:pt x="17438" y="16768"/>
                </a:cubicBezTo>
              </a:path>
              <a:path w="8236" h="4317">
                <a:moveTo>
                  <a:pt x="17289" y="16321"/>
                </a:moveTo>
                <a:cubicBezTo>
                  <a:pt x="17301" y="16237"/>
                  <a:pt x="17393" y="16159"/>
                  <a:pt x="17487" y="16148"/>
                </a:cubicBezTo>
                <a:cubicBezTo>
                  <a:pt x="17589" y="16136"/>
                  <a:pt x="17584" y="16323"/>
                  <a:pt x="17562" y="16371"/>
                </a:cubicBezTo>
                <a:cubicBezTo>
                  <a:pt x="17534" y="16434"/>
                  <a:pt x="17409" y="16538"/>
                  <a:pt x="17388" y="16495"/>
                </a:cubicBezTo>
              </a:path>
              <a:path w="8236" h="4317">
                <a:moveTo>
                  <a:pt x="17959" y="16272"/>
                </a:moveTo>
                <a:cubicBezTo>
                  <a:pt x="18025" y="16272"/>
                  <a:pt x="18091" y="16272"/>
                  <a:pt x="18157" y="16272"/>
                </a:cubicBezTo>
              </a:path>
              <a:path w="8236" h="4317">
                <a:moveTo>
                  <a:pt x="18008" y="16470"/>
                </a:moveTo>
                <a:cubicBezTo>
                  <a:pt x="18079" y="16453"/>
                  <a:pt x="18135" y="16446"/>
                  <a:pt x="18207" y="16446"/>
                </a:cubicBezTo>
                <a:cubicBezTo>
                  <a:pt x="18215" y="16446"/>
                  <a:pt x="18223" y="16446"/>
                  <a:pt x="18231" y="16446"/>
                </a:cubicBezTo>
              </a:path>
              <a:path w="8236" h="4317">
                <a:moveTo>
                  <a:pt x="18604" y="16098"/>
                </a:moveTo>
                <a:cubicBezTo>
                  <a:pt x="18557" y="16145"/>
                  <a:pt x="18702" y="16059"/>
                  <a:pt x="18752" y="16049"/>
                </a:cubicBezTo>
                <a:cubicBezTo>
                  <a:pt x="18760" y="16049"/>
                  <a:pt x="18769" y="16049"/>
                  <a:pt x="18777" y="16049"/>
                </a:cubicBezTo>
                <a:cubicBezTo>
                  <a:pt x="18798" y="16187"/>
                  <a:pt x="18781" y="16251"/>
                  <a:pt x="18678" y="16346"/>
                </a:cubicBezTo>
                <a:cubicBezTo>
                  <a:pt x="18619" y="16401"/>
                  <a:pt x="18690" y="16303"/>
                  <a:pt x="18752" y="16321"/>
                </a:cubicBezTo>
                <a:cubicBezTo>
                  <a:pt x="18873" y="16355"/>
                  <a:pt x="18918" y="16491"/>
                  <a:pt x="18852" y="16594"/>
                </a:cubicBezTo>
                <a:cubicBezTo>
                  <a:pt x="18785" y="16698"/>
                  <a:pt x="18686" y="16694"/>
                  <a:pt x="18579" y="16694"/>
                </a:cubicBezTo>
              </a:path>
              <a:path w="8236" h="4317">
                <a:moveTo>
                  <a:pt x="19621" y="15974"/>
                </a:moveTo>
                <a:cubicBezTo>
                  <a:pt x="19621" y="16126"/>
                  <a:pt x="19634" y="16271"/>
                  <a:pt x="19645" y="16421"/>
                </a:cubicBezTo>
                <a:cubicBezTo>
                  <a:pt x="19649" y="16477"/>
                  <a:pt x="19645" y="16537"/>
                  <a:pt x="19645" y="16594"/>
                </a:cubicBezTo>
              </a:path>
              <a:path w="8236" h="4317">
                <a:moveTo>
                  <a:pt x="20017" y="15925"/>
                </a:moveTo>
                <a:cubicBezTo>
                  <a:pt x="20017" y="15985"/>
                  <a:pt x="20034" y="16040"/>
                  <a:pt x="20042" y="16098"/>
                </a:cubicBezTo>
              </a:path>
              <a:path w="8236" h="4317">
                <a:moveTo>
                  <a:pt x="19943" y="16272"/>
                </a:moveTo>
                <a:cubicBezTo>
                  <a:pt x="20033" y="16257"/>
                  <a:pt x="20099" y="16205"/>
                  <a:pt x="20191" y="16197"/>
                </a:cubicBezTo>
                <a:cubicBezTo>
                  <a:pt x="20199" y="16197"/>
                  <a:pt x="20208" y="16197"/>
                  <a:pt x="20216" y="16197"/>
                </a:cubicBezTo>
              </a:path>
              <a:path w="8236" h="4317">
                <a:moveTo>
                  <a:pt x="19968" y="16446"/>
                </a:moveTo>
                <a:cubicBezTo>
                  <a:pt x="19944" y="16510"/>
                  <a:pt x="19943" y="16551"/>
                  <a:pt x="19943" y="16619"/>
                </a:cubicBezTo>
                <a:cubicBezTo>
                  <a:pt x="20030" y="16619"/>
                  <a:pt x="20087" y="16607"/>
                  <a:pt x="20166" y="16570"/>
                </a:cubicBezTo>
                <a:cubicBezTo>
                  <a:pt x="20183" y="16562"/>
                  <a:pt x="20199" y="16553"/>
                  <a:pt x="20216" y="16545"/>
                </a:cubicBezTo>
              </a:path>
              <a:path w="8236" h="4317">
                <a:moveTo>
                  <a:pt x="20216" y="16396"/>
                </a:moveTo>
                <a:cubicBezTo>
                  <a:pt x="20177" y="16474"/>
                  <a:pt x="20191" y="16575"/>
                  <a:pt x="20191" y="16669"/>
                </a:cubicBezTo>
                <a:cubicBezTo>
                  <a:pt x="20191" y="16735"/>
                  <a:pt x="20191" y="16801"/>
                  <a:pt x="20191" y="16867"/>
                </a:cubicBezTo>
              </a:path>
              <a:path w="8236" h="4317">
                <a:moveTo>
                  <a:pt x="21456" y="16049"/>
                </a:moveTo>
                <a:cubicBezTo>
                  <a:pt x="21476" y="16205"/>
                  <a:pt x="21516" y="16362"/>
                  <a:pt x="21530" y="16520"/>
                </a:cubicBezTo>
                <a:cubicBezTo>
                  <a:pt x="21530" y="16594"/>
                  <a:pt x="21530" y="16603"/>
                  <a:pt x="21530" y="16644"/>
                </a:cubicBezTo>
              </a:path>
              <a:path w="8236" h="4317">
                <a:moveTo>
                  <a:pt x="21307" y="16049"/>
                </a:moveTo>
                <a:cubicBezTo>
                  <a:pt x="21458" y="15961"/>
                  <a:pt x="21638" y="15945"/>
                  <a:pt x="21803" y="16049"/>
                </a:cubicBezTo>
                <a:cubicBezTo>
                  <a:pt x="21920" y="16122"/>
                  <a:pt x="21735" y="16250"/>
                  <a:pt x="21679" y="16272"/>
                </a:cubicBezTo>
                <a:cubicBezTo>
                  <a:pt x="21555" y="16320"/>
                  <a:pt x="21555" y="16344"/>
                  <a:pt x="21580" y="16247"/>
                </a:cubicBezTo>
              </a:path>
              <a:path w="8236" h="4317">
                <a:moveTo>
                  <a:pt x="22051" y="15949"/>
                </a:moveTo>
                <a:cubicBezTo>
                  <a:pt x="22139" y="15978"/>
                  <a:pt x="22170" y="15984"/>
                  <a:pt x="22225" y="16049"/>
                </a:cubicBezTo>
              </a:path>
              <a:path w="8236" h="4317">
                <a:moveTo>
                  <a:pt x="22076" y="16173"/>
                </a:moveTo>
                <a:cubicBezTo>
                  <a:pt x="22164" y="16144"/>
                  <a:pt x="22228" y="16143"/>
                  <a:pt x="22275" y="16073"/>
                </a:cubicBezTo>
              </a:path>
              <a:path w="8236" h="4317">
                <a:moveTo>
                  <a:pt x="22498" y="15999"/>
                </a:moveTo>
                <a:cubicBezTo>
                  <a:pt x="22498" y="16104"/>
                  <a:pt x="22520" y="15908"/>
                  <a:pt x="22647" y="15974"/>
                </a:cubicBezTo>
                <a:cubicBezTo>
                  <a:pt x="22838" y="16074"/>
                  <a:pt x="22760" y="16343"/>
                  <a:pt x="22647" y="16470"/>
                </a:cubicBezTo>
                <a:cubicBezTo>
                  <a:pt x="22567" y="16560"/>
                  <a:pt x="22405" y="16582"/>
                  <a:pt x="22374" y="16470"/>
                </a:cubicBezTo>
                <a:cubicBezTo>
                  <a:pt x="22444" y="16361"/>
                  <a:pt x="22572" y="16267"/>
                  <a:pt x="22721" y="16346"/>
                </a:cubicBezTo>
                <a:cubicBezTo>
                  <a:pt x="22805" y="16391"/>
                  <a:pt x="22796" y="16408"/>
                  <a:pt x="22796" y="16470"/>
                </a:cubicBezTo>
              </a:path>
              <a:path w="8236" h="4317">
                <a:moveTo>
                  <a:pt x="23019" y="15825"/>
                </a:moveTo>
                <a:cubicBezTo>
                  <a:pt x="23037" y="15755"/>
                  <a:pt x="23126" y="15725"/>
                  <a:pt x="23192" y="15776"/>
                </a:cubicBezTo>
                <a:cubicBezTo>
                  <a:pt x="23322" y="15876"/>
                  <a:pt x="23156" y="16002"/>
                  <a:pt x="23068" y="16049"/>
                </a:cubicBezTo>
                <a:cubicBezTo>
                  <a:pt x="23044" y="16049"/>
                  <a:pt x="23035" y="16049"/>
                  <a:pt x="23019" y="16049"/>
                </a:cubicBezTo>
                <a:cubicBezTo>
                  <a:pt x="23044" y="15947"/>
                  <a:pt x="23104" y="15923"/>
                  <a:pt x="23217" y="15949"/>
                </a:cubicBezTo>
                <a:cubicBezTo>
                  <a:pt x="23261" y="15971"/>
                  <a:pt x="23273" y="15974"/>
                  <a:pt x="23292" y="15999"/>
                </a:cubicBezTo>
              </a:path>
              <a:path w="8236" h="4317">
                <a:moveTo>
                  <a:pt x="22944" y="16098"/>
                </a:moveTo>
                <a:cubicBezTo>
                  <a:pt x="23090" y="16064"/>
                  <a:pt x="23217" y="16049"/>
                  <a:pt x="23366" y="16049"/>
                </a:cubicBezTo>
                <a:cubicBezTo>
                  <a:pt x="23374" y="16049"/>
                  <a:pt x="23383" y="16049"/>
                  <a:pt x="23391" y="16049"/>
                </a:cubicBezTo>
              </a:path>
              <a:path w="8236" h="4317">
                <a:moveTo>
                  <a:pt x="23292" y="16247"/>
                </a:moveTo>
                <a:cubicBezTo>
                  <a:pt x="23300" y="16239"/>
                  <a:pt x="23308" y="16230"/>
                  <a:pt x="23316" y="16222"/>
                </a:cubicBezTo>
                <a:cubicBezTo>
                  <a:pt x="23283" y="16229"/>
                  <a:pt x="23162" y="16241"/>
                  <a:pt x="23143" y="16272"/>
                </a:cubicBezTo>
                <a:cubicBezTo>
                  <a:pt x="23128" y="16296"/>
                  <a:pt x="23143" y="16393"/>
                  <a:pt x="23143" y="16421"/>
                </a:cubicBezTo>
                <a:cubicBezTo>
                  <a:pt x="23207" y="16421"/>
                  <a:pt x="23282" y="16379"/>
                  <a:pt x="23341" y="16396"/>
                </a:cubicBezTo>
                <a:cubicBezTo>
                  <a:pt x="23362" y="16402"/>
                  <a:pt x="23400" y="16454"/>
                  <a:pt x="23416" y="16470"/>
                </a:cubicBezTo>
                <a:cubicBezTo>
                  <a:pt x="23376" y="16577"/>
                  <a:pt x="23310" y="16587"/>
                  <a:pt x="23192" y="16594"/>
                </a:cubicBezTo>
                <a:cubicBezTo>
                  <a:pt x="23168" y="16594"/>
                  <a:pt x="23159" y="16594"/>
                  <a:pt x="23143" y="16594"/>
                </a:cubicBezTo>
              </a:path>
              <a:path w="8236" h="4317">
                <a:moveTo>
                  <a:pt x="22101" y="16049"/>
                </a:moveTo>
                <a:cubicBezTo>
                  <a:pt x="22101" y="16024"/>
                  <a:pt x="22101" y="16016"/>
                  <a:pt x="22076" y="16024"/>
                </a:cubicBezTo>
                <a:cubicBezTo>
                  <a:pt x="22129" y="16006"/>
                  <a:pt x="22165" y="15974"/>
                  <a:pt x="22225" y="15974"/>
                </a:cubicBezTo>
              </a:path>
              <a:path w="8236" h="4317">
                <a:moveTo>
                  <a:pt x="21158" y="15776"/>
                </a:moveTo>
                <a:cubicBezTo>
                  <a:pt x="21136" y="15753"/>
                  <a:pt x="21128" y="15748"/>
                  <a:pt x="21134" y="15726"/>
                </a:cubicBezTo>
                <a:cubicBezTo>
                  <a:pt x="21134" y="15729"/>
                  <a:pt x="21111" y="15709"/>
                  <a:pt x="21158" y="15875"/>
                </a:cubicBezTo>
                <a:cubicBezTo>
                  <a:pt x="21250" y="16198"/>
                  <a:pt x="21286" y="16512"/>
                  <a:pt x="21332" y="16842"/>
                </a:cubicBezTo>
                <a:cubicBezTo>
                  <a:pt x="21350" y="16971"/>
                  <a:pt x="21339" y="17064"/>
                  <a:pt x="21332" y="17190"/>
                </a:cubicBezTo>
                <a:cubicBezTo>
                  <a:pt x="21332" y="17198"/>
                  <a:pt x="21332" y="17206"/>
                  <a:pt x="21332" y="17214"/>
                </a:cubicBezTo>
                <a:cubicBezTo>
                  <a:pt x="21509" y="17255"/>
                  <a:pt x="21671" y="17213"/>
                  <a:pt x="21853" y="17190"/>
                </a:cubicBezTo>
                <a:cubicBezTo>
                  <a:pt x="22101" y="17158"/>
                  <a:pt x="22351" y="17151"/>
                  <a:pt x="22597" y="17115"/>
                </a:cubicBezTo>
                <a:cubicBezTo>
                  <a:pt x="22788" y="17087"/>
                  <a:pt x="22978" y="17090"/>
                  <a:pt x="23168" y="17066"/>
                </a:cubicBezTo>
                <a:cubicBezTo>
                  <a:pt x="23317" y="17047"/>
                  <a:pt x="23466" y="17029"/>
                  <a:pt x="23614" y="17016"/>
                </a:cubicBezTo>
                <a:cubicBezTo>
                  <a:pt x="23686" y="17010"/>
                  <a:pt x="23740" y="16995"/>
                  <a:pt x="23812" y="16991"/>
                </a:cubicBezTo>
                <a:cubicBezTo>
                  <a:pt x="23820" y="16991"/>
                  <a:pt x="23829" y="16991"/>
                  <a:pt x="23837" y="16991"/>
                </a:cubicBezTo>
                <a:cubicBezTo>
                  <a:pt x="23837" y="16852"/>
                  <a:pt x="23792" y="16729"/>
                  <a:pt x="23788" y="16594"/>
                </a:cubicBezTo>
                <a:cubicBezTo>
                  <a:pt x="23785" y="16484"/>
                  <a:pt x="23769" y="16377"/>
                  <a:pt x="23738" y="16272"/>
                </a:cubicBezTo>
                <a:cubicBezTo>
                  <a:pt x="23707" y="16168"/>
                  <a:pt x="23722" y="16049"/>
                  <a:pt x="23688" y="15949"/>
                </a:cubicBezTo>
                <a:cubicBezTo>
                  <a:pt x="23660" y="15865"/>
                  <a:pt x="23618" y="15786"/>
                  <a:pt x="23589" y="15701"/>
                </a:cubicBezTo>
                <a:cubicBezTo>
                  <a:pt x="23573" y="15653"/>
                  <a:pt x="23567" y="15539"/>
                  <a:pt x="23540" y="15503"/>
                </a:cubicBezTo>
                <a:cubicBezTo>
                  <a:pt x="23529" y="15488"/>
                  <a:pt x="23452" y="15452"/>
                  <a:pt x="23416" y="15453"/>
                </a:cubicBezTo>
                <a:cubicBezTo>
                  <a:pt x="23286" y="15457"/>
                  <a:pt x="23153" y="15478"/>
                  <a:pt x="23019" y="15478"/>
                </a:cubicBezTo>
                <a:cubicBezTo>
                  <a:pt x="22646" y="15478"/>
                  <a:pt x="22272" y="15476"/>
                  <a:pt x="21903" y="15503"/>
                </a:cubicBezTo>
                <a:cubicBezTo>
                  <a:pt x="21745" y="15515"/>
                  <a:pt x="21588" y="15543"/>
                  <a:pt x="21431" y="15553"/>
                </a:cubicBezTo>
                <a:cubicBezTo>
                  <a:pt x="21297" y="15561"/>
                  <a:pt x="21166" y="15568"/>
                  <a:pt x="21034" y="15577"/>
                </a:cubicBezTo>
                <a:cubicBezTo>
                  <a:pt x="20986" y="15580"/>
                  <a:pt x="20921" y="15599"/>
                  <a:pt x="20910" y="15602"/>
                </a:cubicBezTo>
              </a:path>
              <a:path w="8236" h="4317">
                <a:moveTo>
                  <a:pt x="22126" y="15850"/>
                </a:moveTo>
                <a:cubicBezTo>
                  <a:pt x="22172" y="15789"/>
                  <a:pt x="22264" y="15783"/>
                  <a:pt x="22349" y="157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09040" y="4919760"/>
            <a:ext cx="17280" cy="135000"/>
          </a:xfrm>
          <a:custGeom>
            <a:avLst/>
            <a:gdLst/>
            <a:ahLst/>
            <a:rect l="l" t="t" r="r" b="b"/>
            <a:pathLst>
              <a:path w="50" h="373">
                <a:moveTo>
                  <a:pt x="23912" y="13667"/>
                </a:moveTo>
                <a:cubicBezTo>
                  <a:pt x="23930" y="13774"/>
                  <a:pt x="23949" y="13883"/>
                  <a:pt x="23961" y="13990"/>
                </a:cubicBezTo>
                <a:cubicBezTo>
                  <a:pt x="23961" y="14006"/>
                  <a:pt x="23961" y="14023"/>
                  <a:pt x="23961" y="140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29680" y="5000760"/>
            <a:ext cx="312480" cy="23328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20836" y="14064"/>
                </a:moveTo>
                <a:cubicBezTo>
                  <a:pt x="20836" y="14221"/>
                  <a:pt x="20836" y="14379"/>
                  <a:pt x="20836" y="14536"/>
                </a:cubicBezTo>
              </a:path>
              <a:path w="869" h="646">
                <a:moveTo>
                  <a:pt x="20638" y="14064"/>
                </a:moveTo>
                <a:cubicBezTo>
                  <a:pt x="20681" y="13968"/>
                  <a:pt x="20801" y="13868"/>
                  <a:pt x="20935" y="13915"/>
                </a:cubicBezTo>
                <a:cubicBezTo>
                  <a:pt x="21014" y="13943"/>
                  <a:pt x="21042" y="14060"/>
                  <a:pt x="20985" y="14114"/>
                </a:cubicBezTo>
                <a:cubicBezTo>
                  <a:pt x="20911" y="14184"/>
                  <a:pt x="20874" y="14202"/>
                  <a:pt x="20786" y="14213"/>
                </a:cubicBezTo>
              </a:path>
              <a:path w="869" h="646">
                <a:moveTo>
                  <a:pt x="21233" y="14114"/>
                </a:moveTo>
                <a:cubicBezTo>
                  <a:pt x="21286" y="14114"/>
                  <a:pt x="21330" y="14092"/>
                  <a:pt x="21382" y="14089"/>
                </a:cubicBezTo>
                <a:cubicBezTo>
                  <a:pt x="21398" y="14089"/>
                  <a:pt x="21415" y="14089"/>
                  <a:pt x="21431" y="14089"/>
                </a:cubicBezTo>
              </a:path>
              <a:path w="869" h="646">
                <a:moveTo>
                  <a:pt x="21233" y="14238"/>
                </a:moveTo>
                <a:cubicBezTo>
                  <a:pt x="21317" y="14231"/>
                  <a:pt x="21396" y="14213"/>
                  <a:pt x="21481" y="14213"/>
                </a:cubicBezTo>
              </a:path>
              <a:path w="869" h="646">
                <a:moveTo>
                  <a:pt x="21233" y="13915"/>
                </a:moveTo>
                <a:cubicBezTo>
                  <a:pt x="21302" y="13915"/>
                  <a:pt x="21361" y="13893"/>
                  <a:pt x="21431" y="13891"/>
                </a:cubicBezTo>
                <a:cubicBezTo>
                  <a:pt x="21456" y="13891"/>
                  <a:pt x="21481" y="13891"/>
                  <a:pt x="21506" y="138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0800" y="4911840"/>
            <a:ext cx="874440" cy="490320"/>
          </a:xfrm>
          <a:custGeom>
            <a:avLst/>
            <a:gdLst/>
            <a:ahLst/>
            <a:rect l="l" t="t" r="r" b="b"/>
            <a:pathLst>
              <a:path w="2431" h="1365">
                <a:moveTo>
                  <a:pt x="21803" y="13791"/>
                </a:moveTo>
                <a:cubicBezTo>
                  <a:pt x="21858" y="13781"/>
                  <a:pt x="21977" y="13740"/>
                  <a:pt x="21927" y="13866"/>
                </a:cubicBezTo>
                <a:cubicBezTo>
                  <a:pt x="21886" y="13907"/>
                  <a:pt x="21878" y="13915"/>
                  <a:pt x="21853" y="13940"/>
                </a:cubicBezTo>
                <a:cubicBezTo>
                  <a:pt x="21910" y="13927"/>
                  <a:pt x="22058" y="13916"/>
                  <a:pt x="22002" y="14039"/>
                </a:cubicBezTo>
                <a:cubicBezTo>
                  <a:pt x="21969" y="14111"/>
                  <a:pt x="21892" y="14114"/>
                  <a:pt x="21828" y="14114"/>
                </a:cubicBezTo>
              </a:path>
              <a:path w="2431" h="1365">
                <a:moveTo>
                  <a:pt x="21779" y="14312"/>
                </a:moveTo>
                <a:cubicBezTo>
                  <a:pt x="21898" y="14285"/>
                  <a:pt x="22017" y="14260"/>
                  <a:pt x="22101" y="14288"/>
                </a:cubicBezTo>
                <a:cubicBezTo>
                  <a:pt x="22109" y="14288"/>
                  <a:pt x="22118" y="14288"/>
                  <a:pt x="22126" y="14288"/>
                </a:cubicBezTo>
              </a:path>
              <a:path w="2431" h="1365">
                <a:moveTo>
                  <a:pt x="21977" y="14436"/>
                </a:moveTo>
                <a:cubicBezTo>
                  <a:pt x="21977" y="14557"/>
                  <a:pt x="21989" y="14666"/>
                  <a:pt x="22002" y="14784"/>
                </a:cubicBezTo>
                <a:cubicBezTo>
                  <a:pt x="22006" y="14817"/>
                  <a:pt x="22002" y="14866"/>
                  <a:pt x="22002" y="14833"/>
                </a:cubicBezTo>
              </a:path>
              <a:path w="2431" h="1365">
                <a:moveTo>
                  <a:pt x="22299" y="14238"/>
                </a:moveTo>
                <a:cubicBezTo>
                  <a:pt x="22354" y="14318"/>
                  <a:pt x="22440" y="14404"/>
                  <a:pt x="22473" y="14486"/>
                </a:cubicBezTo>
              </a:path>
              <a:path w="2431" h="1365">
                <a:moveTo>
                  <a:pt x="22498" y="14163"/>
                </a:moveTo>
                <a:cubicBezTo>
                  <a:pt x="22463" y="14268"/>
                  <a:pt x="22399" y="14382"/>
                  <a:pt x="22349" y="14486"/>
                </a:cubicBezTo>
                <a:cubicBezTo>
                  <a:pt x="22322" y="14542"/>
                  <a:pt x="22307" y="14558"/>
                  <a:pt x="22349" y="14585"/>
                </a:cubicBezTo>
              </a:path>
              <a:path w="2431" h="1365">
                <a:moveTo>
                  <a:pt x="22796" y="13841"/>
                </a:moveTo>
                <a:cubicBezTo>
                  <a:pt x="22787" y="13892"/>
                  <a:pt x="22771" y="13937"/>
                  <a:pt x="22771" y="13990"/>
                </a:cubicBezTo>
                <a:cubicBezTo>
                  <a:pt x="22771" y="13998"/>
                  <a:pt x="22771" y="14007"/>
                  <a:pt x="22771" y="14015"/>
                </a:cubicBezTo>
                <a:cubicBezTo>
                  <a:pt x="22850" y="14015"/>
                  <a:pt x="22917" y="14001"/>
                  <a:pt x="22994" y="13990"/>
                </a:cubicBezTo>
              </a:path>
              <a:path w="2431" h="1365">
                <a:moveTo>
                  <a:pt x="22944" y="13742"/>
                </a:moveTo>
                <a:cubicBezTo>
                  <a:pt x="22944" y="13870"/>
                  <a:pt x="22955" y="13989"/>
                  <a:pt x="22969" y="14114"/>
                </a:cubicBezTo>
                <a:cubicBezTo>
                  <a:pt x="22969" y="14163"/>
                  <a:pt x="22969" y="14180"/>
                  <a:pt x="22969" y="14213"/>
                </a:cubicBezTo>
              </a:path>
              <a:path w="2431" h="1365">
                <a:moveTo>
                  <a:pt x="22721" y="14337"/>
                </a:moveTo>
                <a:cubicBezTo>
                  <a:pt x="22838" y="14337"/>
                  <a:pt x="22932" y="14311"/>
                  <a:pt x="23044" y="14288"/>
                </a:cubicBezTo>
                <a:cubicBezTo>
                  <a:pt x="23068" y="14288"/>
                  <a:pt x="23077" y="14288"/>
                  <a:pt x="23093" y="14288"/>
                </a:cubicBezTo>
              </a:path>
              <a:path w="2431" h="1365">
                <a:moveTo>
                  <a:pt x="22944" y="14511"/>
                </a:moveTo>
                <a:cubicBezTo>
                  <a:pt x="22926" y="14516"/>
                  <a:pt x="22824" y="14553"/>
                  <a:pt x="22820" y="14560"/>
                </a:cubicBezTo>
                <a:cubicBezTo>
                  <a:pt x="22783" y="14620"/>
                  <a:pt x="22796" y="14693"/>
                  <a:pt x="22796" y="14759"/>
                </a:cubicBezTo>
                <a:cubicBezTo>
                  <a:pt x="22855" y="14747"/>
                  <a:pt x="22913" y="14682"/>
                  <a:pt x="22969" y="14734"/>
                </a:cubicBezTo>
                <a:cubicBezTo>
                  <a:pt x="23016" y="14778"/>
                  <a:pt x="23096" y="14897"/>
                  <a:pt x="23019" y="14957"/>
                </a:cubicBezTo>
                <a:cubicBezTo>
                  <a:pt x="22956" y="15006"/>
                  <a:pt x="22846" y="15007"/>
                  <a:pt x="22771" y="15007"/>
                </a:cubicBezTo>
                <a:cubicBezTo>
                  <a:pt x="22763" y="15007"/>
                  <a:pt x="22754" y="15007"/>
                  <a:pt x="22746" y="15007"/>
                </a:cubicBezTo>
              </a:path>
              <a:path w="2431" h="1365">
                <a:moveTo>
                  <a:pt x="23292" y="14163"/>
                </a:moveTo>
                <a:cubicBezTo>
                  <a:pt x="23352" y="14200"/>
                  <a:pt x="23413" y="14188"/>
                  <a:pt x="23490" y="14188"/>
                </a:cubicBezTo>
              </a:path>
              <a:path w="2431" h="1365">
                <a:moveTo>
                  <a:pt x="23341" y="14362"/>
                </a:moveTo>
                <a:cubicBezTo>
                  <a:pt x="23410" y="14356"/>
                  <a:pt x="23472" y="14337"/>
                  <a:pt x="23540" y="14337"/>
                </a:cubicBezTo>
                <a:cubicBezTo>
                  <a:pt x="23548" y="14337"/>
                  <a:pt x="23556" y="14337"/>
                  <a:pt x="23564" y="14337"/>
                </a:cubicBezTo>
              </a:path>
              <a:path w="2431" h="1365">
                <a:moveTo>
                  <a:pt x="24110" y="13643"/>
                </a:moveTo>
                <a:cubicBezTo>
                  <a:pt x="24181" y="13696"/>
                  <a:pt x="24221" y="13814"/>
                  <a:pt x="24185" y="13915"/>
                </a:cubicBezTo>
                <a:cubicBezTo>
                  <a:pt x="24159" y="13990"/>
                  <a:pt x="24097" y="14026"/>
                  <a:pt x="24036" y="14064"/>
                </a:cubicBezTo>
                <a:cubicBezTo>
                  <a:pt x="24023" y="13999"/>
                  <a:pt x="24079" y="13946"/>
                  <a:pt x="24160" y="13990"/>
                </a:cubicBezTo>
                <a:cubicBezTo>
                  <a:pt x="24182" y="14012"/>
                  <a:pt x="24191" y="14017"/>
                  <a:pt x="24185" y="14039"/>
                </a:cubicBezTo>
              </a:path>
              <a:path w="2431" h="1365">
                <a:moveTo>
                  <a:pt x="23837" y="14263"/>
                </a:moveTo>
                <a:cubicBezTo>
                  <a:pt x="23946" y="14247"/>
                  <a:pt x="24052" y="14211"/>
                  <a:pt x="24160" y="14188"/>
                </a:cubicBezTo>
                <a:cubicBezTo>
                  <a:pt x="24200" y="14180"/>
                  <a:pt x="24200" y="14184"/>
                  <a:pt x="24209" y="14213"/>
                </a:cubicBezTo>
              </a:path>
              <a:path w="2431" h="1365">
                <a:moveTo>
                  <a:pt x="24061" y="14337"/>
                </a:moveTo>
                <a:cubicBezTo>
                  <a:pt x="23970" y="14360"/>
                  <a:pt x="23948" y="14414"/>
                  <a:pt x="23937" y="14511"/>
                </a:cubicBezTo>
                <a:cubicBezTo>
                  <a:pt x="23937" y="14585"/>
                  <a:pt x="23937" y="14594"/>
                  <a:pt x="23937" y="14635"/>
                </a:cubicBezTo>
                <a:cubicBezTo>
                  <a:pt x="24004" y="14621"/>
                  <a:pt x="24071" y="14589"/>
                  <a:pt x="24135" y="14560"/>
                </a:cubicBezTo>
                <a:cubicBezTo>
                  <a:pt x="24135" y="14650"/>
                  <a:pt x="24120" y="14690"/>
                  <a:pt x="24061" y="14759"/>
                </a:cubicBezTo>
                <a:cubicBezTo>
                  <a:pt x="24030" y="14795"/>
                  <a:pt x="24047" y="14796"/>
                  <a:pt x="24011" y="14808"/>
                </a:cubicBezTo>
              </a:path>
              <a:path w="2431" h="1365">
                <a:moveTo>
                  <a:pt x="23837" y="13841"/>
                </a:moveTo>
                <a:cubicBezTo>
                  <a:pt x="23888" y="13810"/>
                  <a:pt x="23958" y="13797"/>
                  <a:pt x="23986" y="138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03720" y="6126120"/>
            <a:ext cx="2009520" cy="231840"/>
          </a:xfrm>
          <a:custGeom>
            <a:avLst/>
            <a:gdLst/>
            <a:ahLst/>
            <a:rect l="l" t="t" r="r" b="b"/>
            <a:pathLst>
              <a:path w="5582" h="646">
                <a:moveTo>
                  <a:pt x="9203" y="17016"/>
                </a:moveTo>
                <a:cubicBezTo>
                  <a:pt x="9195" y="17016"/>
                  <a:pt x="9186" y="17016"/>
                  <a:pt x="9178" y="17016"/>
                </a:cubicBezTo>
              </a:path>
              <a:path w="5582" h="646">
                <a:moveTo>
                  <a:pt x="13965" y="17661"/>
                </a:moveTo>
                <a:cubicBezTo>
                  <a:pt x="14181" y="17628"/>
                  <a:pt x="14392" y="17610"/>
                  <a:pt x="14610" y="17587"/>
                </a:cubicBezTo>
                <a:cubicBezTo>
                  <a:pt x="14701" y="17569"/>
                  <a:pt x="14708" y="17560"/>
                  <a:pt x="14759" y="175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4720" y="6242040"/>
            <a:ext cx="357120" cy="223920"/>
          </a:xfrm>
          <a:custGeom>
            <a:avLst/>
            <a:gdLst/>
            <a:ahLst/>
            <a:rect l="l" t="t" r="r" b="b"/>
            <a:pathLst>
              <a:path w="993" h="622">
                <a:moveTo>
                  <a:pt x="6499" y="17462"/>
                </a:moveTo>
                <a:cubicBezTo>
                  <a:pt x="6507" y="17437"/>
                  <a:pt x="6516" y="17413"/>
                  <a:pt x="6524" y="17388"/>
                </a:cubicBezTo>
                <a:cubicBezTo>
                  <a:pt x="6475" y="17351"/>
                  <a:pt x="6418" y="17329"/>
                  <a:pt x="6350" y="17338"/>
                </a:cubicBezTo>
                <a:cubicBezTo>
                  <a:pt x="6244" y="17352"/>
                  <a:pt x="6184" y="17414"/>
                  <a:pt x="6176" y="17512"/>
                </a:cubicBezTo>
                <a:cubicBezTo>
                  <a:pt x="6169" y="17595"/>
                  <a:pt x="6279" y="17577"/>
                  <a:pt x="6325" y="17587"/>
                </a:cubicBezTo>
                <a:cubicBezTo>
                  <a:pt x="6432" y="17611"/>
                  <a:pt x="6495" y="17640"/>
                  <a:pt x="6548" y="17735"/>
                </a:cubicBezTo>
                <a:cubicBezTo>
                  <a:pt x="6585" y="17802"/>
                  <a:pt x="6582" y="17894"/>
                  <a:pt x="6499" y="17934"/>
                </a:cubicBezTo>
                <a:cubicBezTo>
                  <a:pt x="6399" y="17983"/>
                  <a:pt x="6268" y="17969"/>
                  <a:pt x="6176" y="17909"/>
                </a:cubicBezTo>
                <a:cubicBezTo>
                  <a:pt x="6168" y="17901"/>
                  <a:pt x="6160" y="17892"/>
                  <a:pt x="6152" y="17884"/>
                </a:cubicBezTo>
              </a:path>
              <a:path w="993" h="622">
                <a:moveTo>
                  <a:pt x="6896" y="17462"/>
                </a:moveTo>
                <a:cubicBezTo>
                  <a:pt x="6910" y="17421"/>
                  <a:pt x="6966" y="17408"/>
                  <a:pt x="7020" y="17388"/>
                </a:cubicBezTo>
                <a:cubicBezTo>
                  <a:pt x="7135" y="17346"/>
                  <a:pt x="7126" y="17355"/>
                  <a:pt x="7094" y="17462"/>
                </a:cubicBezTo>
              </a:path>
              <a:path w="993" h="622">
                <a:moveTo>
                  <a:pt x="6896" y="17686"/>
                </a:moveTo>
                <a:cubicBezTo>
                  <a:pt x="6953" y="17660"/>
                  <a:pt x="7080" y="17582"/>
                  <a:pt x="7144" y="17611"/>
                </a:cubicBezTo>
                <a:cubicBezTo>
                  <a:pt x="7144" y="17619"/>
                  <a:pt x="7144" y="17628"/>
                  <a:pt x="7144" y="176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47960" y="6010200"/>
            <a:ext cx="3975120" cy="633600"/>
          </a:xfrm>
          <a:custGeom>
            <a:avLst/>
            <a:gdLst/>
            <a:ahLst/>
            <a:rect l="l" t="t" r="r" b="b"/>
            <a:pathLst>
              <a:path w="11039" h="1762">
                <a:moveTo>
                  <a:pt x="8409" y="17016"/>
                </a:moveTo>
                <a:cubicBezTo>
                  <a:pt x="8357" y="17103"/>
                  <a:pt x="8241" y="17140"/>
                  <a:pt x="8136" y="17165"/>
                </a:cubicBezTo>
                <a:cubicBezTo>
                  <a:pt x="8044" y="17187"/>
                  <a:pt x="8032" y="17246"/>
                  <a:pt x="8012" y="17388"/>
                </a:cubicBezTo>
                <a:cubicBezTo>
                  <a:pt x="8012" y="17413"/>
                  <a:pt x="8012" y="17437"/>
                  <a:pt x="8012" y="17462"/>
                </a:cubicBezTo>
                <a:cubicBezTo>
                  <a:pt x="8147" y="17440"/>
                  <a:pt x="8252" y="17377"/>
                  <a:pt x="8384" y="17462"/>
                </a:cubicBezTo>
                <a:cubicBezTo>
                  <a:pt x="8607" y="17606"/>
                  <a:pt x="8186" y="17790"/>
                  <a:pt x="8111" y="17810"/>
                </a:cubicBezTo>
                <a:cubicBezTo>
                  <a:pt x="7930" y="17859"/>
                  <a:pt x="7914" y="17857"/>
                  <a:pt x="7962" y="17735"/>
                </a:cubicBezTo>
              </a:path>
              <a:path w="11039" h="1762">
                <a:moveTo>
                  <a:pt x="8830" y="17438"/>
                </a:moveTo>
                <a:cubicBezTo>
                  <a:pt x="8934" y="17355"/>
                  <a:pt x="9153" y="17366"/>
                  <a:pt x="9302" y="17363"/>
                </a:cubicBezTo>
                <a:cubicBezTo>
                  <a:pt x="9376" y="17363"/>
                  <a:pt x="9385" y="17363"/>
                  <a:pt x="9426" y="17363"/>
                </a:cubicBezTo>
              </a:path>
              <a:path w="11039" h="1762">
                <a:moveTo>
                  <a:pt x="9178" y="17760"/>
                </a:moveTo>
                <a:cubicBezTo>
                  <a:pt x="9178" y="17777"/>
                  <a:pt x="9178" y="17929"/>
                  <a:pt x="9178" y="17859"/>
                </a:cubicBezTo>
              </a:path>
              <a:path w="11039" h="1762">
                <a:moveTo>
                  <a:pt x="10046" y="17289"/>
                </a:moveTo>
                <a:cubicBezTo>
                  <a:pt x="10170" y="17289"/>
                  <a:pt x="10294" y="17289"/>
                  <a:pt x="10418" y="17289"/>
                </a:cubicBezTo>
              </a:path>
              <a:path w="11039" h="1762">
                <a:moveTo>
                  <a:pt x="10939" y="16694"/>
                </a:moveTo>
                <a:cubicBezTo>
                  <a:pt x="10979" y="16867"/>
                  <a:pt x="10964" y="17057"/>
                  <a:pt x="10964" y="17239"/>
                </a:cubicBezTo>
                <a:cubicBezTo>
                  <a:pt x="10964" y="17324"/>
                  <a:pt x="10970" y="17344"/>
                  <a:pt x="10939" y="17388"/>
                </a:cubicBezTo>
              </a:path>
              <a:path w="11039" h="1762">
                <a:moveTo>
                  <a:pt x="10716" y="17438"/>
                </a:moveTo>
                <a:cubicBezTo>
                  <a:pt x="10852" y="17409"/>
                  <a:pt x="11047" y="17334"/>
                  <a:pt x="11187" y="17363"/>
                </a:cubicBezTo>
                <a:cubicBezTo>
                  <a:pt x="11217" y="17393"/>
                  <a:pt x="11231" y="17404"/>
                  <a:pt x="11261" y="17413"/>
                </a:cubicBezTo>
              </a:path>
              <a:path w="11039" h="1762">
                <a:moveTo>
                  <a:pt x="11137" y="17760"/>
                </a:moveTo>
                <a:cubicBezTo>
                  <a:pt x="11084" y="17694"/>
                  <a:pt x="11056" y="17588"/>
                  <a:pt x="10964" y="17562"/>
                </a:cubicBezTo>
                <a:cubicBezTo>
                  <a:pt x="10808" y="17517"/>
                  <a:pt x="10703" y="17645"/>
                  <a:pt x="10716" y="17785"/>
                </a:cubicBezTo>
                <a:cubicBezTo>
                  <a:pt x="10724" y="17810"/>
                  <a:pt x="10732" y="17834"/>
                  <a:pt x="10740" y="17859"/>
                </a:cubicBezTo>
                <a:cubicBezTo>
                  <a:pt x="10852" y="17845"/>
                  <a:pt x="10953" y="17829"/>
                  <a:pt x="11013" y="17735"/>
                </a:cubicBezTo>
                <a:cubicBezTo>
                  <a:pt x="11013" y="17727"/>
                  <a:pt x="11013" y="17719"/>
                  <a:pt x="11013" y="17711"/>
                </a:cubicBezTo>
                <a:cubicBezTo>
                  <a:pt x="11013" y="17823"/>
                  <a:pt x="11006" y="17921"/>
                  <a:pt x="10988" y="18033"/>
                </a:cubicBezTo>
                <a:cubicBezTo>
                  <a:pt x="10967" y="18141"/>
                  <a:pt x="10964" y="18167"/>
                  <a:pt x="10939" y="18231"/>
                </a:cubicBezTo>
              </a:path>
              <a:path w="11039" h="1762">
                <a:moveTo>
                  <a:pt x="11435" y="17462"/>
                </a:moveTo>
                <a:cubicBezTo>
                  <a:pt x="11559" y="17462"/>
                  <a:pt x="11683" y="17462"/>
                  <a:pt x="11807" y="17462"/>
                </a:cubicBezTo>
              </a:path>
              <a:path w="11039" h="1762">
                <a:moveTo>
                  <a:pt x="11509" y="17711"/>
                </a:moveTo>
                <a:cubicBezTo>
                  <a:pt x="11586" y="17722"/>
                  <a:pt x="11654" y="17735"/>
                  <a:pt x="11733" y="17735"/>
                </a:cubicBezTo>
              </a:path>
              <a:path w="11039" h="1762">
                <a:moveTo>
                  <a:pt x="12675" y="16942"/>
                </a:moveTo>
                <a:cubicBezTo>
                  <a:pt x="12654" y="16879"/>
                  <a:pt x="12470" y="16983"/>
                  <a:pt x="12402" y="16991"/>
                </a:cubicBezTo>
                <a:cubicBezTo>
                  <a:pt x="12271" y="17007"/>
                  <a:pt x="12250" y="17012"/>
                  <a:pt x="12229" y="17165"/>
                </a:cubicBezTo>
                <a:cubicBezTo>
                  <a:pt x="12224" y="17202"/>
                  <a:pt x="12229" y="17250"/>
                  <a:pt x="12229" y="17289"/>
                </a:cubicBezTo>
                <a:cubicBezTo>
                  <a:pt x="12315" y="17255"/>
                  <a:pt x="12417" y="17187"/>
                  <a:pt x="12526" y="17190"/>
                </a:cubicBezTo>
                <a:cubicBezTo>
                  <a:pt x="12653" y="17193"/>
                  <a:pt x="12709" y="17307"/>
                  <a:pt x="12626" y="17413"/>
                </a:cubicBezTo>
                <a:cubicBezTo>
                  <a:pt x="12563" y="17493"/>
                  <a:pt x="12401" y="17550"/>
                  <a:pt x="12303" y="17512"/>
                </a:cubicBezTo>
                <a:cubicBezTo>
                  <a:pt x="12303" y="17504"/>
                  <a:pt x="12303" y="17495"/>
                  <a:pt x="12303" y="17487"/>
                </a:cubicBezTo>
              </a:path>
              <a:path w="11039" h="1762">
                <a:moveTo>
                  <a:pt x="12030" y="17711"/>
                </a:moveTo>
                <a:cubicBezTo>
                  <a:pt x="12251" y="17669"/>
                  <a:pt x="12476" y="17614"/>
                  <a:pt x="12700" y="17587"/>
                </a:cubicBezTo>
                <a:cubicBezTo>
                  <a:pt x="12764" y="17579"/>
                  <a:pt x="12785" y="17572"/>
                  <a:pt x="12799" y="17611"/>
                </a:cubicBezTo>
              </a:path>
              <a:path w="11039" h="1762">
                <a:moveTo>
                  <a:pt x="12477" y="17785"/>
                </a:moveTo>
                <a:cubicBezTo>
                  <a:pt x="12477" y="17913"/>
                  <a:pt x="12458" y="18032"/>
                  <a:pt x="12452" y="18157"/>
                </a:cubicBezTo>
                <a:cubicBezTo>
                  <a:pt x="12452" y="18174"/>
                  <a:pt x="12452" y="18190"/>
                  <a:pt x="12452" y="18207"/>
                </a:cubicBezTo>
              </a:path>
              <a:path w="11039" h="1762">
                <a:moveTo>
                  <a:pt x="13072" y="17413"/>
                </a:moveTo>
                <a:cubicBezTo>
                  <a:pt x="13034" y="17432"/>
                  <a:pt x="13211" y="17621"/>
                  <a:pt x="13246" y="17661"/>
                </a:cubicBezTo>
                <a:cubicBezTo>
                  <a:pt x="13277" y="17697"/>
                  <a:pt x="13370" y="17824"/>
                  <a:pt x="13370" y="17785"/>
                </a:cubicBezTo>
              </a:path>
              <a:path w="11039" h="1762">
                <a:moveTo>
                  <a:pt x="13419" y="17314"/>
                </a:moveTo>
                <a:cubicBezTo>
                  <a:pt x="13325" y="17371"/>
                  <a:pt x="13262" y="17515"/>
                  <a:pt x="13196" y="17611"/>
                </a:cubicBezTo>
                <a:cubicBezTo>
                  <a:pt x="13142" y="17690"/>
                  <a:pt x="13058" y="17790"/>
                  <a:pt x="13022" y="17859"/>
                </a:cubicBezTo>
              </a:path>
              <a:path w="11039" h="1762">
                <a:moveTo>
                  <a:pt x="13717" y="17190"/>
                </a:moveTo>
                <a:cubicBezTo>
                  <a:pt x="13810" y="17190"/>
                  <a:pt x="13896" y="17210"/>
                  <a:pt x="13990" y="17214"/>
                </a:cubicBezTo>
                <a:cubicBezTo>
                  <a:pt x="14031" y="17214"/>
                  <a:pt x="14039" y="17214"/>
                  <a:pt x="14064" y="17214"/>
                </a:cubicBezTo>
              </a:path>
              <a:path w="11039" h="1762">
                <a:moveTo>
                  <a:pt x="14635" y="17041"/>
                </a:moveTo>
                <a:cubicBezTo>
                  <a:pt x="14596" y="16964"/>
                  <a:pt x="14556" y="16887"/>
                  <a:pt x="14461" y="16867"/>
                </a:cubicBezTo>
                <a:cubicBezTo>
                  <a:pt x="14350" y="16844"/>
                  <a:pt x="14263" y="16991"/>
                  <a:pt x="14263" y="17090"/>
                </a:cubicBezTo>
                <a:cubicBezTo>
                  <a:pt x="14271" y="17115"/>
                  <a:pt x="14280" y="17140"/>
                  <a:pt x="14288" y="17165"/>
                </a:cubicBezTo>
                <a:cubicBezTo>
                  <a:pt x="14409" y="17146"/>
                  <a:pt x="14524" y="17113"/>
                  <a:pt x="14585" y="16991"/>
                </a:cubicBezTo>
                <a:cubicBezTo>
                  <a:pt x="14585" y="16966"/>
                  <a:pt x="14585" y="16958"/>
                  <a:pt x="14585" y="16991"/>
                </a:cubicBezTo>
                <a:cubicBezTo>
                  <a:pt x="14585" y="17148"/>
                  <a:pt x="14585" y="17305"/>
                  <a:pt x="14585" y="17462"/>
                </a:cubicBezTo>
              </a:path>
              <a:path w="11039" h="1762">
                <a:moveTo>
                  <a:pt x="14337" y="17884"/>
                </a:moveTo>
                <a:cubicBezTo>
                  <a:pt x="14337" y="17784"/>
                  <a:pt x="14319" y="18032"/>
                  <a:pt x="14312" y="18132"/>
                </a:cubicBezTo>
                <a:cubicBezTo>
                  <a:pt x="14312" y="18215"/>
                  <a:pt x="14312" y="18231"/>
                  <a:pt x="14312" y="18281"/>
                </a:cubicBezTo>
              </a:path>
              <a:path w="11039" h="1762">
                <a:moveTo>
                  <a:pt x="15056" y="17686"/>
                </a:moveTo>
                <a:cubicBezTo>
                  <a:pt x="14990" y="17686"/>
                  <a:pt x="15236" y="17663"/>
                  <a:pt x="15255" y="17661"/>
                </a:cubicBezTo>
                <a:cubicBezTo>
                  <a:pt x="15296" y="17661"/>
                  <a:pt x="15304" y="17661"/>
                  <a:pt x="15329" y="17661"/>
                </a:cubicBezTo>
              </a:path>
              <a:path w="11039" h="1762">
                <a:moveTo>
                  <a:pt x="15131" y="17884"/>
                </a:moveTo>
                <a:cubicBezTo>
                  <a:pt x="15215" y="17870"/>
                  <a:pt x="15293" y="17841"/>
                  <a:pt x="15379" y="17835"/>
                </a:cubicBezTo>
                <a:cubicBezTo>
                  <a:pt x="15404" y="17835"/>
                  <a:pt x="15412" y="17835"/>
                  <a:pt x="15429" y="17835"/>
                </a:cubicBezTo>
              </a:path>
              <a:path w="11039" h="1762">
                <a:moveTo>
                  <a:pt x="15677" y="17041"/>
                </a:moveTo>
                <a:cubicBezTo>
                  <a:pt x="15685" y="17033"/>
                  <a:pt x="15693" y="17024"/>
                  <a:pt x="15701" y="17016"/>
                </a:cubicBezTo>
                <a:cubicBezTo>
                  <a:pt x="15701" y="17069"/>
                  <a:pt x="15662" y="17195"/>
                  <a:pt x="15677" y="17239"/>
                </a:cubicBezTo>
                <a:cubicBezTo>
                  <a:pt x="15710" y="17332"/>
                  <a:pt x="15845" y="17274"/>
                  <a:pt x="15900" y="17264"/>
                </a:cubicBezTo>
                <a:cubicBezTo>
                  <a:pt x="15908" y="17264"/>
                  <a:pt x="15917" y="17264"/>
                  <a:pt x="15925" y="17264"/>
                </a:cubicBezTo>
              </a:path>
              <a:path w="11039" h="1762">
                <a:moveTo>
                  <a:pt x="15949" y="16966"/>
                </a:moveTo>
                <a:cubicBezTo>
                  <a:pt x="15949" y="17065"/>
                  <a:pt x="15949" y="17563"/>
                  <a:pt x="15949" y="17487"/>
                </a:cubicBezTo>
              </a:path>
              <a:path w="11039" h="1762">
                <a:moveTo>
                  <a:pt x="16346" y="16966"/>
                </a:moveTo>
                <a:cubicBezTo>
                  <a:pt x="16287" y="17015"/>
                  <a:pt x="16177" y="17057"/>
                  <a:pt x="16148" y="17115"/>
                </a:cubicBezTo>
                <a:cubicBezTo>
                  <a:pt x="16114" y="17183"/>
                  <a:pt x="16127" y="17236"/>
                  <a:pt x="16197" y="17239"/>
                </a:cubicBezTo>
                <a:cubicBezTo>
                  <a:pt x="16303" y="17244"/>
                  <a:pt x="16402" y="17206"/>
                  <a:pt x="16396" y="17363"/>
                </a:cubicBezTo>
                <a:cubicBezTo>
                  <a:pt x="16393" y="17446"/>
                  <a:pt x="16256" y="17550"/>
                  <a:pt x="16173" y="17512"/>
                </a:cubicBezTo>
                <a:cubicBezTo>
                  <a:pt x="16173" y="17504"/>
                  <a:pt x="16173" y="17495"/>
                  <a:pt x="16173" y="17487"/>
                </a:cubicBezTo>
              </a:path>
              <a:path w="11039" h="1762">
                <a:moveTo>
                  <a:pt x="15577" y="17760"/>
                </a:moveTo>
                <a:cubicBezTo>
                  <a:pt x="15738" y="17680"/>
                  <a:pt x="15942" y="17665"/>
                  <a:pt x="16123" y="17636"/>
                </a:cubicBezTo>
                <a:cubicBezTo>
                  <a:pt x="16237" y="17617"/>
                  <a:pt x="16333" y="17567"/>
                  <a:pt x="16396" y="17661"/>
                </a:cubicBezTo>
              </a:path>
              <a:path w="11039" h="1762">
                <a:moveTo>
                  <a:pt x="16049" y="17934"/>
                </a:moveTo>
                <a:cubicBezTo>
                  <a:pt x="16049" y="18064"/>
                  <a:pt x="16043" y="18204"/>
                  <a:pt x="16024" y="18331"/>
                </a:cubicBezTo>
                <a:cubicBezTo>
                  <a:pt x="16005" y="18405"/>
                  <a:pt x="15997" y="18412"/>
                  <a:pt x="15999" y="18455"/>
                </a:cubicBezTo>
              </a:path>
              <a:path w="11039" h="1762">
                <a:moveTo>
                  <a:pt x="15205" y="17264"/>
                </a:moveTo>
                <a:cubicBezTo>
                  <a:pt x="15267" y="17280"/>
                  <a:pt x="15305" y="17272"/>
                  <a:pt x="15379" y="17264"/>
                </a:cubicBezTo>
                <a:cubicBezTo>
                  <a:pt x="15297" y="17301"/>
                  <a:pt x="15205" y="17321"/>
                  <a:pt x="15131" y="17363"/>
                </a:cubicBezTo>
                <a:cubicBezTo>
                  <a:pt x="15199" y="17340"/>
                  <a:pt x="15347" y="17219"/>
                  <a:pt x="15329" y="17289"/>
                </a:cubicBezTo>
                <a:cubicBezTo>
                  <a:pt x="15321" y="17297"/>
                  <a:pt x="15312" y="17306"/>
                  <a:pt x="15304" y="17314"/>
                </a:cubicBezTo>
              </a:path>
              <a:path w="11039" h="1762">
                <a:moveTo>
                  <a:pt x="16545" y="17810"/>
                </a:moveTo>
                <a:cubicBezTo>
                  <a:pt x="16613" y="17793"/>
                  <a:pt x="16693" y="17776"/>
                  <a:pt x="16768" y="17760"/>
                </a:cubicBezTo>
                <a:cubicBezTo>
                  <a:pt x="16909" y="17730"/>
                  <a:pt x="16797" y="17737"/>
                  <a:pt x="16867" y="17760"/>
                </a:cubicBezTo>
              </a:path>
              <a:path w="11039" h="1762">
                <a:moveTo>
                  <a:pt x="16570" y="17983"/>
                </a:moveTo>
                <a:cubicBezTo>
                  <a:pt x="16647" y="17983"/>
                  <a:pt x="16717" y="17964"/>
                  <a:pt x="16793" y="17959"/>
                </a:cubicBezTo>
                <a:cubicBezTo>
                  <a:pt x="16801" y="17959"/>
                  <a:pt x="16810" y="17959"/>
                  <a:pt x="16818" y="17959"/>
                </a:cubicBezTo>
              </a:path>
              <a:path w="11039" h="1762">
                <a:moveTo>
                  <a:pt x="17338" y="17760"/>
                </a:moveTo>
                <a:cubicBezTo>
                  <a:pt x="17385" y="17760"/>
                  <a:pt x="17418" y="17744"/>
                  <a:pt x="17462" y="17735"/>
                </a:cubicBezTo>
              </a:path>
              <a:path w="11039" h="1762">
                <a:moveTo>
                  <a:pt x="17636" y="17462"/>
                </a:moveTo>
                <a:cubicBezTo>
                  <a:pt x="17709" y="17517"/>
                  <a:pt x="17666" y="17572"/>
                  <a:pt x="17661" y="17661"/>
                </a:cubicBezTo>
                <a:cubicBezTo>
                  <a:pt x="17653" y="17805"/>
                  <a:pt x="17837" y="17696"/>
                  <a:pt x="17909" y="17686"/>
                </a:cubicBezTo>
                <a:cubicBezTo>
                  <a:pt x="17970" y="17686"/>
                  <a:pt x="17986" y="17695"/>
                  <a:pt x="18008" y="17661"/>
                </a:cubicBezTo>
              </a:path>
              <a:path w="11039" h="1762">
                <a:moveTo>
                  <a:pt x="18033" y="17388"/>
                </a:moveTo>
                <a:cubicBezTo>
                  <a:pt x="18000" y="17570"/>
                  <a:pt x="17978" y="17752"/>
                  <a:pt x="17959" y="17934"/>
                </a:cubicBezTo>
                <a:cubicBezTo>
                  <a:pt x="17959" y="17975"/>
                  <a:pt x="17959" y="17999"/>
                  <a:pt x="17959" y="17959"/>
                </a:cubicBezTo>
              </a:path>
              <a:path w="11039" h="1762">
                <a:moveTo>
                  <a:pt x="18455" y="17438"/>
                </a:moveTo>
                <a:cubicBezTo>
                  <a:pt x="18405" y="17442"/>
                  <a:pt x="18266" y="17446"/>
                  <a:pt x="18231" y="17487"/>
                </a:cubicBezTo>
                <a:cubicBezTo>
                  <a:pt x="18206" y="17517"/>
                  <a:pt x="18190" y="17664"/>
                  <a:pt x="18182" y="17711"/>
                </a:cubicBezTo>
                <a:cubicBezTo>
                  <a:pt x="18254" y="17697"/>
                  <a:pt x="18335" y="17627"/>
                  <a:pt x="18405" y="17686"/>
                </a:cubicBezTo>
                <a:cubicBezTo>
                  <a:pt x="18516" y="17780"/>
                  <a:pt x="18440" y="17931"/>
                  <a:pt x="18331" y="17983"/>
                </a:cubicBezTo>
                <a:cubicBezTo>
                  <a:pt x="18240" y="18006"/>
                  <a:pt x="18217" y="18014"/>
                  <a:pt x="18157" y="18008"/>
                </a:cubicBezTo>
              </a:path>
              <a:path w="11039" h="1762">
                <a:moveTo>
                  <a:pt x="17090" y="18256"/>
                </a:moveTo>
                <a:cubicBezTo>
                  <a:pt x="17172" y="18303"/>
                  <a:pt x="17302" y="18343"/>
                  <a:pt x="17413" y="18380"/>
                </a:cubicBezTo>
                <a:cubicBezTo>
                  <a:pt x="17627" y="18452"/>
                  <a:pt x="17806" y="18455"/>
                  <a:pt x="18033" y="18455"/>
                </a:cubicBezTo>
                <a:cubicBezTo>
                  <a:pt x="18180" y="18455"/>
                  <a:pt x="18333" y="18445"/>
                  <a:pt x="18455" y="18355"/>
                </a:cubicBezTo>
                <a:cubicBezTo>
                  <a:pt x="18545" y="18288"/>
                  <a:pt x="18620" y="18240"/>
                  <a:pt x="18703" y="18157"/>
                </a:cubicBezTo>
                <a:cubicBezTo>
                  <a:pt x="18791" y="18069"/>
                  <a:pt x="18880" y="17951"/>
                  <a:pt x="18926" y="17835"/>
                </a:cubicBezTo>
                <a:cubicBezTo>
                  <a:pt x="18950" y="17774"/>
                  <a:pt x="18969" y="17653"/>
                  <a:pt x="18951" y="17587"/>
                </a:cubicBezTo>
                <a:cubicBezTo>
                  <a:pt x="18925" y="17493"/>
                  <a:pt x="18871" y="17358"/>
                  <a:pt x="18802" y="17289"/>
                </a:cubicBezTo>
                <a:cubicBezTo>
                  <a:pt x="18693" y="17180"/>
                  <a:pt x="18541" y="17129"/>
                  <a:pt x="18405" y="17066"/>
                </a:cubicBezTo>
                <a:cubicBezTo>
                  <a:pt x="18202" y="16972"/>
                  <a:pt x="18057" y="16919"/>
                  <a:pt x="17835" y="16892"/>
                </a:cubicBezTo>
                <a:cubicBezTo>
                  <a:pt x="17671" y="16872"/>
                  <a:pt x="17527" y="16865"/>
                  <a:pt x="17363" y="16892"/>
                </a:cubicBezTo>
                <a:cubicBezTo>
                  <a:pt x="17250" y="16911"/>
                  <a:pt x="17111" y="16952"/>
                  <a:pt x="17016" y="17016"/>
                </a:cubicBezTo>
                <a:cubicBezTo>
                  <a:pt x="16920" y="17081"/>
                  <a:pt x="16868" y="17154"/>
                  <a:pt x="16793" y="17239"/>
                </a:cubicBezTo>
                <a:cubicBezTo>
                  <a:pt x="16735" y="17305"/>
                  <a:pt x="16653" y="17378"/>
                  <a:pt x="16619" y="17462"/>
                </a:cubicBezTo>
                <a:cubicBezTo>
                  <a:pt x="16580" y="17557"/>
                  <a:pt x="16602" y="17712"/>
                  <a:pt x="16619" y="17810"/>
                </a:cubicBezTo>
                <a:cubicBezTo>
                  <a:pt x="16645" y="17964"/>
                  <a:pt x="16674" y="18086"/>
                  <a:pt x="16793" y="18182"/>
                </a:cubicBezTo>
                <a:cubicBezTo>
                  <a:pt x="16850" y="18228"/>
                  <a:pt x="16929" y="18270"/>
                  <a:pt x="16991" y="18306"/>
                </a:cubicBezTo>
                <a:cubicBezTo>
                  <a:pt x="17014" y="18329"/>
                  <a:pt x="17018" y="18337"/>
                  <a:pt x="17041" y="18331"/>
                </a:cubicBezTo>
              </a:path>
              <a:path w="11039" h="1762">
                <a:moveTo>
                  <a:pt x="16966" y="17512"/>
                </a:moveTo>
                <a:cubicBezTo>
                  <a:pt x="16875" y="17499"/>
                  <a:pt x="16780" y="17456"/>
                  <a:pt x="16694" y="17512"/>
                </a:cubicBezTo>
                <a:cubicBezTo>
                  <a:pt x="16609" y="17568"/>
                  <a:pt x="16630" y="17647"/>
                  <a:pt x="16718" y="17686"/>
                </a:cubicBezTo>
                <a:cubicBezTo>
                  <a:pt x="16811" y="17728"/>
                  <a:pt x="16910" y="17692"/>
                  <a:pt x="16917" y="17810"/>
                </a:cubicBezTo>
                <a:cubicBezTo>
                  <a:pt x="16925" y="17939"/>
                  <a:pt x="16707" y="17930"/>
                  <a:pt x="16619" y="17934"/>
                </a:cubicBezTo>
                <a:cubicBezTo>
                  <a:pt x="16565" y="17937"/>
                  <a:pt x="16603" y="17905"/>
                  <a:pt x="16619" y="17884"/>
                </a:cubicBezTo>
              </a:path>
              <a:path w="11039" h="1762">
                <a:moveTo>
                  <a:pt x="17041" y="17611"/>
                </a:moveTo>
                <a:cubicBezTo>
                  <a:pt x="17041" y="17603"/>
                  <a:pt x="17041" y="17595"/>
                  <a:pt x="17041" y="17587"/>
                </a:cubicBezTo>
                <a:cubicBezTo>
                  <a:pt x="17100" y="17575"/>
                  <a:pt x="17139" y="17533"/>
                  <a:pt x="17190" y="17512"/>
                </a:cubicBezTo>
                <a:cubicBezTo>
                  <a:pt x="17214" y="17512"/>
                  <a:pt x="17222" y="17512"/>
                  <a:pt x="17214" y="17537"/>
                </a:cubicBezTo>
              </a:path>
              <a:path w="11039" h="1762">
                <a:moveTo>
                  <a:pt x="17090" y="17661"/>
                </a:moveTo>
                <a:cubicBezTo>
                  <a:pt x="17123" y="17661"/>
                  <a:pt x="17157" y="17661"/>
                  <a:pt x="17190" y="176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30680" y="6456240"/>
            <a:ext cx="304560" cy="268560"/>
          </a:xfrm>
          <a:custGeom>
            <a:avLst/>
            <a:gdLst/>
            <a:ahLst/>
            <a:rect l="l" t="t" r="r" b="b"/>
            <a:pathLst>
              <a:path w="844" h="745">
                <a:moveTo>
                  <a:pt x="7888" y="18058"/>
                </a:moveTo>
                <a:cubicBezTo>
                  <a:pt x="7867" y="18037"/>
                  <a:pt x="8059" y="17999"/>
                  <a:pt x="8111" y="17983"/>
                </a:cubicBezTo>
                <a:cubicBezTo>
                  <a:pt x="8258" y="17936"/>
                  <a:pt x="8451" y="17897"/>
                  <a:pt x="8607" y="17934"/>
                </a:cubicBezTo>
                <a:cubicBezTo>
                  <a:pt x="8677" y="17951"/>
                  <a:pt x="8697" y="17950"/>
                  <a:pt x="8706" y="18008"/>
                </a:cubicBezTo>
              </a:path>
              <a:path w="844" h="745">
                <a:moveTo>
                  <a:pt x="8260" y="18207"/>
                </a:moveTo>
                <a:cubicBezTo>
                  <a:pt x="8260" y="18163"/>
                  <a:pt x="8241" y="18449"/>
                  <a:pt x="8235" y="18479"/>
                </a:cubicBezTo>
                <a:cubicBezTo>
                  <a:pt x="8220" y="18558"/>
                  <a:pt x="8210" y="18601"/>
                  <a:pt x="8210" y="186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tions with Fractional Coefficients 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ick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2:46:06Z</dcterms:created>
  <dc:creator>Brian McGrath</dc:creator>
  <dc:description/>
  <dc:language>en-US</dc:language>
  <cp:lastModifiedBy>demcgra</cp:lastModifiedBy>
  <dcterms:modified xsi:type="dcterms:W3CDTF">2012-04-24T14:32:25Z</dcterms:modified>
  <cp:revision>2</cp:revision>
  <dc:subject/>
  <dc:title>Warm-up</dc:title>
</cp:coreProperties>
</file>